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2286000" y="2743200"/>
            <a:ext cx="28954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Object 11"/>
          <p:cNvGraphicFramePr/>
          <p:nvPr/>
        </p:nvGraphicFramePr>
        <p:xfrm>
          <a:off x="76320" y="0"/>
          <a:ext cx="46749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0"/>
                    <a:ext cx="46749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1527840" y="260280"/>
            <a:ext cx="6112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BALANÇO GOVERNO FEDERAL </a:t>
            </a:r>
            <a:r>
              <a:rPr b="0" lang="pt-BR" sz="2400" spc="-1" strike="noStrike">
                <a:solidFill>
                  <a:srgbClr val="006600"/>
                </a:solidFill>
                <a:latin typeface="Times New Roman"/>
              </a:rPr>
              <a:t>–</a:t>
            </a: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 FEV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Rectangle 3"/>
          <p:cNvSpPr/>
          <p:nvPr/>
        </p:nvSpPr>
        <p:spPr>
          <a:xfrm>
            <a:off x="762120" y="1192320"/>
            <a:ext cx="784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Comparativo entre Indicadores Econômicos e Sociais de 2003 e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Retra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Retrato Econô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 Biocombust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Polític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. 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762120" y="5559480"/>
            <a:ext cx="6629400" cy="1078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 Brasil combina crescimento econômico, com redução 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sigualdades sociais, sustentabilidade ambiental, protagon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ternacional e fortalecimento da democra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3"/>
          <p:cNvSpPr/>
          <p:nvPr/>
        </p:nvSpPr>
        <p:spPr>
          <a:xfrm>
            <a:off x="3450240" y="228600"/>
            <a:ext cx="2235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71440" y="495360"/>
            <a:ext cx="856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A democracia brasileira está mais madura com a abertura de novos canais de diálogo do Governo com todos os setores da sociedade, em particular os que eram excluídos e marginalizados, como os catadores de pap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228600" y="1193760"/>
            <a:ext cx="8686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ação e recriação de conse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de Desenvolvimento Econômico e Social – CDES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a Juventude (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os Direitos do Idoso - CNDI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missão Nacional de Erradicação do Trabalho Escravo - CONATRAE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romoção da Igualdade Racial - CNPIR -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Política Cultural (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as Cidades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Segurança Alimentar e Nutricional - CONSEA (20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olidação dos conselhos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os Direitos da Mulher - CN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de Defesa dos Direitos da Pessoa Humana - CDD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os Direitos da Criança e do Adolescente – CON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e Combate à Discriminação - CNC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selho Nacional dos Direitos das Pessoas Portadoras de Deficiência (CONA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onferências Nacio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Mais de 2 milhões de pessoas participaram de 40 conferênci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5"/>
          <p:cNvSpPr/>
          <p:nvPr/>
        </p:nvSpPr>
        <p:spPr>
          <a:xfrm>
            <a:off x="228600" y="1279440"/>
            <a:ext cx="86868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alorização e inovação administ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luralidade Social na agenda do Presid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ação da Secretaria Especial de Promoção da Igualdade Racial (200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as Secretarias de Direitos Humanos (2003) e Secretaria Especial de Políticas para as Mulheres (2003) - status de Ministé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riação da Secretaria de Relações Institucionais – maior diálogo com Parlamento e entes feder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mpliação de mecanismos de fiscalização e controle (exempl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ortais da Transparência – acesso aos gastos do governo pela inter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CGU – Controladoria Geral da União - fiscaliza aplicação dos recursos federa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RFB – Receita Federal do Brasil: unifica a arrecadação da Fazenda com a da Previdência, reduz a sonegaç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RCI - Departamento de Recuperação de Ativos e Cooperação Jurídica Internacional: controla a lavagem de dinheiro em cooperação intern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7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PF – Polícia Federal: combate ao crime organizado e desmantelamento de quadrilhas de trafic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AMA - Instituto Brasileiro do Meio Ambiente e dos Recursos Naturais Renováveis com PF: repressão aos crimes contra o meio ambiente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3450240" y="228600"/>
            <a:ext cx="22352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71440" y="495360"/>
            <a:ext cx="856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A democracia brasileira está mais madura com a abertura de novos canais de diálogo do Governo com todos os setores da sociedade, em particular os que eram excluídos e marginalizados, como os catadores de pap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5"/>
          <p:cNvSpPr/>
          <p:nvPr/>
        </p:nvSpPr>
        <p:spPr>
          <a:xfrm>
            <a:off x="228600" y="1279440"/>
            <a:ext cx="8686800" cy="37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Biocombustí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nor dependência do petróleo e redução da emissão de CO</a:t>
            </a:r>
            <a:r>
              <a:rPr b="0" lang="pt-BR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na ocupa menos de 0,8% da área agricultáve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gião produtora distante da Amazônia: não contribui para desmatamen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5 países produzem petróleo, enquanto mais de 120 têm condições de produzir biocombustíve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Expansão compatível com meio-ambiente e produção de alim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Fome diminuiu no período em que cresceu uso dos biocombustíve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utomóveis vendidos no Brasil em 2007: 65%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flex-fuel*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1728360" y="228600"/>
            <a:ext cx="5674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VANGUARDA EM BIOCOMBUSTÍVE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9"/>
          <p:cNvSpPr/>
          <p:nvPr/>
        </p:nvSpPr>
        <p:spPr>
          <a:xfrm>
            <a:off x="271440" y="495360"/>
            <a:ext cx="856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eocupação com aquecimento global e alta do petróleo tornam biocombustível uma alternativa para a economia mundial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0"/>
          <p:cNvSpPr/>
          <p:nvPr/>
        </p:nvSpPr>
        <p:spPr>
          <a:xfrm>
            <a:off x="152280" y="6400800"/>
            <a:ext cx="678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ANFAVEA - http://www.anfavea.com.br/tabelas/autoveiculos/tabela10_producao.pdf, consultada em 07fev/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3"/>
          <p:cNvSpPr/>
          <p:nvPr/>
        </p:nvSpPr>
        <p:spPr>
          <a:xfrm>
            <a:off x="228600" y="1279440"/>
            <a:ext cx="86868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iodiesel: 2007-20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ff3300"/>
                </a:solidFill>
                <a:latin typeface="Arial"/>
                <a:ea typeface="Arial"/>
              </a:rPr>
              <a:t>B2 (2% de biodiesel na composição do diesel) obrigatório no Brasil a partir de janeiro de 2008: 850 milhões de litros/ano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AC: R$ 1,2 bilhão de investimentos previstos, a maior parte privados; meta de 46 novas usinas até 2010; produção total prevista para 2010: 3,3 bilhões de litr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38 usinas em operação comercial; 57 usinas em processo de regulação: capacidade total de produção de 4 bilhões de litros/an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00 mil agricultores familiares inseridos no Programa de Biodiese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ois últimos leilões (nov/2007): comercializados 380 milhões/litros, equivalente a R$ 709 milhões (preço médio/litro: R$ 1,866, deságio médio de 22,2%). Próximo leilão: abril/08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1728360" y="228600"/>
            <a:ext cx="5674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VANGUARDA EM BIOCOMBUSTÍVE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271440" y="495360"/>
            <a:ext cx="856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eocupação com aquecimento global e alta do petróleo tornam biocombustível uma alternativa para a economia mundial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228600" y="127944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tanol: 2007-20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tanol: R$ 12 bilhões de investimentos previstos (77 novas usina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lcoolduto: investimentos de R$ 4,1 bilhões (PAC); o alcoolduto entre Senador Canedo (GO) e São Sebastião (SP) terá 1.171 km de du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Zoneamento agroecológico da cana: previsto para o 2º sem/20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venção Coletiva Nacional para trabalhadores na produção de c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grama Brasileiro de Certificação Técnica, Ambiental e Social em Biocombustíveis: em desenvolvimento (Inmetr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esquisas permitirão ampliar produção, com aproveitamento do bagaç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“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ferência Internacional sobre Biocombustíveis” em jul/08, no Ri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elo “Combustível Social” para biodiesel: requer compra da produção da agricultura famili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cordo com EUA: ajudar países menos desenvolvidos, criar fundo para intercâmbio tecnológico e padronização técnica do etanol e eliminar taxação nas importações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1728360" y="228600"/>
            <a:ext cx="5674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VANGUARDA EM BIOCOMBUSTÍVE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5"/>
          <p:cNvSpPr/>
          <p:nvPr/>
        </p:nvSpPr>
        <p:spPr>
          <a:xfrm>
            <a:off x="271440" y="495360"/>
            <a:ext cx="856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eocupação com aquecimento global e alta do petróleo tornam biocombustível uma alternativa para a economia mundial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3"/>
          <p:cNvSpPr/>
          <p:nvPr/>
        </p:nvSpPr>
        <p:spPr>
          <a:xfrm>
            <a:off x="228600" y="1279440"/>
            <a:ext cx="868680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ultilat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MC – Rodada de Doha. Capacidade brasileira de vocalizar demandas de países em desenvolvimento. Baseado em compromisso de integração regional, democratização do processo decisório internacional e combate ao protecionismo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udança de Clima. Brasil apóia Protocolo de Quioto, propõe conferência Rio + 20 e apresentará Plano Nacional de Enfrentamento das Mudanças Climáticas. Ações brasileiras reduzem efeitos do aquecimento global: redução do desmatamento (queda de 55% entre 2003-07) e diversificação da matriz energética (etanol e biodiesel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rcosu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co: redução de assimetrias com países menores. Comércio intrabloco atingiu   R$ 30 bilhões em 2006 (US$ 4 bilhões em 1990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undo de Convergência Estrutural - US$ 115 milhões para ajudar países menores. Brasil: maior contribuinte (70%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3004200" y="228600"/>
            <a:ext cx="314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OLÍTICA EX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Brasil inclui a pobreza e a fome na agenda internacional, fortalece Mercosul e novas parcerias e se destaca em negociações sobre clima, comércio e ampliação do Conselho de Seguranç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228600" y="1279440"/>
            <a:ext cx="86868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rcosu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ntensificação de relações políticas e econômicas: Mercosul (novo Parlamento), Venezuela (energia e cooperação agrícola e industrial), Argentina (principal parceiro), Bolívia (gás, com retomada de parceria com Petrobrás)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Banco do Sul formalizado em 10/12/2007: multiplica a capacidade de financiamento ao desenvolvimento, com sustentabilidade técnica e transparê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Índia-Brasil-África do Sul (IBAS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Desafios: coordenação entre as três grandes democracias do Sul para uma ordem internacional mais inclusiva e solidár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tuação conjunta no G-20, inclusive com fundo de combate à pobreza e meta de US$ 15 bilhões em transações comerciais intra IBAS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004200" y="228600"/>
            <a:ext cx="314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OLÍTICA EX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Brasil inclui a pobreza e a fome na agenda internacional, fortalece Mercosul e novas parcerias e se destaca em negociações sobre clima, comércio e ampliação do Conselho de Seguranç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3"/>
          <p:cNvSpPr/>
          <p:nvPr/>
        </p:nvSpPr>
        <p:spPr>
          <a:xfrm>
            <a:off x="228600" y="1279440"/>
            <a:ext cx="868680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lação Brasil - Chin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Importações crescentes (50% de jan a ago/2007). 2º mercado para exportações brasileiras. Brasil busca ampliação, mas mantém mecanismos de defesa comerc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ooperação no lançamento de satélites (3) para imagens de alta definição da superfície terrestre e na fabricação de aviões com a Embraer (Harbin 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Relação EUA - Bras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Reconhecimento do Brasil como parceiro de importância crescente e fator de estabilidade na América do Sul. (5 eventos oficiais entre Presidentes Bush e Lula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UA: maior parceiro comercial individual e maior investidor no Bras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umentam investimentos de empresas brasileiras nos EUA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  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xportações cresceram 60% nos últimos 4 anos. Importações cresceram 43%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ções contra EUA na OMC: para eliminar tarifas sobre produtos agrícol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Etanol: Brasil e EUA, responsáveis por 70% da produção mundial, assinaram acordo (mar/07) para impulsionar a indústria, criar mercado mundial e desenvolver tecnolog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3004200" y="228600"/>
            <a:ext cx="3144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OLÍTICA EXTE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Brasil inclui a pobreza e a fome na agenda internacional, fortalece Mercosul e novas parcerias e se destaca em negociações sobre clima, comércio e ampliação do Conselho de Seguranç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228600" y="1279440"/>
            <a:ext cx="8686800" cy="41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Prática tributá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Não foram criados novos tributo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$ 36 bilhões em desoneraç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Simples Nacional unifica 8 tributos: 6 federais (IRPJ, IPI, CSLL, PIS/PASEP, COFINS e INSS Patronal), 1 estadual (ICMS) e 1 municipal (ISS). Redução de impostos varia de 12% (maior faturamento) a 67% (menor faturamento). Homologada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2,9 milhões de empresas optantes (jan/2008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iação da Receita Federal do Brasil (RFB). Em 2007, a arrecadação dos impostos e contribuições administrados pela RFB atingiu R$ 615 bilhões – recorde histórico e crescimento real de 11,1% em relação a 2006. Aumentaram a eficiência da arrecadação, o combate à sonegação, os lucros das empresas, a formalização do emprego e o rendimento médio dos trabalhad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678120" y="228600"/>
            <a:ext cx="177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Governo defende menos impostos, fim da guerra fiscal e trabalha para aperfeiçoar a fiscalização, promover justiça tributária e reduzir gas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228600" y="1279440"/>
            <a:ext cx="86868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jeição da CPMF – medida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umentar o Imposto sobre Operações Financeiras (IOF). O imposto será de 0,38% para seguros, crédito para pessoa física, cartão de crédito para pessoa física e crédito rotativo, cheque especial e gastos no exterior com cartão, além de IOF diário de 0,002% para empresas e bancos. As exportações, compras externas de serviços, operações de câmbio entre bancos no mercado à vista e  investimento estrangeiro direto também serão taxadas em 0,38%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umento da alíquota da Contribuição Social sobre o Lucro Líquido (CSLL). As instituições financeiras tiveram sua alíquota elevada de 9% para 15%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rga tributá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volução: 28,61% do PIB em 1994; 31,86% em 2002; 34,23% em 200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LOA 2008, em discussão no Congresso Nacional, prevê receitas de R$ 682,7 bilhões (24,87% do PIB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Reforma tributária em estu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dução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 5 tributos federais e vários regimes do ICMS para apenas dois impostos: IVA – E (estadual) e IVA – F (federal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undo Nacional de Desenvolvimento Regiona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3678120" y="228600"/>
            <a:ext cx="1778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TRIBU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Governo defende menos impostos, fim da guerra fiscal e trabalha para aperfeiçoar a fiscalização, promover justiça tributária e reduzir gas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1905480" y="228600"/>
            <a:ext cx="538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COMPARAÇÃO: JAN/2003 – JAN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385"/>
          <p:cNvGrpSpPr/>
          <p:nvPr/>
        </p:nvGrpSpPr>
        <p:grpSpPr>
          <a:xfrm>
            <a:off x="457200" y="685800"/>
            <a:ext cx="8077320" cy="330120"/>
            <a:chOff x="457200" y="685800"/>
            <a:chExt cx="8077320" cy="330120"/>
          </a:xfrm>
        </p:grpSpPr>
        <p:sp>
          <p:nvSpPr>
            <p:cNvPr id="44" name="Rectangle 1383"/>
            <p:cNvSpPr/>
            <p:nvPr/>
          </p:nvSpPr>
          <p:spPr>
            <a:xfrm>
              <a:off x="457200" y="685800"/>
              <a:ext cx="8077320" cy="33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Group 1382"/>
            <p:cNvGrpSpPr/>
            <p:nvPr/>
          </p:nvGrpSpPr>
          <p:grpSpPr>
            <a:xfrm>
              <a:off x="457200" y="689040"/>
              <a:ext cx="8063640" cy="326880"/>
              <a:chOff x="457200" y="689040"/>
              <a:chExt cx="8063640" cy="326880"/>
            </a:xfrm>
          </p:grpSpPr>
          <p:grpSp>
            <p:nvGrpSpPr>
              <p:cNvPr id="46" name="Group 1375"/>
              <p:cNvGrpSpPr/>
              <p:nvPr/>
            </p:nvGrpSpPr>
            <p:grpSpPr>
              <a:xfrm>
                <a:off x="457200" y="689040"/>
                <a:ext cx="4422240" cy="326880"/>
                <a:chOff x="457200" y="689040"/>
                <a:chExt cx="4422240" cy="326880"/>
              </a:xfrm>
            </p:grpSpPr>
            <p:sp>
              <p:nvSpPr>
                <p:cNvPr id="47" name="Rectangle 1370"/>
                <p:cNvSpPr/>
                <p:nvPr/>
              </p:nvSpPr>
              <p:spPr>
                <a:xfrm>
                  <a:off x="509400" y="689040"/>
                  <a:ext cx="431748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d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Rectangle 1374"/>
                <p:cNvSpPr/>
                <p:nvPr/>
              </p:nvSpPr>
              <p:spPr>
                <a:xfrm>
                  <a:off x="457200" y="689040"/>
                  <a:ext cx="442224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" name="Group 1377"/>
              <p:cNvGrpSpPr/>
              <p:nvPr/>
            </p:nvGrpSpPr>
            <p:grpSpPr>
              <a:xfrm>
                <a:off x="4879800" y="689040"/>
                <a:ext cx="1086480" cy="326880"/>
                <a:chOff x="4879800" y="689040"/>
                <a:chExt cx="1086480" cy="326880"/>
              </a:xfrm>
            </p:grpSpPr>
            <p:sp>
              <p:nvSpPr>
                <p:cNvPr id="50" name="Rectangle 1371"/>
                <p:cNvSpPr/>
                <p:nvPr/>
              </p:nvSpPr>
              <p:spPr>
                <a:xfrm>
                  <a:off x="4932000" y="689040"/>
                  <a:ext cx="98172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/2003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Rectangle 1376"/>
                <p:cNvSpPr/>
                <p:nvPr/>
              </p:nvSpPr>
              <p:spPr>
                <a:xfrm>
                  <a:off x="4879800" y="689040"/>
                  <a:ext cx="108648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" name="Group 1379"/>
              <p:cNvGrpSpPr/>
              <p:nvPr/>
            </p:nvGrpSpPr>
            <p:grpSpPr>
              <a:xfrm>
                <a:off x="5967000" y="689040"/>
                <a:ext cx="1086120" cy="326880"/>
                <a:chOff x="5967000" y="689040"/>
                <a:chExt cx="1086120" cy="326880"/>
              </a:xfrm>
            </p:grpSpPr>
            <p:sp>
              <p:nvSpPr>
                <p:cNvPr id="53" name="Rectangle 1372"/>
                <p:cNvSpPr/>
                <p:nvPr/>
              </p:nvSpPr>
              <p:spPr>
                <a:xfrm>
                  <a:off x="6019200" y="689040"/>
                  <a:ext cx="98172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/200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Rectangle 1378"/>
                <p:cNvSpPr/>
                <p:nvPr/>
              </p:nvSpPr>
              <p:spPr>
                <a:xfrm>
                  <a:off x="5967000" y="689040"/>
                  <a:ext cx="108612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Group 1381"/>
              <p:cNvGrpSpPr/>
              <p:nvPr/>
            </p:nvGrpSpPr>
            <p:grpSpPr>
              <a:xfrm>
                <a:off x="7053840" y="689040"/>
                <a:ext cx="1467000" cy="326880"/>
                <a:chOff x="7053840" y="689040"/>
                <a:chExt cx="1467000" cy="326880"/>
              </a:xfrm>
            </p:grpSpPr>
            <p:sp>
              <p:nvSpPr>
                <p:cNvPr id="56" name="Rectangle 1373"/>
                <p:cNvSpPr/>
                <p:nvPr/>
              </p:nvSpPr>
              <p:spPr>
                <a:xfrm>
                  <a:off x="7106400" y="689040"/>
                  <a:ext cx="136224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ção (%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1380"/>
                <p:cNvSpPr/>
                <p:nvPr/>
              </p:nvSpPr>
              <p:spPr>
                <a:xfrm>
                  <a:off x="7053840" y="689040"/>
                  <a:ext cx="146700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8" name="Group 1551"/>
          <p:cNvGrpSpPr/>
          <p:nvPr/>
        </p:nvGrpSpPr>
        <p:grpSpPr>
          <a:xfrm>
            <a:off x="463680" y="1020600"/>
            <a:ext cx="8070480" cy="4846680"/>
            <a:chOff x="463680" y="1020600"/>
            <a:chExt cx="8070480" cy="4846680"/>
          </a:xfrm>
        </p:grpSpPr>
        <p:grpSp>
          <p:nvGrpSpPr>
            <p:cNvPr id="59" name="Group 1549"/>
            <p:cNvGrpSpPr/>
            <p:nvPr/>
          </p:nvGrpSpPr>
          <p:grpSpPr>
            <a:xfrm>
              <a:off x="469080" y="1023120"/>
              <a:ext cx="8058960" cy="4840920"/>
              <a:chOff x="469080" y="1023120"/>
              <a:chExt cx="8058960" cy="4840920"/>
            </a:xfrm>
          </p:grpSpPr>
          <p:grpSp>
            <p:nvGrpSpPr>
              <p:cNvPr id="60" name="Group 1430"/>
              <p:cNvGrpSpPr/>
              <p:nvPr/>
            </p:nvGrpSpPr>
            <p:grpSpPr>
              <a:xfrm>
                <a:off x="469080" y="1023120"/>
                <a:ext cx="4419720" cy="483840"/>
                <a:chOff x="469080" y="1023120"/>
                <a:chExt cx="4419720" cy="483840"/>
              </a:xfrm>
            </p:grpSpPr>
            <p:sp>
              <p:nvSpPr>
                <p:cNvPr id="61" name="Rectangle 1389"/>
                <p:cNvSpPr/>
                <p:nvPr/>
              </p:nvSpPr>
              <p:spPr>
                <a:xfrm>
                  <a:off x="521280" y="1023120"/>
                  <a:ext cx="43149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ctr" pos="352908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I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ctr" pos="352908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R$ bilhões de 2006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ctr" pos="352908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1429"/>
                <p:cNvSpPr/>
                <p:nvPr/>
              </p:nvSpPr>
              <p:spPr>
                <a:xfrm>
                  <a:off x="469080" y="1023120"/>
                  <a:ext cx="44197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Group 1432"/>
              <p:cNvGrpSpPr/>
              <p:nvPr/>
            </p:nvGrpSpPr>
            <p:grpSpPr>
              <a:xfrm>
                <a:off x="4889160" y="1023120"/>
                <a:ext cx="1086120" cy="483840"/>
                <a:chOff x="4889160" y="1023120"/>
                <a:chExt cx="1086120" cy="483840"/>
              </a:xfrm>
            </p:grpSpPr>
            <p:sp>
              <p:nvSpPr>
                <p:cNvPr id="64" name="Rectangle 1390"/>
                <p:cNvSpPr/>
                <p:nvPr/>
              </p:nvSpPr>
              <p:spPr>
                <a:xfrm>
                  <a:off x="4941360" y="1023120"/>
                  <a:ext cx="981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03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Rectangle 1431"/>
                <p:cNvSpPr/>
                <p:nvPr/>
              </p:nvSpPr>
              <p:spPr>
                <a:xfrm>
                  <a:off x="4889160" y="1023120"/>
                  <a:ext cx="10861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Group 1434"/>
              <p:cNvGrpSpPr/>
              <p:nvPr/>
            </p:nvGrpSpPr>
            <p:grpSpPr>
              <a:xfrm>
                <a:off x="5975640" y="1023120"/>
                <a:ext cx="1085400" cy="483840"/>
                <a:chOff x="5975640" y="1023120"/>
                <a:chExt cx="1085400" cy="483840"/>
              </a:xfrm>
            </p:grpSpPr>
            <p:sp>
              <p:nvSpPr>
                <p:cNvPr id="67" name="Rectangle 1391"/>
                <p:cNvSpPr/>
                <p:nvPr/>
              </p:nvSpPr>
              <p:spPr>
                <a:xfrm>
                  <a:off x="6027840" y="1023120"/>
                  <a:ext cx="98100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.454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Rectangle 1433"/>
                <p:cNvSpPr/>
                <p:nvPr/>
              </p:nvSpPr>
              <p:spPr>
                <a:xfrm>
                  <a:off x="5975640" y="1023120"/>
                  <a:ext cx="108540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1436"/>
              <p:cNvGrpSpPr/>
              <p:nvPr/>
            </p:nvGrpSpPr>
            <p:grpSpPr>
              <a:xfrm>
                <a:off x="7061760" y="1023120"/>
                <a:ext cx="1466280" cy="483840"/>
                <a:chOff x="7061760" y="1023120"/>
                <a:chExt cx="1466280" cy="483840"/>
              </a:xfrm>
            </p:grpSpPr>
            <p:sp>
              <p:nvSpPr>
                <p:cNvPr id="70" name="Rectangle 1392"/>
                <p:cNvSpPr/>
                <p:nvPr/>
              </p:nvSpPr>
              <p:spPr>
                <a:xfrm>
                  <a:off x="7114320" y="1023120"/>
                  <a:ext cx="136152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2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Rectangle 1435"/>
                <p:cNvSpPr/>
                <p:nvPr/>
              </p:nvSpPr>
              <p:spPr>
                <a:xfrm>
                  <a:off x="7061760" y="1023120"/>
                  <a:ext cx="146628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Group 1440"/>
              <p:cNvGrpSpPr/>
              <p:nvPr/>
            </p:nvGrpSpPr>
            <p:grpSpPr>
              <a:xfrm>
                <a:off x="469080" y="1506960"/>
                <a:ext cx="4419720" cy="484200"/>
                <a:chOff x="469080" y="1506960"/>
                <a:chExt cx="4419720" cy="484200"/>
              </a:xfrm>
            </p:grpSpPr>
            <p:sp>
              <p:nvSpPr>
                <p:cNvPr id="73" name="Rectangle 1439"/>
                <p:cNvSpPr/>
                <p:nvPr/>
              </p:nvSpPr>
              <p:spPr>
                <a:xfrm>
                  <a:off x="469080" y="1506960"/>
                  <a:ext cx="44197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" name="Group 1438"/>
                <p:cNvGrpSpPr/>
                <p:nvPr/>
              </p:nvGrpSpPr>
              <p:grpSpPr>
                <a:xfrm>
                  <a:off x="469080" y="1506960"/>
                  <a:ext cx="4419360" cy="484200"/>
                  <a:chOff x="469080" y="1506960"/>
                  <a:chExt cx="4419360" cy="484200"/>
                </a:xfrm>
              </p:grpSpPr>
              <p:sp>
                <p:nvSpPr>
                  <p:cNvPr id="75" name="Rectangle 1393"/>
                  <p:cNvSpPr/>
                  <p:nvPr/>
                </p:nvSpPr>
                <p:spPr>
                  <a:xfrm>
                    <a:off x="521280" y="1506960"/>
                    <a:ext cx="43146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alanço de pagament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saldo mensal - US$ milhões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Rectangle 1437"/>
                  <p:cNvSpPr/>
                  <p:nvPr/>
                </p:nvSpPr>
                <p:spPr>
                  <a:xfrm>
                    <a:off x="469080" y="1506960"/>
                    <a:ext cx="44193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" name="Group 1444"/>
              <p:cNvGrpSpPr/>
              <p:nvPr/>
            </p:nvGrpSpPr>
            <p:grpSpPr>
              <a:xfrm>
                <a:off x="4889160" y="1506960"/>
                <a:ext cx="1086120" cy="484200"/>
                <a:chOff x="4889160" y="1506960"/>
                <a:chExt cx="1086120" cy="484200"/>
              </a:xfrm>
            </p:grpSpPr>
            <p:sp>
              <p:nvSpPr>
                <p:cNvPr id="78" name="Rectangle 1443"/>
                <p:cNvSpPr/>
                <p:nvPr/>
              </p:nvSpPr>
              <p:spPr>
                <a:xfrm>
                  <a:off x="4889160" y="1506960"/>
                  <a:ext cx="10861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" name="Group 1442"/>
                <p:cNvGrpSpPr/>
                <p:nvPr/>
              </p:nvGrpSpPr>
              <p:grpSpPr>
                <a:xfrm>
                  <a:off x="4889160" y="1506960"/>
                  <a:ext cx="1085760" cy="484200"/>
                  <a:chOff x="4889160" y="1506960"/>
                  <a:chExt cx="1085760" cy="484200"/>
                </a:xfrm>
              </p:grpSpPr>
              <p:sp>
                <p:nvSpPr>
                  <p:cNvPr id="80" name="Rectangle 1394"/>
                  <p:cNvSpPr/>
                  <p:nvPr/>
                </p:nvSpPr>
                <p:spPr>
                  <a:xfrm>
                    <a:off x="4941360" y="1506960"/>
                    <a:ext cx="9810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13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Rectangle 1441"/>
                  <p:cNvSpPr/>
                  <p:nvPr/>
                </p:nvSpPr>
                <p:spPr>
                  <a:xfrm>
                    <a:off x="4889160" y="1506960"/>
                    <a:ext cx="10857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" name="Group 1448"/>
              <p:cNvGrpSpPr/>
              <p:nvPr/>
            </p:nvGrpSpPr>
            <p:grpSpPr>
              <a:xfrm>
                <a:off x="5975640" y="1506960"/>
                <a:ext cx="1085400" cy="484200"/>
                <a:chOff x="5975640" y="1506960"/>
                <a:chExt cx="1085400" cy="484200"/>
              </a:xfrm>
            </p:grpSpPr>
            <p:sp>
              <p:nvSpPr>
                <p:cNvPr id="83" name="Rectangle 1447"/>
                <p:cNvSpPr/>
                <p:nvPr/>
              </p:nvSpPr>
              <p:spPr>
                <a:xfrm>
                  <a:off x="5975640" y="1506960"/>
                  <a:ext cx="108540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" name="Group 1446"/>
                <p:cNvGrpSpPr/>
                <p:nvPr/>
              </p:nvGrpSpPr>
              <p:grpSpPr>
                <a:xfrm>
                  <a:off x="5975640" y="1506960"/>
                  <a:ext cx="1085040" cy="484200"/>
                  <a:chOff x="5975640" y="1506960"/>
                  <a:chExt cx="1085040" cy="484200"/>
                </a:xfrm>
              </p:grpSpPr>
              <p:sp>
                <p:nvSpPr>
                  <p:cNvPr id="85" name="Rectangle 1395"/>
                  <p:cNvSpPr/>
                  <p:nvPr/>
                </p:nvSpPr>
                <p:spPr>
                  <a:xfrm>
                    <a:off x="6027840" y="1506960"/>
                    <a:ext cx="98064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.093*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Rectangle 1445"/>
                  <p:cNvSpPr/>
                  <p:nvPr/>
                </p:nvSpPr>
                <p:spPr>
                  <a:xfrm>
                    <a:off x="5975640" y="1506960"/>
                    <a:ext cx="108504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7" name="Group 1452"/>
              <p:cNvGrpSpPr/>
              <p:nvPr/>
            </p:nvGrpSpPr>
            <p:grpSpPr>
              <a:xfrm>
                <a:off x="7061760" y="1506960"/>
                <a:ext cx="1466280" cy="484200"/>
                <a:chOff x="7061760" y="1506960"/>
                <a:chExt cx="1466280" cy="484200"/>
              </a:xfrm>
            </p:grpSpPr>
            <p:sp>
              <p:nvSpPr>
                <p:cNvPr id="88" name="Rectangle 1451"/>
                <p:cNvSpPr/>
                <p:nvPr/>
              </p:nvSpPr>
              <p:spPr>
                <a:xfrm>
                  <a:off x="7061760" y="1506960"/>
                  <a:ext cx="146628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" name="Group 1450"/>
                <p:cNvGrpSpPr/>
                <p:nvPr/>
              </p:nvGrpSpPr>
              <p:grpSpPr>
                <a:xfrm>
                  <a:off x="7061760" y="1506960"/>
                  <a:ext cx="1465920" cy="484200"/>
                  <a:chOff x="7061760" y="1506960"/>
                  <a:chExt cx="1465920" cy="484200"/>
                </a:xfrm>
              </p:grpSpPr>
              <p:sp>
                <p:nvSpPr>
                  <p:cNvPr id="90" name="Rectangle 1396"/>
                  <p:cNvSpPr/>
                  <p:nvPr/>
                </p:nvSpPr>
                <p:spPr>
                  <a:xfrm>
                    <a:off x="7114320" y="1506960"/>
                    <a:ext cx="136116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334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Rectangle 1449"/>
                  <p:cNvSpPr/>
                  <p:nvPr/>
                </p:nvSpPr>
                <p:spPr>
                  <a:xfrm>
                    <a:off x="7061760" y="1506960"/>
                    <a:ext cx="146592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" name="Group 1454"/>
              <p:cNvGrpSpPr/>
              <p:nvPr/>
            </p:nvGrpSpPr>
            <p:grpSpPr>
              <a:xfrm>
                <a:off x="469080" y="1991160"/>
                <a:ext cx="4419720" cy="483840"/>
                <a:chOff x="469080" y="1991160"/>
                <a:chExt cx="4419720" cy="483840"/>
              </a:xfrm>
            </p:grpSpPr>
            <p:sp>
              <p:nvSpPr>
                <p:cNvPr id="93" name="Rectangle 1397"/>
                <p:cNvSpPr/>
                <p:nvPr/>
              </p:nvSpPr>
              <p:spPr>
                <a:xfrm>
                  <a:off x="521280" y="1991160"/>
                  <a:ext cx="43149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Balança comer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saldo mensal - US$ milhões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Rectangle 1453"/>
                <p:cNvSpPr/>
                <p:nvPr/>
              </p:nvSpPr>
              <p:spPr>
                <a:xfrm>
                  <a:off x="469080" y="1991160"/>
                  <a:ext cx="44197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Group 1456"/>
              <p:cNvGrpSpPr/>
              <p:nvPr/>
            </p:nvGrpSpPr>
            <p:grpSpPr>
              <a:xfrm>
                <a:off x="4889160" y="1991160"/>
                <a:ext cx="1086120" cy="483840"/>
                <a:chOff x="4889160" y="1991160"/>
                <a:chExt cx="1086120" cy="483840"/>
              </a:xfrm>
            </p:grpSpPr>
            <p:sp>
              <p:nvSpPr>
                <p:cNvPr id="96" name="Rectangle 1398"/>
                <p:cNvSpPr/>
                <p:nvPr/>
              </p:nvSpPr>
              <p:spPr>
                <a:xfrm>
                  <a:off x="4941360" y="1991160"/>
                  <a:ext cx="981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15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Rectangle 1455"/>
                <p:cNvSpPr/>
                <p:nvPr/>
              </p:nvSpPr>
              <p:spPr>
                <a:xfrm>
                  <a:off x="4889160" y="1991160"/>
                  <a:ext cx="10861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Group 1458"/>
              <p:cNvGrpSpPr/>
              <p:nvPr/>
            </p:nvGrpSpPr>
            <p:grpSpPr>
              <a:xfrm>
                <a:off x="5975640" y="1991160"/>
                <a:ext cx="1085400" cy="483840"/>
                <a:chOff x="5975640" y="1991160"/>
                <a:chExt cx="1085400" cy="483840"/>
              </a:xfrm>
            </p:grpSpPr>
            <p:sp>
              <p:nvSpPr>
                <p:cNvPr id="99" name="Rectangle 1399"/>
                <p:cNvSpPr/>
                <p:nvPr/>
              </p:nvSpPr>
              <p:spPr>
                <a:xfrm>
                  <a:off x="6027840" y="1991160"/>
                  <a:ext cx="98100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44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Rectangle 1457"/>
                <p:cNvSpPr/>
                <p:nvPr/>
              </p:nvSpPr>
              <p:spPr>
                <a:xfrm>
                  <a:off x="5975640" y="1991160"/>
                  <a:ext cx="108540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1460"/>
              <p:cNvGrpSpPr/>
              <p:nvPr/>
            </p:nvGrpSpPr>
            <p:grpSpPr>
              <a:xfrm>
                <a:off x="7061760" y="1991160"/>
                <a:ext cx="1466280" cy="483840"/>
                <a:chOff x="7061760" y="1991160"/>
                <a:chExt cx="1466280" cy="483840"/>
              </a:xfrm>
            </p:grpSpPr>
            <p:sp>
              <p:nvSpPr>
                <p:cNvPr id="102" name="Rectangle 1400"/>
                <p:cNvSpPr/>
                <p:nvPr/>
              </p:nvSpPr>
              <p:spPr>
                <a:xfrm>
                  <a:off x="7114320" y="1991160"/>
                  <a:ext cx="136152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18*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Rectangle 1459"/>
                <p:cNvSpPr/>
                <p:nvPr/>
              </p:nvSpPr>
              <p:spPr>
                <a:xfrm>
                  <a:off x="7061760" y="1991160"/>
                  <a:ext cx="146628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Group 1464"/>
              <p:cNvGrpSpPr/>
              <p:nvPr/>
            </p:nvGrpSpPr>
            <p:grpSpPr>
              <a:xfrm>
                <a:off x="469080" y="2475360"/>
                <a:ext cx="4419720" cy="484200"/>
                <a:chOff x="469080" y="2475360"/>
                <a:chExt cx="4419720" cy="484200"/>
              </a:xfrm>
            </p:grpSpPr>
            <p:sp>
              <p:nvSpPr>
                <p:cNvPr id="105" name="Rectangle 1463"/>
                <p:cNvSpPr/>
                <p:nvPr/>
              </p:nvSpPr>
              <p:spPr>
                <a:xfrm>
                  <a:off x="469080" y="2475360"/>
                  <a:ext cx="44197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6" name="Group 1462"/>
                <p:cNvGrpSpPr/>
                <p:nvPr/>
              </p:nvGrpSpPr>
              <p:grpSpPr>
                <a:xfrm>
                  <a:off x="469080" y="2475360"/>
                  <a:ext cx="4419360" cy="484200"/>
                  <a:chOff x="469080" y="2475360"/>
                  <a:chExt cx="4419360" cy="484200"/>
                </a:xfrm>
              </p:grpSpPr>
              <p:sp>
                <p:nvSpPr>
                  <p:cNvPr id="107" name="Rectangle 1401"/>
                  <p:cNvSpPr/>
                  <p:nvPr/>
                </p:nvSpPr>
                <p:spPr>
                  <a:xfrm>
                    <a:off x="521280" y="2475360"/>
                    <a:ext cx="43146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uperávit primári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% do PIB acumulado em 12 meses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Rectangle 1461"/>
                  <p:cNvSpPr/>
                  <p:nvPr/>
                </p:nvSpPr>
                <p:spPr>
                  <a:xfrm>
                    <a:off x="469080" y="2475360"/>
                    <a:ext cx="44193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Group 1468"/>
              <p:cNvGrpSpPr/>
              <p:nvPr/>
            </p:nvGrpSpPr>
            <p:grpSpPr>
              <a:xfrm>
                <a:off x="4889160" y="2475360"/>
                <a:ext cx="1086120" cy="484200"/>
                <a:chOff x="4889160" y="2475360"/>
                <a:chExt cx="1086120" cy="484200"/>
              </a:xfrm>
            </p:grpSpPr>
            <p:sp>
              <p:nvSpPr>
                <p:cNvPr id="110" name="Rectangle 1467"/>
                <p:cNvSpPr/>
                <p:nvPr/>
              </p:nvSpPr>
              <p:spPr>
                <a:xfrm>
                  <a:off x="4889160" y="2475360"/>
                  <a:ext cx="10861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1466"/>
                <p:cNvGrpSpPr/>
                <p:nvPr/>
              </p:nvGrpSpPr>
              <p:grpSpPr>
                <a:xfrm>
                  <a:off x="4889160" y="2475360"/>
                  <a:ext cx="1085760" cy="484200"/>
                  <a:chOff x="4889160" y="2475360"/>
                  <a:chExt cx="1085760" cy="484200"/>
                </a:xfrm>
              </p:grpSpPr>
              <p:sp>
                <p:nvSpPr>
                  <p:cNvPr id="112" name="Rectangle 1402"/>
                  <p:cNvSpPr/>
                  <p:nvPr/>
                </p:nvSpPr>
                <p:spPr>
                  <a:xfrm>
                    <a:off x="4941360" y="2475360"/>
                    <a:ext cx="9810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71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Rectangle 1465"/>
                  <p:cNvSpPr/>
                  <p:nvPr/>
                </p:nvSpPr>
                <p:spPr>
                  <a:xfrm>
                    <a:off x="4889160" y="2475360"/>
                    <a:ext cx="10857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4" name="Group 1472"/>
              <p:cNvGrpSpPr/>
              <p:nvPr/>
            </p:nvGrpSpPr>
            <p:grpSpPr>
              <a:xfrm>
                <a:off x="5975640" y="2475360"/>
                <a:ext cx="1085400" cy="484200"/>
                <a:chOff x="5975640" y="2475360"/>
                <a:chExt cx="1085400" cy="484200"/>
              </a:xfrm>
            </p:grpSpPr>
            <p:sp>
              <p:nvSpPr>
                <p:cNvPr id="115" name="Rectangle 1471"/>
                <p:cNvSpPr/>
                <p:nvPr/>
              </p:nvSpPr>
              <p:spPr>
                <a:xfrm>
                  <a:off x="5975640" y="2475360"/>
                  <a:ext cx="108540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" name="Group 1470"/>
                <p:cNvGrpSpPr/>
                <p:nvPr/>
              </p:nvGrpSpPr>
              <p:grpSpPr>
                <a:xfrm>
                  <a:off x="5975640" y="2475360"/>
                  <a:ext cx="1085040" cy="484200"/>
                  <a:chOff x="5975640" y="2475360"/>
                  <a:chExt cx="1085040" cy="484200"/>
                </a:xfrm>
              </p:grpSpPr>
              <p:sp>
                <p:nvSpPr>
                  <p:cNvPr id="117" name="Rectangle 1403"/>
                  <p:cNvSpPr/>
                  <p:nvPr/>
                </p:nvSpPr>
                <p:spPr>
                  <a:xfrm>
                    <a:off x="6027840" y="2475360"/>
                    <a:ext cx="98064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98*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Rectangle 1469"/>
                  <p:cNvSpPr/>
                  <p:nvPr/>
                </p:nvSpPr>
                <p:spPr>
                  <a:xfrm>
                    <a:off x="5975640" y="2475360"/>
                    <a:ext cx="108504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9" name="Group 1476"/>
              <p:cNvGrpSpPr/>
              <p:nvPr/>
            </p:nvGrpSpPr>
            <p:grpSpPr>
              <a:xfrm>
                <a:off x="7061760" y="2475360"/>
                <a:ext cx="1466280" cy="484200"/>
                <a:chOff x="7061760" y="2475360"/>
                <a:chExt cx="1466280" cy="484200"/>
              </a:xfrm>
            </p:grpSpPr>
            <p:sp>
              <p:nvSpPr>
                <p:cNvPr id="120" name="Rectangle 1475"/>
                <p:cNvSpPr/>
                <p:nvPr/>
              </p:nvSpPr>
              <p:spPr>
                <a:xfrm>
                  <a:off x="7061760" y="2475360"/>
                  <a:ext cx="146628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1474"/>
                <p:cNvGrpSpPr/>
                <p:nvPr/>
              </p:nvGrpSpPr>
              <p:grpSpPr>
                <a:xfrm>
                  <a:off x="7061760" y="2475360"/>
                  <a:ext cx="1465920" cy="484200"/>
                  <a:chOff x="7061760" y="2475360"/>
                  <a:chExt cx="1465920" cy="484200"/>
                </a:xfrm>
              </p:grpSpPr>
              <p:sp>
                <p:nvSpPr>
                  <p:cNvPr id="122" name="Rectangle 1404"/>
                  <p:cNvSpPr/>
                  <p:nvPr/>
                </p:nvSpPr>
                <p:spPr>
                  <a:xfrm>
                    <a:off x="7114320" y="2475360"/>
                    <a:ext cx="136116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7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Rectangle 1473"/>
                  <p:cNvSpPr/>
                  <p:nvPr/>
                </p:nvSpPr>
                <p:spPr>
                  <a:xfrm>
                    <a:off x="7061760" y="2475360"/>
                    <a:ext cx="146592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4" name="Group 1478"/>
              <p:cNvGrpSpPr/>
              <p:nvPr/>
            </p:nvGrpSpPr>
            <p:grpSpPr>
              <a:xfrm>
                <a:off x="469080" y="2959560"/>
                <a:ext cx="4419720" cy="483840"/>
                <a:chOff x="469080" y="2959560"/>
                <a:chExt cx="4419720" cy="483840"/>
              </a:xfrm>
            </p:grpSpPr>
            <p:sp>
              <p:nvSpPr>
                <p:cNvPr id="125" name="Rectangle 1405"/>
                <p:cNvSpPr/>
                <p:nvPr/>
              </p:nvSpPr>
              <p:spPr>
                <a:xfrm>
                  <a:off x="521280" y="2959560"/>
                  <a:ext cx="43149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servas internaciona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US$ milhões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1477"/>
                <p:cNvSpPr/>
                <p:nvPr/>
              </p:nvSpPr>
              <p:spPr>
                <a:xfrm>
                  <a:off x="469080" y="2959560"/>
                  <a:ext cx="44197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1480"/>
              <p:cNvGrpSpPr/>
              <p:nvPr/>
            </p:nvGrpSpPr>
            <p:grpSpPr>
              <a:xfrm>
                <a:off x="4889160" y="2959560"/>
                <a:ext cx="1086120" cy="483840"/>
                <a:chOff x="4889160" y="2959560"/>
                <a:chExt cx="1086120" cy="483840"/>
              </a:xfrm>
            </p:grpSpPr>
            <p:sp>
              <p:nvSpPr>
                <p:cNvPr id="128" name="Rectangle 1406"/>
                <p:cNvSpPr/>
                <p:nvPr/>
              </p:nvSpPr>
              <p:spPr>
                <a:xfrm>
                  <a:off x="4941360" y="2959560"/>
                  <a:ext cx="981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.65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479"/>
                <p:cNvSpPr/>
                <p:nvPr/>
              </p:nvSpPr>
              <p:spPr>
                <a:xfrm>
                  <a:off x="4889160" y="2959560"/>
                  <a:ext cx="10861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1482"/>
              <p:cNvGrpSpPr/>
              <p:nvPr/>
            </p:nvGrpSpPr>
            <p:grpSpPr>
              <a:xfrm>
                <a:off x="5975640" y="2959560"/>
                <a:ext cx="1085400" cy="483840"/>
                <a:chOff x="5975640" y="2959560"/>
                <a:chExt cx="1085400" cy="483840"/>
              </a:xfrm>
            </p:grpSpPr>
            <p:sp>
              <p:nvSpPr>
                <p:cNvPr id="131" name="Rectangle 1407"/>
                <p:cNvSpPr/>
                <p:nvPr/>
              </p:nvSpPr>
              <p:spPr>
                <a:xfrm>
                  <a:off x="6027840" y="2959560"/>
                  <a:ext cx="98100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1.37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481"/>
                <p:cNvSpPr/>
                <p:nvPr/>
              </p:nvSpPr>
              <p:spPr>
                <a:xfrm>
                  <a:off x="5975640" y="2959560"/>
                  <a:ext cx="108540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1484"/>
              <p:cNvGrpSpPr/>
              <p:nvPr/>
            </p:nvGrpSpPr>
            <p:grpSpPr>
              <a:xfrm>
                <a:off x="7061760" y="2959560"/>
                <a:ext cx="1466280" cy="483840"/>
                <a:chOff x="7061760" y="2959560"/>
                <a:chExt cx="1466280" cy="483840"/>
              </a:xfrm>
            </p:grpSpPr>
            <p:sp>
              <p:nvSpPr>
                <p:cNvPr id="134" name="Rectangle 1408"/>
                <p:cNvSpPr/>
                <p:nvPr/>
              </p:nvSpPr>
              <p:spPr>
                <a:xfrm>
                  <a:off x="7114320" y="2959560"/>
                  <a:ext cx="136152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38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1483"/>
                <p:cNvSpPr/>
                <p:nvPr/>
              </p:nvSpPr>
              <p:spPr>
                <a:xfrm>
                  <a:off x="7061760" y="2959560"/>
                  <a:ext cx="146628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1488"/>
              <p:cNvGrpSpPr/>
              <p:nvPr/>
            </p:nvGrpSpPr>
            <p:grpSpPr>
              <a:xfrm>
                <a:off x="469080" y="3443760"/>
                <a:ext cx="4419720" cy="484200"/>
                <a:chOff x="469080" y="3443760"/>
                <a:chExt cx="4419720" cy="484200"/>
              </a:xfrm>
            </p:grpSpPr>
            <p:sp>
              <p:nvSpPr>
                <p:cNvPr id="137" name="Rectangle 1487"/>
                <p:cNvSpPr/>
                <p:nvPr/>
              </p:nvSpPr>
              <p:spPr>
                <a:xfrm>
                  <a:off x="469080" y="3443760"/>
                  <a:ext cx="44197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Group 1486"/>
                <p:cNvGrpSpPr/>
                <p:nvPr/>
              </p:nvGrpSpPr>
              <p:grpSpPr>
                <a:xfrm>
                  <a:off x="469080" y="3443760"/>
                  <a:ext cx="4419360" cy="484200"/>
                  <a:chOff x="469080" y="3443760"/>
                  <a:chExt cx="4419360" cy="484200"/>
                </a:xfrm>
              </p:grpSpPr>
              <p:sp>
                <p:nvSpPr>
                  <p:cNvPr id="139" name="Rectangle 1409"/>
                  <p:cNvSpPr/>
                  <p:nvPr/>
                </p:nvSpPr>
                <p:spPr>
                  <a:xfrm>
                    <a:off x="521280" y="3443760"/>
                    <a:ext cx="43146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Investimento estrangeiro diret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US$ milhões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Rectangle 1485"/>
                  <p:cNvSpPr/>
                  <p:nvPr/>
                </p:nvSpPr>
                <p:spPr>
                  <a:xfrm>
                    <a:off x="469080" y="3443760"/>
                    <a:ext cx="44193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" name="Group 1492"/>
              <p:cNvGrpSpPr/>
              <p:nvPr/>
            </p:nvGrpSpPr>
            <p:grpSpPr>
              <a:xfrm>
                <a:off x="4889160" y="3443760"/>
                <a:ext cx="1086120" cy="484200"/>
                <a:chOff x="4889160" y="3443760"/>
                <a:chExt cx="1086120" cy="484200"/>
              </a:xfrm>
            </p:grpSpPr>
            <p:sp>
              <p:nvSpPr>
                <p:cNvPr id="142" name="Rectangle 1491"/>
                <p:cNvSpPr/>
                <p:nvPr/>
              </p:nvSpPr>
              <p:spPr>
                <a:xfrm>
                  <a:off x="4889160" y="3443760"/>
                  <a:ext cx="108612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Group 1490"/>
                <p:cNvGrpSpPr/>
                <p:nvPr/>
              </p:nvGrpSpPr>
              <p:grpSpPr>
                <a:xfrm>
                  <a:off x="4889160" y="3443760"/>
                  <a:ext cx="1085760" cy="484200"/>
                  <a:chOff x="4889160" y="3443760"/>
                  <a:chExt cx="1085760" cy="484200"/>
                </a:xfrm>
              </p:grpSpPr>
              <p:sp>
                <p:nvSpPr>
                  <p:cNvPr id="144" name="Rectangle 1410"/>
                  <p:cNvSpPr/>
                  <p:nvPr/>
                </p:nvSpPr>
                <p:spPr>
                  <a:xfrm>
                    <a:off x="4941360" y="3443760"/>
                    <a:ext cx="98100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905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Rectangle 1489"/>
                  <p:cNvSpPr/>
                  <p:nvPr/>
                </p:nvSpPr>
                <p:spPr>
                  <a:xfrm>
                    <a:off x="4889160" y="3443760"/>
                    <a:ext cx="108576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" name="Group 1496"/>
              <p:cNvGrpSpPr/>
              <p:nvPr/>
            </p:nvGrpSpPr>
            <p:grpSpPr>
              <a:xfrm>
                <a:off x="5975640" y="3443760"/>
                <a:ext cx="1085400" cy="484200"/>
                <a:chOff x="5975640" y="3443760"/>
                <a:chExt cx="1085400" cy="484200"/>
              </a:xfrm>
            </p:grpSpPr>
            <p:sp>
              <p:nvSpPr>
                <p:cNvPr id="147" name="Rectangle 1495"/>
                <p:cNvSpPr/>
                <p:nvPr/>
              </p:nvSpPr>
              <p:spPr>
                <a:xfrm>
                  <a:off x="5975640" y="3443760"/>
                  <a:ext cx="108540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Group 1494"/>
                <p:cNvGrpSpPr/>
                <p:nvPr/>
              </p:nvGrpSpPr>
              <p:grpSpPr>
                <a:xfrm>
                  <a:off x="5975640" y="3443760"/>
                  <a:ext cx="1085040" cy="484200"/>
                  <a:chOff x="5975640" y="3443760"/>
                  <a:chExt cx="1085040" cy="484200"/>
                </a:xfrm>
              </p:grpSpPr>
              <p:sp>
                <p:nvSpPr>
                  <p:cNvPr id="149" name="Rectangle 1411"/>
                  <p:cNvSpPr/>
                  <p:nvPr/>
                </p:nvSpPr>
                <p:spPr>
                  <a:xfrm>
                    <a:off x="6027840" y="3443760"/>
                    <a:ext cx="98064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86*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Rectangle 1493"/>
                  <p:cNvSpPr/>
                  <p:nvPr/>
                </p:nvSpPr>
                <p:spPr>
                  <a:xfrm>
                    <a:off x="5975640" y="3443760"/>
                    <a:ext cx="108504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1" name="Group 1500"/>
              <p:cNvGrpSpPr/>
              <p:nvPr/>
            </p:nvGrpSpPr>
            <p:grpSpPr>
              <a:xfrm>
                <a:off x="7061760" y="3443760"/>
                <a:ext cx="1466280" cy="484200"/>
                <a:chOff x="7061760" y="3443760"/>
                <a:chExt cx="1466280" cy="484200"/>
              </a:xfrm>
            </p:grpSpPr>
            <p:sp>
              <p:nvSpPr>
                <p:cNvPr id="152" name="Rectangle 1499"/>
                <p:cNvSpPr/>
                <p:nvPr/>
              </p:nvSpPr>
              <p:spPr>
                <a:xfrm>
                  <a:off x="7061760" y="3443760"/>
                  <a:ext cx="1466280" cy="4842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" name="Group 1498"/>
                <p:cNvGrpSpPr/>
                <p:nvPr/>
              </p:nvGrpSpPr>
              <p:grpSpPr>
                <a:xfrm>
                  <a:off x="7061760" y="3443760"/>
                  <a:ext cx="1465920" cy="484200"/>
                  <a:chOff x="7061760" y="3443760"/>
                  <a:chExt cx="1465920" cy="484200"/>
                </a:xfrm>
              </p:grpSpPr>
              <p:sp>
                <p:nvSpPr>
                  <p:cNvPr id="154" name="Rectangle 1412"/>
                  <p:cNvSpPr/>
                  <p:nvPr/>
                </p:nvSpPr>
                <p:spPr>
                  <a:xfrm>
                    <a:off x="7114320" y="3443760"/>
                    <a:ext cx="1361160" cy="4842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2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Rectangle 1497"/>
                  <p:cNvSpPr/>
                  <p:nvPr/>
                </p:nvSpPr>
                <p:spPr>
                  <a:xfrm>
                    <a:off x="7061760" y="3443760"/>
                    <a:ext cx="1465920" cy="484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6" name="Group 1502"/>
              <p:cNvGrpSpPr/>
              <p:nvPr/>
            </p:nvGrpSpPr>
            <p:grpSpPr>
              <a:xfrm>
                <a:off x="469080" y="3927960"/>
                <a:ext cx="4419720" cy="483840"/>
                <a:chOff x="469080" y="3927960"/>
                <a:chExt cx="4419720" cy="483840"/>
              </a:xfrm>
            </p:grpSpPr>
            <p:sp>
              <p:nvSpPr>
                <p:cNvPr id="157" name="Rectangle 1413"/>
                <p:cNvSpPr/>
                <p:nvPr/>
              </p:nvSpPr>
              <p:spPr>
                <a:xfrm>
                  <a:off x="521280" y="3927960"/>
                  <a:ext cx="43149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isco Bras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pontos-base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Rectangle 1501"/>
                <p:cNvSpPr/>
                <p:nvPr/>
              </p:nvSpPr>
              <p:spPr>
                <a:xfrm>
                  <a:off x="469080" y="3927960"/>
                  <a:ext cx="44197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Group 1504"/>
              <p:cNvGrpSpPr/>
              <p:nvPr/>
            </p:nvGrpSpPr>
            <p:grpSpPr>
              <a:xfrm>
                <a:off x="4889160" y="3927960"/>
                <a:ext cx="1086120" cy="483840"/>
                <a:chOff x="4889160" y="3927960"/>
                <a:chExt cx="1086120" cy="483840"/>
              </a:xfrm>
            </p:grpSpPr>
            <p:sp>
              <p:nvSpPr>
                <p:cNvPr id="160" name="Rectangle 1414"/>
                <p:cNvSpPr/>
                <p:nvPr/>
              </p:nvSpPr>
              <p:spPr>
                <a:xfrm>
                  <a:off x="4941360" y="3927960"/>
                  <a:ext cx="98136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.439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1503"/>
                <p:cNvSpPr/>
                <p:nvPr/>
              </p:nvSpPr>
              <p:spPr>
                <a:xfrm>
                  <a:off x="4889160" y="3927960"/>
                  <a:ext cx="108612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Group 1506"/>
              <p:cNvGrpSpPr/>
              <p:nvPr/>
            </p:nvGrpSpPr>
            <p:grpSpPr>
              <a:xfrm>
                <a:off x="5975640" y="3927960"/>
                <a:ext cx="1085400" cy="483840"/>
                <a:chOff x="5975640" y="3927960"/>
                <a:chExt cx="1085400" cy="483840"/>
              </a:xfrm>
            </p:grpSpPr>
            <p:sp>
              <p:nvSpPr>
                <p:cNvPr id="163" name="Rectangle 1415"/>
                <p:cNvSpPr/>
                <p:nvPr/>
              </p:nvSpPr>
              <p:spPr>
                <a:xfrm>
                  <a:off x="6027840" y="3927960"/>
                  <a:ext cx="98100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1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Rectangle 1505"/>
                <p:cNvSpPr/>
                <p:nvPr/>
              </p:nvSpPr>
              <p:spPr>
                <a:xfrm>
                  <a:off x="5975640" y="3927960"/>
                  <a:ext cx="108540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508"/>
              <p:cNvGrpSpPr/>
              <p:nvPr/>
            </p:nvGrpSpPr>
            <p:grpSpPr>
              <a:xfrm>
                <a:off x="7061760" y="3927960"/>
                <a:ext cx="1466280" cy="483840"/>
                <a:chOff x="7061760" y="3927960"/>
                <a:chExt cx="1466280" cy="483840"/>
              </a:xfrm>
            </p:grpSpPr>
            <p:sp>
              <p:nvSpPr>
                <p:cNvPr id="166" name="Rectangle 1416"/>
                <p:cNvSpPr/>
                <p:nvPr/>
              </p:nvSpPr>
              <p:spPr>
                <a:xfrm>
                  <a:off x="7114320" y="3927960"/>
                  <a:ext cx="1361520" cy="48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8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Rectangle 1507"/>
                <p:cNvSpPr/>
                <p:nvPr/>
              </p:nvSpPr>
              <p:spPr>
                <a:xfrm>
                  <a:off x="7061760" y="3927960"/>
                  <a:ext cx="1466280" cy="48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512"/>
              <p:cNvGrpSpPr/>
              <p:nvPr/>
            </p:nvGrpSpPr>
            <p:grpSpPr>
              <a:xfrm>
                <a:off x="469080" y="4412160"/>
                <a:ext cx="4419720" cy="483840"/>
                <a:chOff x="469080" y="4412160"/>
                <a:chExt cx="4419720" cy="483840"/>
              </a:xfrm>
            </p:grpSpPr>
            <p:sp>
              <p:nvSpPr>
                <p:cNvPr id="169" name="Rectangle 1511"/>
                <p:cNvSpPr/>
                <p:nvPr/>
              </p:nvSpPr>
              <p:spPr>
                <a:xfrm>
                  <a:off x="469080" y="4412160"/>
                  <a:ext cx="441972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0" name="Group 1510"/>
                <p:cNvGrpSpPr/>
                <p:nvPr/>
              </p:nvGrpSpPr>
              <p:grpSpPr>
                <a:xfrm>
                  <a:off x="469080" y="4412160"/>
                  <a:ext cx="4419360" cy="483840"/>
                  <a:chOff x="469080" y="4412160"/>
                  <a:chExt cx="4419360" cy="483840"/>
                </a:xfrm>
              </p:grpSpPr>
              <p:sp>
                <p:nvSpPr>
                  <p:cNvPr id="171" name="Rectangle 1417"/>
                  <p:cNvSpPr/>
                  <p:nvPr/>
                </p:nvSpPr>
                <p:spPr>
                  <a:xfrm>
                    <a:off x="521280" y="4412160"/>
                    <a:ext cx="431460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Juros Selic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% a.a.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Rectangle 1509"/>
                  <p:cNvSpPr/>
                  <p:nvPr/>
                </p:nvSpPr>
                <p:spPr>
                  <a:xfrm>
                    <a:off x="469080" y="4412160"/>
                    <a:ext cx="441936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3" name="Group 1516"/>
              <p:cNvGrpSpPr/>
              <p:nvPr/>
            </p:nvGrpSpPr>
            <p:grpSpPr>
              <a:xfrm>
                <a:off x="4889160" y="4412160"/>
                <a:ext cx="1086120" cy="483840"/>
                <a:chOff x="4889160" y="4412160"/>
                <a:chExt cx="1086120" cy="483840"/>
              </a:xfrm>
            </p:grpSpPr>
            <p:sp>
              <p:nvSpPr>
                <p:cNvPr id="174" name="Rectangle 1515"/>
                <p:cNvSpPr/>
                <p:nvPr/>
              </p:nvSpPr>
              <p:spPr>
                <a:xfrm>
                  <a:off x="4889160" y="4412160"/>
                  <a:ext cx="108612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Group 1514"/>
                <p:cNvGrpSpPr/>
                <p:nvPr/>
              </p:nvGrpSpPr>
              <p:grpSpPr>
                <a:xfrm>
                  <a:off x="4889160" y="4412160"/>
                  <a:ext cx="1085760" cy="483840"/>
                  <a:chOff x="4889160" y="4412160"/>
                  <a:chExt cx="1085760" cy="483840"/>
                </a:xfrm>
              </p:grpSpPr>
              <p:sp>
                <p:nvSpPr>
                  <p:cNvPr id="176" name="Rectangle 1418"/>
                  <p:cNvSpPr/>
                  <p:nvPr/>
                </p:nvSpPr>
                <p:spPr>
                  <a:xfrm>
                    <a:off x="4941360" y="4412160"/>
                    <a:ext cx="98100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5,0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Rectangle 1513"/>
                  <p:cNvSpPr/>
                  <p:nvPr/>
                </p:nvSpPr>
                <p:spPr>
                  <a:xfrm>
                    <a:off x="4889160" y="4412160"/>
                    <a:ext cx="108576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Group 1520"/>
              <p:cNvGrpSpPr/>
              <p:nvPr/>
            </p:nvGrpSpPr>
            <p:grpSpPr>
              <a:xfrm>
                <a:off x="5975640" y="4412160"/>
                <a:ext cx="1085400" cy="483840"/>
                <a:chOff x="5975640" y="4412160"/>
                <a:chExt cx="1085400" cy="483840"/>
              </a:xfrm>
            </p:grpSpPr>
            <p:sp>
              <p:nvSpPr>
                <p:cNvPr id="179" name="Rectangle 1519"/>
                <p:cNvSpPr/>
                <p:nvPr/>
              </p:nvSpPr>
              <p:spPr>
                <a:xfrm>
                  <a:off x="5975640" y="4412160"/>
                  <a:ext cx="108540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Group 1518"/>
                <p:cNvGrpSpPr/>
                <p:nvPr/>
              </p:nvGrpSpPr>
              <p:grpSpPr>
                <a:xfrm>
                  <a:off x="5975640" y="4412160"/>
                  <a:ext cx="1085040" cy="483840"/>
                  <a:chOff x="5975640" y="4412160"/>
                  <a:chExt cx="1085040" cy="483840"/>
                </a:xfrm>
              </p:grpSpPr>
              <p:sp>
                <p:nvSpPr>
                  <p:cNvPr id="181" name="Rectangle 1419"/>
                  <p:cNvSpPr/>
                  <p:nvPr/>
                </p:nvSpPr>
                <p:spPr>
                  <a:xfrm>
                    <a:off x="6027840" y="4412160"/>
                    <a:ext cx="98064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1,25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Rectangle 1517"/>
                  <p:cNvSpPr/>
                  <p:nvPr/>
                </p:nvSpPr>
                <p:spPr>
                  <a:xfrm>
                    <a:off x="5975640" y="4412160"/>
                    <a:ext cx="108504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Group 1524"/>
              <p:cNvGrpSpPr/>
              <p:nvPr/>
            </p:nvGrpSpPr>
            <p:grpSpPr>
              <a:xfrm>
                <a:off x="7061760" y="4412160"/>
                <a:ext cx="1466280" cy="483840"/>
                <a:chOff x="7061760" y="4412160"/>
                <a:chExt cx="1466280" cy="483840"/>
              </a:xfrm>
            </p:grpSpPr>
            <p:sp>
              <p:nvSpPr>
                <p:cNvPr id="184" name="Rectangle 1523"/>
                <p:cNvSpPr/>
                <p:nvPr/>
              </p:nvSpPr>
              <p:spPr>
                <a:xfrm>
                  <a:off x="7061760" y="4412160"/>
                  <a:ext cx="146628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Group 1522"/>
                <p:cNvGrpSpPr/>
                <p:nvPr/>
              </p:nvGrpSpPr>
              <p:grpSpPr>
                <a:xfrm>
                  <a:off x="7061760" y="4412160"/>
                  <a:ext cx="1465920" cy="483840"/>
                  <a:chOff x="7061760" y="4412160"/>
                  <a:chExt cx="1465920" cy="483840"/>
                </a:xfrm>
              </p:grpSpPr>
              <p:sp>
                <p:nvSpPr>
                  <p:cNvPr id="186" name="Rectangle 1420"/>
                  <p:cNvSpPr/>
                  <p:nvPr/>
                </p:nvSpPr>
                <p:spPr>
                  <a:xfrm>
                    <a:off x="7114320" y="4412160"/>
                    <a:ext cx="136116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55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Rectangle 1521"/>
                  <p:cNvSpPr/>
                  <p:nvPr/>
                </p:nvSpPr>
                <p:spPr>
                  <a:xfrm>
                    <a:off x="7061760" y="4412160"/>
                    <a:ext cx="146592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Group 1526"/>
              <p:cNvGrpSpPr/>
              <p:nvPr/>
            </p:nvGrpSpPr>
            <p:grpSpPr>
              <a:xfrm>
                <a:off x="469080" y="4896000"/>
                <a:ext cx="4419720" cy="484200"/>
                <a:chOff x="469080" y="4896000"/>
                <a:chExt cx="4419720" cy="484200"/>
              </a:xfrm>
            </p:grpSpPr>
            <p:sp>
              <p:nvSpPr>
                <p:cNvPr id="189" name="Rectangle 1421"/>
                <p:cNvSpPr/>
                <p:nvPr/>
              </p:nvSpPr>
              <p:spPr>
                <a:xfrm>
                  <a:off x="521280" y="4896000"/>
                  <a:ext cx="43149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rédito tot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% do PIB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525"/>
                <p:cNvSpPr/>
                <p:nvPr/>
              </p:nvSpPr>
              <p:spPr>
                <a:xfrm>
                  <a:off x="469080" y="4896000"/>
                  <a:ext cx="441972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Group 1528"/>
              <p:cNvGrpSpPr/>
              <p:nvPr/>
            </p:nvGrpSpPr>
            <p:grpSpPr>
              <a:xfrm>
                <a:off x="4889160" y="4896000"/>
                <a:ext cx="1086120" cy="484200"/>
                <a:chOff x="4889160" y="4896000"/>
                <a:chExt cx="1086120" cy="484200"/>
              </a:xfrm>
            </p:grpSpPr>
            <p:sp>
              <p:nvSpPr>
                <p:cNvPr id="192" name="Rectangle 1422"/>
                <p:cNvSpPr/>
                <p:nvPr/>
              </p:nvSpPr>
              <p:spPr>
                <a:xfrm>
                  <a:off x="4941360" y="4896000"/>
                  <a:ext cx="9813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527"/>
                <p:cNvSpPr/>
                <p:nvPr/>
              </p:nvSpPr>
              <p:spPr>
                <a:xfrm>
                  <a:off x="4889160" y="4896000"/>
                  <a:ext cx="108612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Group 1530"/>
              <p:cNvGrpSpPr/>
              <p:nvPr/>
            </p:nvGrpSpPr>
            <p:grpSpPr>
              <a:xfrm>
                <a:off x="5975640" y="4896000"/>
                <a:ext cx="1085400" cy="484200"/>
                <a:chOff x="5975640" y="4896000"/>
                <a:chExt cx="1085400" cy="484200"/>
              </a:xfrm>
            </p:grpSpPr>
            <p:sp>
              <p:nvSpPr>
                <p:cNvPr id="195" name="Rectangle 1423"/>
                <p:cNvSpPr/>
                <p:nvPr/>
              </p:nvSpPr>
              <p:spPr>
                <a:xfrm>
                  <a:off x="6027840" y="4896000"/>
                  <a:ext cx="98100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4,7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529"/>
                <p:cNvSpPr/>
                <p:nvPr/>
              </p:nvSpPr>
              <p:spPr>
                <a:xfrm>
                  <a:off x="5975640" y="4896000"/>
                  <a:ext cx="108540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Group 1532"/>
              <p:cNvGrpSpPr/>
              <p:nvPr/>
            </p:nvGrpSpPr>
            <p:grpSpPr>
              <a:xfrm>
                <a:off x="7061760" y="4896000"/>
                <a:ext cx="1466280" cy="484200"/>
                <a:chOff x="7061760" y="4896000"/>
                <a:chExt cx="1466280" cy="484200"/>
              </a:xfrm>
            </p:grpSpPr>
            <p:sp>
              <p:nvSpPr>
                <p:cNvPr id="198" name="Rectangle 1424"/>
                <p:cNvSpPr/>
                <p:nvPr/>
              </p:nvSpPr>
              <p:spPr>
                <a:xfrm>
                  <a:off x="7114320" y="4896000"/>
                  <a:ext cx="136152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59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531"/>
                <p:cNvSpPr/>
                <p:nvPr/>
              </p:nvSpPr>
              <p:spPr>
                <a:xfrm>
                  <a:off x="7061760" y="4896000"/>
                  <a:ext cx="1466280" cy="48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Group 1536"/>
              <p:cNvGrpSpPr/>
              <p:nvPr/>
            </p:nvGrpSpPr>
            <p:grpSpPr>
              <a:xfrm>
                <a:off x="469080" y="5380200"/>
                <a:ext cx="4419720" cy="483840"/>
                <a:chOff x="469080" y="5380200"/>
                <a:chExt cx="4419720" cy="483840"/>
              </a:xfrm>
            </p:grpSpPr>
            <p:sp>
              <p:nvSpPr>
                <p:cNvPr id="201" name="Rectangle 1535"/>
                <p:cNvSpPr/>
                <p:nvPr/>
              </p:nvSpPr>
              <p:spPr>
                <a:xfrm>
                  <a:off x="469080" y="5380200"/>
                  <a:ext cx="441972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Group 1534"/>
                <p:cNvGrpSpPr/>
                <p:nvPr/>
              </p:nvGrpSpPr>
              <p:grpSpPr>
                <a:xfrm>
                  <a:off x="469080" y="5380200"/>
                  <a:ext cx="4419360" cy="483840"/>
                  <a:chOff x="469080" y="5380200"/>
                  <a:chExt cx="4419360" cy="483840"/>
                </a:xfrm>
              </p:grpSpPr>
              <p:sp>
                <p:nvSpPr>
                  <p:cNvPr id="203" name="Rectangle 1425"/>
                  <p:cNvSpPr/>
                  <p:nvPr/>
                </p:nvSpPr>
                <p:spPr>
                  <a:xfrm>
                    <a:off x="521280" y="5380200"/>
                    <a:ext cx="431460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ólar comercia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R$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Rectangle 1533"/>
                  <p:cNvSpPr/>
                  <p:nvPr/>
                </p:nvSpPr>
                <p:spPr>
                  <a:xfrm>
                    <a:off x="469080" y="5380200"/>
                    <a:ext cx="441936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5" name="Group 1540"/>
              <p:cNvGrpSpPr/>
              <p:nvPr/>
            </p:nvGrpSpPr>
            <p:grpSpPr>
              <a:xfrm>
                <a:off x="4889160" y="5380200"/>
                <a:ext cx="1086120" cy="483840"/>
                <a:chOff x="4889160" y="5380200"/>
                <a:chExt cx="1086120" cy="483840"/>
              </a:xfrm>
            </p:grpSpPr>
            <p:sp>
              <p:nvSpPr>
                <p:cNvPr id="206" name="Rectangle 1539"/>
                <p:cNvSpPr/>
                <p:nvPr/>
              </p:nvSpPr>
              <p:spPr>
                <a:xfrm>
                  <a:off x="4889160" y="5380200"/>
                  <a:ext cx="108612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Group 1538"/>
                <p:cNvGrpSpPr/>
                <p:nvPr/>
              </p:nvGrpSpPr>
              <p:grpSpPr>
                <a:xfrm>
                  <a:off x="4889160" y="5380200"/>
                  <a:ext cx="1085760" cy="483840"/>
                  <a:chOff x="4889160" y="5380200"/>
                  <a:chExt cx="1085760" cy="483840"/>
                </a:xfrm>
              </p:grpSpPr>
              <p:sp>
                <p:nvSpPr>
                  <p:cNvPr id="208" name="Rectangle 1426"/>
                  <p:cNvSpPr/>
                  <p:nvPr/>
                </p:nvSpPr>
                <p:spPr>
                  <a:xfrm>
                    <a:off x="4941360" y="5380200"/>
                    <a:ext cx="98100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,44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Rectangle 1537"/>
                  <p:cNvSpPr/>
                  <p:nvPr/>
                </p:nvSpPr>
                <p:spPr>
                  <a:xfrm>
                    <a:off x="4889160" y="5380200"/>
                    <a:ext cx="108576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Group 1544"/>
              <p:cNvGrpSpPr/>
              <p:nvPr/>
            </p:nvGrpSpPr>
            <p:grpSpPr>
              <a:xfrm>
                <a:off x="5975640" y="5380200"/>
                <a:ext cx="1085400" cy="483840"/>
                <a:chOff x="5975640" y="5380200"/>
                <a:chExt cx="1085400" cy="483840"/>
              </a:xfrm>
            </p:grpSpPr>
            <p:sp>
              <p:nvSpPr>
                <p:cNvPr id="211" name="Rectangle 1543"/>
                <p:cNvSpPr/>
                <p:nvPr/>
              </p:nvSpPr>
              <p:spPr>
                <a:xfrm>
                  <a:off x="5975640" y="5380200"/>
                  <a:ext cx="108540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Group 1542"/>
                <p:cNvGrpSpPr/>
                <p:nvPr/>
              </p:nvGrpSpPr>
              <p:grpSpPr>
                <a:xfrm>
                  <a:off x="5975640" y="5380200"/>
                  <a:ext cx="1085040" cy="483840"/>
                  <a:chOff x="5975640" y="5380200"/>
                  <a:chExt cx="1085040" cy="483840"/>
                </a:xfrm>
              </p:grpSpPr>
              <p:sp>
                <p:nvSpPr>
                  <p:cNvPr id="213" name="Rectangle 1427"/>
                  <p:cNvSpPr/>
                  <p:nvPr/>
                </p:nvSpPr>
                <p:spPr>
                  <a:xfrm>
                    <a:off x="6027840" y="5380200"/>
                    <a:ext cx="98064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,77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Rectangle 1541"/>
                  <p:cNvSpPr/>
                  <p:nvPr/>
                </p:nvSpPr>
                <p:spPr>
                  <a:xfrm>
                    <a:off x="5975640" y="5380200"/>
                    <a:ext cx="108504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Group 1548"/>
              <p:cNvGrpSpPr/>
              <p:nvPr/>
            </p:nvGrpSpPr>
            <p:grpSpPr>
              <a:xfrm>
                <a:off x="7061760" y="5380200"/>
                <a:ext cx="1466280" cy="483840"/>
                <a:chOff x="7061760" y="5380200"/>
                <a:chExt cx="1466280" cy="483840"/>
              </a:xfrm>
            </p:grpSpPr>
            <p:sp>
              <p:nvSpPr>
                <p:cNvPr id="216" name="Rectangle 1547"/>
                <p:cNvSpPr/>
                <p:nvPr/>
              </p:nvSpPr>
              <p:spPr>
                <a:xfrm>
                  <a:off x="7061760" y="5380200"/>
                  <a:ext cx="1466280" cy="4838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7" name="Group 1546"/>
                <p:cNvGrpSpPr/>
                <p:nvPr/>
              </p:nvGrpSpPr>
              <p:grpSpPr>
                <a:xfrm>
                  <a:off x="7061760" y="5380200"/>
                  <a:ext cx="1465920" cy="483840"/>
                  <a:chOff x="7061760" y="5380200"/>
                  <a:chExt cx="1465920" cy="483840"/>
                </a:xfrm>
              </p:grpSpPr>
              <p:sp>
                <p:nvSpPr>
                  <p:cNvPr id="218" name="Rectangle 1428"/>
                  <p:cNvSpPr/>
                  <p:nvPr/>
                </p:nvSpPr>
                <p:spPr>
                  <a:xfrm>
                    <a:off x="7114320" y="5380200"/>
                    <a:ext cx="1361160" cy="4838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4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Rectangle 1545"/>
                  <p:cNvSpPr/>
                  <p:nvPr/>
                </p:nvSpPr>
                <p:spPr>
                  <a:xfrm>
                    <a:off x="7061760" y="5380200"/>
                    <a:ext cx="1465920" cy="483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20" name="Rectangle 1550"/>
            <p:cNvSpPr/>
            <p:nvPr/>
          </p:nvSpPr>
          <p:spPr>
            <a:xfrm>
              <a:off x="463680" y="1020600"/>
              <a:ext cx="8070480" cy="48466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Rectangle 1552"/>
          <p:cNvSpPr/>
          <p:nvPr/>
        </p:nvSpPr>
        <p:spPr>
          <a:xfrm>
            <a:off x="380880" y="592776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* Estimativa IPE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** Posi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ão em dezembro/20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*** O saldo da balan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a comercial em janeiro/2008 foi menor devido a forte eleva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ão das importa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ões (+46% na compara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ão com janeiro/2007) causada pela expansão da economia e pela reposi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ão de estoques da ind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ú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str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3"/>
          <p:cNvSpPr/>
          <p:nvPr/>
        </p:nvSpPr>
        <p:spPr>
          <a:xfrm>
            <a:off x="228600" y="838080"/>
            <a:ext cx="86868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 de Aceleração do Crescimento – PA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22/01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www.brasil.gov.br/p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Desenvolvimento da Educ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– PDE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24/04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portal.mec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lano Nacional de Turismo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13/06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http://www.turismo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 Nacional de Segurança Pública com Cidadania –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nas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20/08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www.mj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 Unificado de Inclusão de Joven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– ProJove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05/09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www.projovem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celeração do Crescimento - Fundação Nacional de Saúde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3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19/09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www.funasa.gov.b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gend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4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s a partir de 21/09/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ais Cultura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04/10/2007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 – www.maisbrasil.gov.br/cultura.php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ção em Ciência, Tecnologia e Inov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20/11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www.mct.gov.b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s 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5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Lançamento: 05/12/2007 – </a:t>
            </a:r>
            <a:r>
              <a:rPr b="0" lang="pt-BR" sz="1400" spc="-1" strike="noStrike">
                <a:solidFill>
                  <a:srgbClr val="0000ff"/>
                </a:solidFill>
                <a:latin typeface="Arial"/>
              </a:rPr>
              <a:t>bvsms.saude.gov.br/bvs/pacsa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2188080" y="228600"/>
            <a:ext cx="4772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rogramas Lançados em 200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5"/>
          <p:cNvSpPr/>
          <p:nvPr/>
        </p:nvSpPr>
        <p:spPr>
          <a:xfrm>
            <a:off x="271440" y="49536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Resum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228600" y="5900760"/>
            <a:ext cx="8229600" cy="829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rritórios da Cidadania -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visto para 25/02/0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lítica Industrial, Tecnológica e de Comércio Exterior – Fase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evisto para março/2008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228600" y="1774800"/>
            <a:ext cx="86868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grama de Aceleração do Crescimento: Balanço do 1º Ano (jan/2008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2.126 ações monitoradas: 62% em obras, 23% em licitação e 15% em projeto ou licenciament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Em quantidade, 98% tem andamento satisfatório (86% com ritmo adequado e 12% merecem atenção); 2% ações estão preocupantes, com atraso significativo ou elevado risc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Em valores, 98% tem andamento satisfatório (82% estão adequadas e 16% merecem atenção); 2% das ações estão preocupant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Em 2007, foram destinados R$ 16,5 bilhões do OGU para investimentos do PAC: 97% foram empenh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2039400" y="228600"/>
            <a:ext cx="506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: CRESCIMENTO ACELERADO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Balanço de um ano do PAC revela gestão eficiente; resultados se traduzem em novo dinamismo da economia brasilei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04920" y="1066680"/>
            <a:ext cx="8839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PAC acelera a demanda interna, protegendo e imunizando o País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contra as turbulências externas” – Dilma Rouss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228600" y="1776240"/>
            <a:ext cx="86868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grama de Aceleração do Crescimento: Balanço do 1º Ano (jan/2008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Os pagamentos realizados ao longo do ano de 2007 totalizam R$ 7,3 bilhões: R$ 4,5 bilhões (27% da dotação) do exercício e R$ 2,8 bilhões de despesas de anos anteriores (70% da dotação dos restos a pagar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TCU: 82% dos empreendimentos monitorados foram liberados (32 de 44 empreendimento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  <a:ea typeface="Arial"/>
              </a:rPr>
              <a:t>Licenciamento Ambiental: o IBAMA emitiu 70 licenças ambient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1188"/>
              </a:spcBef>
              <a:buClr>
                <a:srgbClr val="231f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231f2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231f20"/>
                </a:solidFill>
                <a:latin typeface="Arial"/>
              </a:rPr>
              <a:t>Das 27 medidas institucionais que integram o PAC, 18 já foram aprovadas pelo Congresso Nacional: destaques para as leis que criam o Fundo de Investimentos em Infra-Estrutura e a do Fundo de Investimentos com recursos do FGTS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2039400" y="228600"/>
            <a:ext cx="506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: CRESCIMENTO ACELERADO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Balanço de um ano do PAC revela gestão eficiente; resultados se traduzem em novo dinamismo da economia brasilei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04920" y="1066680"/>
            <a:ext cx="8839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“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PAC acelera a demanda interna, protegendo e imunizando o País</a:t>
            </a: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contra as turbulências externas” – Dilma Rouss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3"/>
          <p:cNvSpPr/>
          <p:nvPr/>
        </p:nvSpPr>
        <p:spPr>
          <a:xfrm>
            <a:off x="2039400" y="228600"/>
            <a:ext cx="506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: CRESCIMENTO ACELERADO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28600" y="76212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AC 2007/2010: investimentos de R$ 503,9 bilhõ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76320" y="1219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Eixo logística: 1.312 ações, 72% em obras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65"/>
          <p:cNvGrpSpPr/>
          <p:nvPr/>
        </p:nvGrpSpPr>
        <p:grpSpPr>
          <a:xfrm>
            <a:off x="177840" y="1600200"/>
            <a:ext cx="4775040" cy="2057400"/>
            <a:chOff x="177840" y="1600200"/>
            <a:chExt cx="4775040" cy="2057400"/>
          </a:xfrm>
        </p:grpSpPr>
        <p:grpSp>
          <p:nvGrpSpPr>
            <p:cNvPr id="447" name="Group 63"/>
            <p:cNvGrpSpPr/>
            <p:nvPr/>
          </p:nvGrpSpPr>
          <p:grpSpPr>
            <a:xfrm>
              <a:off x="181800" y="1601640"/>
              <a:ext cx="4765680" cy="2053800"/>
              <a:chOff x="181800" y="1601640"/>
              <a:chExt cx="4765680" cy="2053800"/>
            </a:xfrm>
          </p:grpSpPr>
          <p:grpSp>
            <p:nvGrpSpPr>
              <p:cNvPr id="448" name="Group 26"/>
              <p:cNvGrpSpPr/>
              <p:nvPr/>
            </p:nvGrpSpPr>
            <p:grpSpPr>
              <a:xfrm>
                <a:off x="181800" y="1601640"/>
                <a:ext cx="2610360" cy="256680"/>
                <a:chOff x="181800" y="1601640"/>
                <a:chExt cx="2610360" cy="256680"/>
              </a:xfrm>
            </p:grpSpPr>
            <p:sp>
              <p:nvSpPr>
                <p:cNvPr id="449" name="Rectangle 25"/>
                <p:cNvSpPr/>
                <p:nvPr/>
              </p:nvSpPr>
              <p:spPr>
                <a:xfrm>
                  <a:off x="181800" y="1601640"/>
                  <a:ext cx="2610360" cy="256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0" name="Group 24"/>
                <p:cNvGrpSpPr/>
                <p:nvPr/>
              </p:nvGrpSpPr>
              <p:grpSpPr>
                <a:xfrm>
                  <a:off x="181800" y="1601640"/>
                  <a:ext cx="2610360" cy="256680"/>
                  <a:chOff x="181800" y="1601640"/>
                  <a:chExt cx="2610360" cy="256680"/>
                </a:xfrm>
              </p:grpSpPr>
              <p:sp>
                <p:nvSpPr>
                  <p:cNvPr id="451" name="Rectangle 7"/>
                  <p:cNvSpPr/>
                  <p:nvPr/>
                </p:nvSpPr>
                <p:spPr>
                  <a:xfrm>
                    <a:off x="221760" y="1601640"/>
                    <a:ext cx="2529720" cy="2566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Mod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Rectangle 23"/>
                  <p:cNvSpPr/>
                  <p:nvPr/>
                </p:nvSpPr>
                <p:spPr>
                  <a:xfrm>
                    <a:off x="181800" y="1601640"/>
                    <a:ext cx="2610360" cy="256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Group 30"/>
              <p:cNvGrpSpPr/>
              <p:nvPr/>
            </p:nvGrpSpPr>
            <p:grpSpPr>
              <a:xfrm>
                <a:off x="2792160" y="1601640"/>
                <a:ext cx="2155320" cy="256680"/>
                <a:chOff x="2792160" y="1601640"/>
                <a:chExt cx="2155320" cy="256680"/>
              </a:xfrm>
            </p:grpSpPr>
            <p:sp>
              <p:nvSpPr>
                <p:cNvPr id="454" name="Rectangle 29"/>
                <p:cNvSpPr/>
                <p:nvPr/>
              </p:nvSpPr>
              <p:spPr>
                <a:xfrm>
                  <a:off x="2792160" y="1601640"/>
                  <a:ext cx="2155320" cy="256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" name="Group 28"/>
                <p:cNvGrpSpPr/>
                <p:nvPr/>
              </p:nvGrpSpPr>
              <p:grpSpPr>
                <a:xfrm>
                  <a:off x="2792160" y="1601640"/>
                  <a:ext cx="2155320" cy="256680"/>
                  <a:chOff x="2792160" y="1601640"/>
                  <a:chExt cx="2155320" cy="256680"/>
                </a:xfrm>
              </p:grpSpPr>
              <p:sp>
                <p:nvSpPr>
                  <p:cNvPr id="456" name="Rectangle 8"/>
                  <p:cNvSpPr/>
                  <p:nvPr/>
                </p:nvSpPr>
                <p:spPr>
                  <a:xfrm>
                    <a:off x="2832480" y="1601640"/>
                    <a:ext cx="2074320" cy="2566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cursos (R$ bilhõe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Rectangle 27"/>
                  <p:cNvSpPr/>
                  <p:nvPr/>
                </p:nvSpPr>
                <p:spPr>
                  <a:xfrm>
                    <a:off x="2792160" y="1601640"/>
                    <a:ext cx="2155320" cy="256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32"/>
              <p:cNvGrpSpPr/>
              <p:nvPr/>
            </p:nvGrpSpPr>
            <p:grpSpPr>
              <a:xfrm>
                <a:off x="181800" y="1858320"/>
                <a:ext cx="2610360" cy="256680"/>
                <a:chOff x="181800" y="1858320"/>
                <a:chExt cx="2610360" cy="256680"/>
              </a:xfrm>
            </p:grpSpPr>
            <p:sp>
              <p:nvSpPr>
                <p:cNvPr id="459" name="Rectangle 9"/>
                <p:cNvSpPr/>
                <p:nvPr/>
              </p:nvSpPr>
              <p:spPr>
                <a:xfrm>
                  <a:off x="221760" y="1858320"/>
                  <a:ext cx="25297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odovi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31"/>
                <p:cNvSpPr/>
                <p:nvPr/>
              </p:nvSpPr>
              <p:spPr>
                <a:xfrm>
                  <a:off x="181800" y="1858320"/>
                  <a:ext cx="26103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Group 34"/>
              <p:cNvGrpSpPr/>
              <p:nvPr/>
            </p:nvGrpSpPr>
            <p:grpSpPr>
              <a:xfrm>
                <a:off x="2792160" y="1858320"/>
                <a:ext cx="2155320" cy="256680"/>
                <a:chOff x="2792160" y="1858320"/>
                <a:chExt cx="2155320" cy="256680"/>
              </a:xfrm>
            </p:grpSpPr>
            <p:sp>
              <p:nvSpPr>
                <p:cNvPr id="462" name="Rectangle 10"/>
                <p:cNvSpPr/>
                <p:nvPr/>
              </p:nvSpPr>
              <p:spPr>
                <a:xfrm>
                  <a:off x="2832480" y="1858320"/>
                  <a:ext cx="207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Rectangle 33"/>
                <p:cNvSpPr/>
                <p:nvPr/>
              </p:nvSpPr>
              <p:spPr>
                <a:xfrm>
                  <a:off x="2792160" y="1858320"/>
                  <a:ext cx="21553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36"/>
              <p:cNvGrpSpPr/>
              <p:nvPr/>
            </p:nvGrpSpPr>
            <p:grpSpPr>
              <a:xfrm>
                <a:off x="181800" y="2115000"/>
                <a:ext cx="2610360" cy="256680"/>
                <a:chOff x="181800" y="2115000"/>
                <a:chExt cx="2610360" cy="256680"/>
              </a:xfrm>
            </p:grpSpPr>
            <p:sp>
              <p:nvSpPr>
                <p:cNvPr id="465" name="Rectangle 11"/>
                <p:cNvSpPr/>
                <p:nvPr/>
              </p:nvSpPr>
              <p:spPr>
                <a:xfrm>
                  <a:off x="221760" y="2115000"/>
                  <a:ext cx="25297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Ferrovi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Rectangle 35"/>
                <p:cNvSpPr/>
                <p:nvPr/>
              </p:nvSpPr>
              <p:spPr>
                <a:xfrm>
                  <a:off x="181800" y="2115000"/>
                  <a:ext cx="26103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Group 38"/>
              <p:cNvGrpSpPr/>
              <p:nvPr/>
            </p:nvGrpSpPr>
            <p:grpSpPr>
              <a:xfrm>
                <a:off x="2792160" y="2115000"/>
                <a:ext cx="2155320" cy="256680"/>
                <a:chOff x="2792160" y="2115000"/>
                <a:chExt cx="2155320" cy="256680"/>
              </a:xfrm>
            </p:grpSpPr>
            <p:sp>
              <p:nvSpPr>
                <p:cNvPr id="468" name="Rectangle 12"/>
                <p:cNvSpPr/>
                <p:nvPr/>
              </p:nvSpPr>
              <p:spPr>
                <a:xfrm>
                  <a:off x="2832480" y="2115000"/>
                  <a:ext cx="207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Rectangle 37"/>
                <p:cNvSpPr/>
                <p:nvPr/>
              </p:nvSpPr>
              <p:spPr>
                <a:xfrm>
                  <a:off x="2792160" y="2115000"/>
                  <a:ext cx="21553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Group 40"/>
              <p:cNvGrpSpPr/>
              <p:nvPr/>
            </p:nvGrpSpPr>
            <p:grpSpPr>
              <a:xfrm>
                <a:off x="181800" y="2371680"/>
                <a:ext cx="2610360" cy="256680"/>
                <a:chOff x="181800" y="2371680"/>
                <a:chExt cx="2610360" cy="256680"/>
              </a:xfrm>
            </p:grpSpPr>
            <p:sp>
              <p:nvSpPr>
                <p:cNvPr id="471" name="Rectangle 13"/>
                <p:cNvSpPr/>
                <p:nvPr/>
              </p:nvSpPr>
              <p:spPr>
                <a:xfrm>
                  <a:off x="221760" y="2371680"/>
                  <a:ext cx="25297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or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Rectangle 39"/>
                <p:cNvSpPr/>
                <p:nvPr/>
              </p:nvSpPr>
              <p:spPr>
                <a:xfrm>
                  <a:off x="181800" y="2371680"/>
                  <a:ext cx="26103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42"/>
              <p:cNvGrpSpPr/>
              <p:nvPr/>
            </p:nvGrpSpPr>
            <p:grpSpPr>
              <a:xfrm>
                <a:off x="2792160" y="2371680"/>
                <a:ext cx="2155320" cy="256680"/>
                <a:chOff x="2792160" y="2371680"/>
                <a:chExt cx="2155320" cy="256680"/>
              </a:xfrm>
            </p:grpSpPr>
            <p:sp>
              <p:nvSpPr>
                <p:cNvPr id="474" name="Rectangle 14"/>
                <p:cNvSpPr/>
                <p:nvPr/>
              </p:nvSpPr>
              <p:spPr>
                <a:xfrm>
                  <a:off x="2832480" y="2371680"/>
                  <a:ext cx="207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Rectangle 41"/>
                <p:cNvSpPr/>
                <p:nvPr/>
              </p:nvSpPr>
              <p:spPr>
                <a:xfrm>
                  <a:off x="2792160" y="2371680"/>
                  <a:ext cx="21553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Group 44"/>
              <p:cNvGrpSpPr/>
              <p:nvPr/>
            </p:nvGrpSpPr>
            <p:grpSpPr>
              <a:xfrm>
                <a:off x="181800" y="2628720"/>
                <a:ext cx="2610360" cy="256680"/>
                <a:chOff x="181800" y="2628720"/>
                <a:chExt cx="2610360" cy="256680"/>
              </a:xfrm>
            </p:grpSpPr>
            <p:sp>
              <p:nvSpPr>
                <p:cNvPr id="477" name="Rectangle 15"/>
                <p:cNvSpPr/>
                <p:nvPr/>
              </p:nvSpPr>
              <p:spPr>
                <a:xfrm>
                  <a:off x="221760" y="2628720"/>
                  <a:ext cx="25297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eropor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Rectangle 43"/>
                <p:cNvSpPr/>
                <p:nvPr/>
              </p:nvSpPr>
              <p:spPr>
                <a:xfrm>
                  <a:off x="181800" y="2628720"/>
                  <a:ext cx="26103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Group 46"/>
              <p:cNvGrpSpPr/>
              <p:nvPr/>
            </p:nvGrpSpPr>
            <p:grpSpPr>
              <a:xfrm>
                <a:off x="2792160" y="2628720"/>
                <a:ext cx="2155320" cy="256680"/>
                <a:chOff x="2792160" y="2628720"/>
                <a:chExt cx="2155320" cy="256680"/>
              </a:xfrm>
            </p:grpSpPr>
            <p:sp>
              <p:nvSpPr>
                <p:cNvPr id="480" name="Rectangle 16"/>
                <p:cNvSpPr/>
                <p:nvPr/>
              </p:nvSpPr>
              <p:spPr>
                <a:xfrm>
                  <a:off x="2832480" y="2628720"/>
                  <a:ext cx="207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Rectangle 45"/>
                <p:cNvSpPr/>
                <p:nvPr/>
              </p:nvSpPr>
              <p:spPr>
                <a:xfrm>
                  <a:off x="2792160" y="2628720"/>
                  <a:ext cx="21553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Group 48"/>
              <p:cNvGrpSpPr/>
              <p:nvPr/>
            </p:nvGrpSpPr>
            <p:grpSpPr>
              <a:xfrm>
                <a:off x="181800" y="2885400"/>
                <a:ext cx="2610360" cy="256320"/>
                <a:chOff x="181800" y="2885400"/>
                <a:chExt cx="2610360" cy="256320"/>
              </a:xfrm>
            </p:grpSpPr>
            <p:sp>
              <p:nvSpPr>
                <p:cNvPr id="483" name="Rectangle 17"/>
                <p:cNvSpPr/>
                <p:nvPr/>
              </p:nvSpPr>
              <p:spPr>
                <a:xfrm>
                  <a:off x="221760" y="2885400"/>
                  <a:ext cx="252972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idrovi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Rectangle 47"/>
                <p:cNvSpPr/>
                <p:nvPr/>
              </p:nvSpPr>
              <p:spPr>
                <a:xfrm>
                  <a:off x="181800" y="2885400"/>
                  <a:ext cx="261036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Group 50"/>
              <p:cNvGrpSpPr/>
              <p:nvPr/>
            </p:nvGrpSpPr>
            <p:grpSpPr>
              <a:xfrm>
                <a:off x="2792160" y="2885400"/>
                <a:ext cx="2155320" cy="256320"/>
                <a:chOff x="2792160" y="2885400"/>
                <a:chExt cx="2155320" cy="256320"/>
              </a:xfrm>
            </p:grpSpPr>
            <p:sp>
              <p:nvSpPr>
                <p:cNvPr id="486" name="Rectangle 18"/>
                <p:cNvSpPr/>
                <p:nvPr/>
              </p:nvSpPr>
              <p:spPr>
                <a:xfrm>
                  <a:off x="2832480" y="2885400"/>
                  <a:ext cx="2074320" cy="25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Rectangle 49"/>
                <p:cNvSpPr/>
                <p:nvPr/>
              </p:nvSpPr>
              <p:spPr>
                <a:xfrm>
                  <a:off x="2792160" y="2885400"/>
                  <a:ext cx="2155320" cy="25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Group 52"/>
              <p:cNvGrpSpPr/>
              <p:nvPr/>
            </p:nvGrpSpPr>
            <p:grpSpPr>
              <a:xfrm>
                <a:off x="181800" y="3142080"/>
                <a:ext cx="2610360" cy="256680"/>
                <a:chOff x="181800" y="3142080"/>
                <a:chExt cx="2610360" cy="256680"/>
              </a:xfrm>
            </p:grpSpPr>
            <p:sp>
              <p:nvSpPr>
                <p:cNvPr id="489" name="Rectangle 19"/>
                <p:cNvSpPr/>
                <p:nvPr/>
              </p:nvSpPr>
              <p:spPr>
                <a:xfrm>
                  <a:off x="221760" y="3142080"/>
                  <a:ext cx="25297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arinha Mercan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Rectangle 51"/>
                <p:cNvSpPr/>
                <p:nvPr/>
              </p:nvSpPr>
              <p:spPr>
                <a:xfrm>
                  <a:off x="181800" y="3142080"/>
                  <a:ext cx="26103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Group 54"/>
              <p:cNvGrpSpPr/>
              <p:nvPr/>
            </p:nvGrpSpPr>
            <p:grpSpPr>
              <a:xfrm>
                <a:off x="2792160" y="3142080"/>
                <a:ext cx="2155320" cy="256680"/>
                <a:chOff x="2792160" y="3142080"/>
                <a:chExt cx="2155320" cy="256680"/>
              </a:xfrm>
            </p:grpSpPr>
            <p:sp>
              <p:nvSpPr>
                <p:cNvPr id="492" name="Rectangle 20"/>
                <p:cNvSpPr/>
                <p:nvPr/>
              </p:nvSpPr>
              <p:spPr>
                <a:xfrm>
                  <a:off x="2832480" y="3142080"/>
                  <a:ext cx="207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Rectangle 53"/>
                <p:cNvSpPr/>
                <p:nvPr/>
              </p:nvSpPr>
              <p:spPr>
                <a:xfrm>
                  <a:off x="2792160" y="3142080"/>
                  <a:ext cx="215532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Group 58"/>
              <p:cNvGrpSpPr/>
              <p:nvPr/>
            </p:nvGrpSpPr>
            <p:grpSpPr>
              <a:xfrm>
                <a:off x="181800" y="3398760"/>
                <a:ext cx="2610360" cy="256680"/>
                <a:chOff x="181800" y="3398760"/>
                <a:chExt cx="2610360" cy="256680"/>
              </a:xfrm>
            </p:grpSpPr>
            <p:sp>
              <p:nvSpPr>
                <p:cNvPr id="495" name="Rectangle 57"/>
                <p:cNvSpPr/>
                <p:nvPr/>
              </p:nvSpPr>
              <p:spPr>
                <a:xfrm>
                  <a:off x="181800" y="3398760"/>
                  <a:ext cx="2610360" cy="256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6" name="Group 56"/>
                <p:cNvGrpSpPr/>
                <p:nvPr/>
              </p:nvGrpSpPr>
              <p:grpSpPr>
                <a:xfrm>
                  <a:off x="181800" y="3398760"/>
                  <a:ext cx="2610360" cy="256680"/>
                  <a:chOff x="181800" y="3398760"/>
                  <a:chExt cx="2610360" cy="256680"/>
                </a:xfrm>
              </p:grpSpPr>
              <p:sp>
                <p:nvSpPr>
                  <p:cNvPr id="497" name="Rectangle 21"/>
                  <p:cNvSpPr/>
                  <p:nvPr/>
                </p:nvSpPr>
                <p:spPr>
                  <a:xfrm>
                    <a:off x="221760" y="3398760"/>
                    <a:ext cx="2529720" cy="2566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o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Rectangle 55"/>
                  <p:cNvSpPr/>
                  <p:nvPr/>
                </p:nvSpPr>
                <p:spPr>
                  <a:xfrm>
                    <a:off x="181800" y="3398760"/>
                    <a:ext cx="2610360" cy="256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9" name="Group 62"/>
              <p:cNvGrpSpPr/>
              <p:nvPr/>
            </p:nvGrpSpPr>
            <p:grpSpPr>
              <a:xfrm>
                <a:off x="2792160" y="3398760"/>
                <a:ext cx="2155320" cy="256680"/>
                <a:chOff x="2792160" y="3398760"/>
                <a:chExt cx="2155320" cy="256680"/>
              </a:xfrm>
            </p:grpSpPr>
            <p:sp>
              <p:nvSpPr>
                <p:cNvPr id="500" name="Rectangle 61"/>
                <p:cNvSpPr/>
                <p:nvPr/>
              </p:nvSpPr>
              <p:spPr>
                <a:xfrm>
                  <a:off x="2792160" y="3398760"/>
                  <a:ext cx="2155320" cy="256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" name="Group 60"/>
                <p:cNvGrpSpPr/>
                <p:nvPr/>
              </p:nvGrpSpPr>
              <p:grpSpPr>
                <a:xfrm>
                  <a:off x="2792160" y="3398760"/>
                  <a:ext cx="2155320" cy="256680"/>
                  <a:chOff x="2792160" y="3398760"/>
                  <a:chExt cx="2155320" cy="256680"/>
                </a:xfrm>
              </p:grpSpPr>
              <p:sp>
                <p:nvSpPr>
                  <p:cNvPr id="502" name="Rectangle 22"/>
                  <p:cNvSpPr/>
                  <p:nvPr/>
                </p:nvSpPr>
                <p:spPr>
                  <a:xfrm>
                    <a:off x="2832480" y="3398760"/>
                    <a:ext cx="2074320" cy="2566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  </a:t>
                    </a: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58,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Rectangle 59"/>
                  <p:cNvSpPr/>
                  <p:nvPr/>
                </p:nvSpPr>
                <p:spPr>
                  <a:xfrm>
                    <a:off x="2792160" y="3398760"/>
                    <a:ext cx="2155320" cy="2566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04" name="Rectangle 64"/>
            <p:cNvSpPr/>
            <p:nvPr/>
          </p:nvSpPr>
          <p:spPr>
            <a:xfrm>
              <a:off x="177840" y="1600200"/>
              <a:ext cx="4775040" cy="2057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5" name="Rectangle 66"/>
          <p:cNvSpPr/>
          <p:nvPr/>
        </p:nvSpPr>
        <p:spPr>
          <a:xfrm>
            <a:off x="76320" y="434340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ixo energia: 602 Ações,  53% em obra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Group 113"/>
          <p:cNvGrpSpPr/>
          <p:nvPr/>
        </p:nvGrpSpPr>
        <p:grpSpPr>
          <a:xfrm>
            <a:off x="177840" y="4724280"/>
            <a:ext cx="4775040" cy="1752840"/>
            <a:chOff x="177840" y="4724280"/>
            <a:chExt cx="4775040" cy="1752840"/>
          </a:xfrm>
        </p:grpSpPr>
        <p:grpSp>
          <p:nvGrpSpPr>
            <p:cNvPr id="507" name="Group 111"/>
            <p:cNvGrpSpPr/>
            <p:nvPr/>
          </p:nvGrpSpPr>
          <p:grpSpPr>
            <a:xfrm>
              <a:off x="182160" y="4726080"/>
              <a:ext cx="4765320" cy="1748520"/>
              <a:chOff x="182160" y="4726080"/>
              <a:chExt cx="4765320" cy="1748520"/>
            </a:xfrm>
          </p:grpSpPr>
          <p:grpSp>
            <p:nvGrpSpPr>
              <p:cNvPr id="508" name="Group 82"/>
              <p:cNvGrpSpPr/>
              <p:nvPr/>
            </p:nvGrpSpPr>
            <p:grpSpPr>
              <a:xfrm>
                <a:off x="182160" y="4726080"/>
                <a:ext cx="2577240" cy="291240"/>
                <a:chOff x="182160" y="4726080"/>
                <a:chExt cx="2577240" cy="291240"/>
              </a:xfrm>
            </p:grpSpPr>
            <p:sp>
              <p:nvSpPr>
                <p:cNvPr id="509" name="Rectangle 81"/>
                <p:cNvSpPr/>
                <p:nvPr/>
              </p:nvSpPr>
              <p:spPr>
                <a:xfrm>
                  <a:off x="182160" y="4726080"/>
                  <a:ext cx="2577240" cy="291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Group 80"/>
                <p:cNvGrpSpPr/>
                <p:nvPr/>
              </p:nvGrpSpPr>
              <p:grpSpPr>
                <a:xfrm>
                  <a:off x="182160" y="4726080"/>
                  <a:ext cx="2577240" cy="291240"/>
                  <a:chOff x="182160" y="4726080"/>
                  <a:chExt cx="2577240" cy="291240"/>
                </a:xfrm>
              </p:grpSpPr>
              <p:sp>
                <p:nvSpPr>
                  <p:cNvPr id="511" name="Rectangle 67"/>
                  <p:cNvSpPr/>
                  <p:nvPr/>
                </p:nvSpPr>
                <p:spPr>
                  <a:xfrm>
                    <a:off x="226080" y="4726080"/>
                    <a:ext cx="2488680" cy="2912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p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Rectangle 79"/>
                  <p:cNvSpPr/>
                  <p:nvPr/>
                </p:nvSpPr>
                <p:spPr>
                  <a:xfrm>
                    <a:off x="182160" y="4726080"/>
                    <a:ext cx="2577240" cy="29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3" name="Group 86"/>
              <p:cNvGrpSpPr/>
              <p:nvPr/>
            </p:nvGrpSpPr>
            <p:grpSpPr>
              <a:xfrm>
                <a:off x="2759400" y="4726080"/>
                <a:ext cx="2188080" cy="291240"/>
                <a:chOff x="2759400" y="4726080"/>
                <a:chExt cx="2188080" cy="291240"/>
              </a:xfrm>
            </p:grpSpPr>
            <p:sp>
              <p:nvSpPr>
                <p:cNvPr id="514" name="Rectangle 85"/>
                <p:cNvSpPr/>
                <p:nvPr/>
              </p:nvSpPr>
              <p:spPr>
                <a:xfrm>
                  <a:off x="2759400" y="4726080"/>
                  <a:ext cx="2188080" cy="291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Group 84"/>
                <p:cNvGrpSpPr/>
                <p:nvPr/>
              </p:nvGrpSpPr>
              <p:grpSpPr>
                <a:xfrm>
                  <a:off x="2759400" y="4726080"/>
                  <a:ext cx="2188080" cy="291240"/>
                  <a:chOff x="2759400" y="4726080"/>
                  <a:chExt cx="2188080" cy="291240"/>
                </a:xfrm>
              </p:grpSpPr>
              <p:sp>
                <p:nvSpPr>
                  <p:cNvPr id="516" name="Rectangle 68"/>
                  <p:cNvSpPr/>
                  <p:nvPr/>
                </p:nvSpPr>
                <p:spPr>
                  <a:xfrm>
                    <a:off x="2803320" y="4726080"/>
                    <a:ext cx="2099520" cy="2912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cursos (R$ bilhõe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83"/>
                  <p:cNvSpPr/>
                  <p:nvPr/>
                </p:nvSpPr>
                <p:spPr>
                  <a:xfrm>
                    <a:off x="2759400" y="4726080"/>
                    <a:ext cx="2188080" cy="29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Group 88"/>
              <p:cNvGrpSpPr/>
              <p:nvPr/>
            </p:nvGrpSpPr>
            <p:grpSpPr>
              <a:xfrm>
                <a:off x="182160" y="5017320"/>
                <a:ext cx="2577240" cy="291240"/>
                <a:chOff x="182160" y="5017320"/>
                <a:chExt cx="2577240" cy="291240"/>
              </a:xfrm>
            </p:grpSpPr>
            <p:sp>
              <p:nvSpPr>
                <p:cNvPr id="519" name="Rectangle 69"/>
                <p:cNvSpPr/>
                <p:nvPr/>
              </p:nvSpPr>
              <p:spPr>
                <a:xfrm>
                  <a:off x="226080" y="5017320"/>
                  <a:ext cx="24886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ctr" pos="2806560"/>
                      <a:tab algn="ctr" pos="352908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Ger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Rectangle 87"/>
                <p:cNvSpPr/>
                <p:nvPr/>
              </p:nvSpPr>
              <p:spPr>
                <a:xfrm>
                  <a:off x="182160" y="5017320"/>
                  <a:ext cx="2577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90"/>
              <p:cNvGrpSpPr/>
              <p:nvPr/>
            </p:nvGrpSpPr>
            <p:grpSpPr>
              <a:xfrm>
                <a:off x="2759400" y="5017320"/>
                <a:ext cx="2188080" cy="291240"/>
                <a:chOff x="2759400" y="5017320"/>
                <a:chExt cx="2188080" cy="291240"/>
              </a:xfrm>
            </p:grpSpPr>
            <p:sp>
              <p:nvSpPr>
                <p:cNvPr id="522" name="Rectangle 70"/>
                <p:cNvSpPr/>
                <p:nvPr/>
              </p:nvSpPr>
              <p:spPr>
                <a:xfrm>
                  <a:off x="2803320" y="5017320"/>
                  <a:ext cx="2099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5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9"/>
                <p:cNvSpPr/>
                <p:nvPr/>
              </p:nvSpPr>
              <p:spPr>
                <a:xfrm>
                  <a:off x="2759400" y="5017320"/>
                  <a:ext cx="218808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92"/>
              <p:cNvGrpSpPr/>
              <p:nvPr/>
            </p:nvGrpSpPr>
            <p:grpSpPr>
              <a:xfrm>
                <a:off x="182160" y="5308920"/>
                <a:ext cx="2577240" cy="291240"/>
                <a:chOff x="182160" y="5308920"/>
                <a:chExt cx="2577240" cy="291240"/>
              </a:xfrm>
            </p:grpSpPr>
            <p:sp>
              <p:nvSpPr>
                <p:cNvPr id="525" name="Rectangle 71"/>
                <p:cNvSpPr/>
                <p:nvPr/>
              </p:nvSpPr>
              <p:spPr>
                <a:xfrm>
                  <a:off x="226080" y="5308920"/>
                  <a:ext cx="24886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ransmiss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Rectangle 91"/>
                <p:cNvSpPr/>
                <p:nvPr/>
              </p:nvSpPr>
              <p:spPr>
                <a:xfrm>
                  <a:off x="182160" y="5308920"/>
                  <a:ext cx="2577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Group 94"/>
              <p:cNvGrpSpPr/>
              <p:nvPr/>
            </p:nvGrpSpPr>
            <p:grpSpPr>
              <a:xfrm>
                <a:off x="2759400" y="5308920"/>
                <a:ext cx="2188080" cy="291240"/>
                <a:chOff x="2759400" y="5308920"/>
                <a:chExt cx="2188080" cy="291240"/>
              </a:xfrm>
            </p:grpSpPr>
            <p:sp>
              <p:nvSpPr>
                <p:cNvPr id="528" name="Rectangle 72"/>
                <p:cNvSpPr/>
                <p:nvPr/>
              </p:nvSpPr>
              <p:spPr>
                <a:xfrm>
                  <a:off x="2803320" y="5308920"/>
                  <a:ext cx="2099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Rectangle 93"/>
                <p:cNvSpPr/>
                <p:nvPr/>
              </p:nvSpPr>
              <p:spPr>
                <a:xfrm>
                  <a:off x="2759400" y="5308920"/>
                  <a:ext cx="218808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Group 96"/>
              <p:cNvGrpSpPr/>
              <p:nvPr/>
            </p:nvGrpSpPr>
            <p:grpSpPr>
              <a:xfrm>
                <a:off x="182160" y="5600520"/>
                <a:ext cx="2577240" cy="291240"/>
                <a:chOff x="182160" y="5600520"/>
                <a:chExt cx="2577240" cy="291240"/>
              </a:xfrm>
            </p:grpSpPr>
            <p:sp>
              <p:nvSpPr>
                <p:cNvPr id="531" name="Rectangle 73"/>
                <p:cNvSpPr/>
                <p:nvPr/>
              </p:nvSpPr>
              <p:spPr>
                <a:xfrm>
                  <a:off x="226080" y="5600520"/>
                  <a:ext cx="24886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tróleo e Gá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Rectangle 95"/>
                <p:cNvSpPr/>
                <p:nvPr/>
              </p:nvSpPr>
              <p:spPr>
                <a:xfrm>
                  <a:off x="182160" y="5600520"/>
                  <a:ext cx="2577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Group 98"/>
              <p:cNvGrpSpPr/>
              <p:nvPr/>
            </p:nvGrpSpPr>
            <p:grpSpPr>
              <a:xfrm>
                <a:off x="2759400" y="5600520"/>
                <a:ext cx="2188080" cy="291240"/>
                <a:chOff x="2759400" y="5600520"/>
                <a:chExt cx="2188080" cy="291240"/>
              </a:xfrm>
            </p:grpSpPr>
            <p:sp>
              <p:nvSpPr>
                <p:cNvPr id="534" name="Rectangle 74"/>
                <p:cNvSpPr/>
                <p:nvPr/>
              </p:nvSpPr>
              <p:spPr>
                <a:xfrm>
                  <a:off x="2803320" y="5600520"/>
                  <a:ext cx="2099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9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97"/>
                <p:cNvSpPr/>
                <p:nvPr/>
              </p:nvSpPr>
              <p:spPr>
                <a:xfrm>
                  <a:off x="2759400" y="5600520"/>
                  <a:ext cx="218808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Group 100"/>
              <p:cNvGrpSpPr/>
              <p:nvPr/>
            </p:nvGrpSpPr>
            <p:grpSpPr>
              <a:xfrm>
                <a:off x="182160" y="5891760"/>
                <a:ext cx="2577240" cy="291240"/>
                <a:chOff x="182160" y="5891760"/>
                <a:chExt cx="2577240" cy="291240"/>
              </a:xfrm>
            </p:grpSpPr>
            <p:sp>
              <p:nvSpPr>
                <p:cNvPr id="537" name="Rectangle 75"/>
                <p:cNvSpPr/>
                <p:nvPr/>
              </p:nvSpPr>
              <p:spPr>
                <a:xfrm>
                  <a:off x="226080" y="5891760"/>
                  <a:ext cx="24886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ombustíveis Renováve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99"/>
                <p:cNvSpPr/>
                <p:nvPr/>
              </p:nvSpPr>
              <p:spPr>
                <a:xfrm>
                  <a:off x="182160" y="5891760"/>
                  <a:ext cx="2577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Group 102"/>
              <p:cNvGrpSpPr/>
              <p:nvPr/>
            </p:nvGrpSpPr>
            <p:grpSpPr>
              <a:xfrm>
                <a:off x="2759400" y="5891760"/>
                <a:ext cx="2188080" cy="291240"/>
                <a:chOff x="2759400" y="5891760"/>
                <a:chExt cx="2188080" cy="291240"/>
              </a:xfrm>
            </p:grpSpPr>
            <p:sp>
              <p:nvSpPr>
                <p:cNvPr id="540" name="Rectangle 76"/>
                <p:cNvSpPr/>
                <p:nvPr/>
              </p:nvSpPr>
              <p:spPr>
                <a:xfrm>
                  <a:off x="2803320" y="5891760"/>
                  <a:ext cx="2099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7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01"/>
                <p:cNvSpPr/>
                <p:nvPr/>
              </p:nvSpPr>
              <p:spPr>
                <a:xfrm>
                  <a:off x="2759400" y="5891760"/>
                  <a:ext cx="218808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Group 106"/>
              <p:cNvGrpSpPr/>
              <p:nvPr/>
            </p:nvGrpSpPr>
            <p:grpSpPr>
              <a:xfrm>
                <a:off x="182160" y="6183360"/>
                <a:ext cx="2577240" cy="291240"/>
                <a:chOff x="182160" y="6183360"/>
                <a:chExt cx="2577240" cy="291240"/>
              </a:xfrm>
            </p:grpSpPr>
            <p:sp>
              <p:nvSpPr>
                <p:cNvPr id="543" name="Rectangle 105"/>
                <p:cNvSpPr/>
                <p:nvPr/>
              </p:nvSpPr>
              <p:spPr>
                <a:xfrm>
                  <a:off x="182160" y="6183360"/>
                  <a:ext cx="2577240" cy="291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4" name="Group 104"/>
                <p:cNvGrpSpPr/>
                <p:nvPr/>
              </p:nvGrpSpPr>
              <p:grpSpPr>
                <a:xfrm>
                  <a:off x="182160" y="6183360"/>
                  <a:ext cx="2577240" cy="291240"/>
                  <a:chOff x="182160" y="6183360"/>
                  <a:chExt cx="2577240" cy="291240"/>
                </a:xfrm>
              </p:grpSpPr>
              <p:sp>
                <p:nvSpPr>
                  <p:cNvPr id="545" name="Rectangle 77"/>
                  <p:cNvSpPr/>
                  <p:nvPr/>
                </p:nvSpPr>
                <p:spPr>
                  <a:xfrm>
                    <a:off x="226080" y="6183360"/>
                    <a:ext cx="2488680" cy="2912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o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Rectangle 103"/>
                  <p:cNvSpPr/>
                  <p:nvPr/>
                </p:nvSpPr>
                <p:spPr>
                  <a:xfrm>
                    <a:off x="182160" y="6183360"/>
                    <a:ext cx="2577240" cy="29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7" name="Group 110"/>
              <p:cNvGrpSpPr/>
              <p:nvPr/>
            </p:nvGrpSpPr>
            <p:grpSpPr>
              <a:xfrm>
                <a:off x="2759400" y="6183360"/>
                <a:ext cx="2188080" cy="291240"/>
                <a:chOff x="2759400" y="6183360"/>
                <a:chExt cx="2188080" cy="291240"/>
              </a:xfrm>
            </p:grpSpPr>
            <p:sp>
              <p:nvSpPr>
                <p:cNvPr id="548" name="Rectangle 109"/>
                <p:cNvSpPr/>
                <p:nvPr/>
              </p:nvSpPr>
              <p:spPr>
                <a:xfrm>
                  <a:off x="2759400" y="6183360"/>
                  <a:ext cx="2188080" cy="2912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Group 108"/>
                <p:cNvGrpSpPr/>
                <p:nvPr/>
              </p:nvGrpSpPr>
              <p:grpSpPr>
                <a:xfrm>
                  <a:off x="2759400" y="6183360"/>
                  <a:ext cx="2188080" cy="291240"/>
                  <a:chOff x="2759400" y="6183360"/>
                  <a:chExt cx="2188080" cy="291240"/>
                </a:xfrm>
              </p:grpSpPr>
              <p:sp>
                <p:nvSpPr>
                  <p:cNvPr id="550" name="Rectangle 78"/>
                  <p:cNvSpPr/>
                  <p:nvPr/>
                </p:nvSpPr>
                <p:spPr>
                  <a:xfrm>
                    <a:off x="2803320" y="6183360"/>
                    <a:ext cx="2099520" cy="29124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74,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Rectangle 107"/>
                  <p:cNvSpPr/>
                  <p:nvPr/>
                </p:nvSpPr>
                <p:spPr>
                  <a:xfrm>
                    <a:off x="2759400" y="6183360"/>
                    <a:ext cx="2188080" cy="2912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52" name="Rectangle 112"/>
            <p:cNvSpPr/>
            <p:nvPr/>
          </p:nvSpPr>
          <p:spPr>
            <a:xfrm>
              <a:off x="177840" y="4724280"/>
              <a:ext cx="4775040" cy="1752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Rectangle 114"/>
          <p:cNvSpPr/>
          <p:nvPr/>
        </p:nvSpPr>
        <p:spPr>
          <a:xfrm>
            <a:off x="5029200" y="198108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ixo social e urbano: 212 ações, 32% em obras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167"/>
          <p:cNvGrpSpPr/>
          <p:nvPr/>
        </p:nvGrpSpPr>
        <p:grpSpPr>
          <a:xfrm>
            <a:off x="5130720" y="2362320"/>
            <a:ext cx="3353040" cy="3047760"/>
            <a:chOff x="5130720" y="2362320"/>
            <a:chExt cx="3353040" cy="3047760"/>
          </a:xfrm>
        </p:grpSpPr>
        <p:grpSp>
          <p:nvGrpSpPr>
            <p:cNvPr id="555" name="Group 165"/>
            <p:cNvGrpSpPr/>
            <p:nvPr/>
          </p:nvGrpSpPr>
          <p:grpSpPr>
            <a:xfrm>
              <a:off x="5133600" y="2365200"/>
              <a:ext cx="3346560" cy="3041280"/>
              <a:chOff x="5133600" y="2365200"/>
              <a:chExt cx="3346560" cy="3041280"/>
            </a:xfrm>
          </p:grpSpPr>
          <p:grpSp>
            <p:nvGrpSpPr>
              <p:cNvPr id="556" name="Group 132"/>
              <p:cNvGrpSpPr/>
              <p:nvPr/>
            </p:nvGrpSpPr>
            <p:grpSpPr>
              <a:xfrm>
                <a:off x="5133600" y="2365200"/>
                <a:ext cx="1810080" cy="434520"/>
                <a:chOff x="5133600" y="2365200"/>
                <a:chExt cx="1810080" cy="434520"/>
              </a:xfrm>
            </p:grpSpPr>
            <p:sp>
              <p:nvSpPr>
                <p:cNvPr id="557" name="Rectangle 131"/>
                <p:cNvSpPr/>
                <p:nvPr/>
              </p:nvSpPr>
              <p:spPr>
                <a:xfrm>
                  <a:off x="5133600" y="2365200"/>
                  <a:ext cx="1810080" cy="4345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8" name="Group 130"/>
                <p:cNvGrpSpPr/>
                <p:nvPr/>
              </p:nvGrpSpPr>
              <p:grpSpPr>
                <a:xfrm>
                  <a:off x="5133600" y="2365200"/>
                  <a:ext cx="1810080" cy="434520"/>
                  <a:chOff x="5133600" y="2365200"/>
                  <a:chExt cx="1810080" cy="434520"/>
                </a:xfrm>
              </p:grpSpPr>
              <p:sp>
                <p:nvSpPr>
                  <p:cNvPr id="559" name="Rectangle 115"/>
                  <p:cNvSpPr/>
                  <p:nvPr/>
                </p:nvSpPr>
                <p:spPr>
                  <a:xfrm>
                    <a:off x="5161320" y="2365200"/>
                    <a:ext cx="1753560" cy="434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ip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Rectangle 129"/>
                  <p:cNvSpPr/>
                  <p:nvPr/>
                </p:nvSpPr>
                <p:spPr>
                  <a:xfrm>
                    <a:off x="5133600" y="2365200"/>
                    <a:ext cx="1810080" cy="43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1" name="Group 136"/>
              <p:cNvGrpSpPr/>
              <p:nvPr/>
            </p:nvGrpSpPr>
            <p:grpSpPr>
              <a:xfrm>
                <a:off x="6943680" y="2365200"/>
                <a:ext cx="1536480" cy="434520"/>
                <a:chOff x="6943680" y="2365200"/>
                <a:chExt cx="1536480" cy="434520"/>
              </a:xfrm>
            </p:grpSpPr>
            <p:sp>
              <p:nvSpPr>
                <p:cNvPr id="562" name="Rectangle 135"/>
                <p:cNvSpPr/>
                <p:nvPr/>
              </p:nvSpPr>
              <p:spPr>
                <a:xfrm>
                  <a:off x="6943680" y="2365200"/>
                  <a:ext cx="1536480" cy="4345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3" name="Group 134"/>
                <p:cNvGrpSpPr/>
                <p:nvPr/>
              </p:nvGrpSpPr>
              <p:grpSpPr>
                <a:xfrm>
                  <a:off x="6943680" y="2365200"/>
                  <a:ext cx="1536480" cy="434520"/>
                  <a:chOff x="6943680" y="2365200"/>
                  <a:chExt cx="1536480" cy="434520"/>
                </a:xfrm>
              </p:grpSpPr>
              <p:sp>
                <p:nvSpPr>
                  <p:cNvPr id="564" name="Rectangle 116"/>
                  <p:cNvSpPr/>
                  <p:nvPr/>
                </p:nvSpPr>
                <p:spPr>
                  <a:xfrm>
                    <a:off x="6971400" y="2365200"/>
                    <a:ext cx="1479960" cy="434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Recursos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R$ bilhões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Rectangle 133"/>
                  <p:cNvSpPr/>
                  <p:nvPr/>
                </p:nvSpPr>
                <p:spPr>
                  <a:xfrm>
                    <a:off x="6943680" y="2365200"/>
                    <a:ext cx="1536480" cy="43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6" name="Group 138"/>
              <p:cNvGrpSpPr/>
              <p:nvPr/>
            </p:nvGrpSpPr>
            <p:grpSpPr>
              <a:xfrm>
                <a:off x="5133600" y="2799720"/>
                <a:ext cx="1810080" cy="434520"/>
                <a:chOff x="5133600" y="2799720"/>
                <a:chExt cx="1810080" cy="434520"/>
              </a:xfrm>
            </p:grpSpPr>
            <p:sp>
              <p:nvSpPr>
                <p:cNvPr id="567" name="Rectangle 117"/>
                <p:cNvSpPr/>
                <p:nvPr/>
              </p:nvSpPr>
              <p:spPr>
                <a:xfrm>
                  <a:off x="5161320" y="2799720"/>
                  <a:ext cx="17535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uz Para Tod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137"/>
                <p:cNvSpPr/>
                <p:nvPr/>
              </p:nvSpPr>
              <p:spPr>
                <a:xfrm>
                  <a:off x="5133600" y="2799720"/>
                  <a:ext cx="18100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140"/>
              <p:cNvGrpSpPr/>
              <p:nvPr/>
            </p:nvGrpSpPr>
            <p:grpSpPr>
              <a:xfrm>
                <a:off x="6943680" y="2799720"/>
                <a:ext cx="1536480" cy="434520"/>
                <a:chOff x="6943680" y="2799720"/>
                <a:chExt cx="1536480" cy="434520"/>
              </a:xfrm>
            </p:grpSpPr>
            <p:sp>
              <p:nvSpPr>
                <p:cNvPr id="570" name="Rectangle 118"/>
                <p:cNvSpPr/>
                <p:nvPr/>
              </p:nvSpPr>
              <p:spPr>
                <a:xfrm>
                  <a:off x="6971400" y="2799720"/>
                  <a:ext cx="14799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139"/>
                <p:cNvSpPr/>
                <p:nvPr/>
              </p:nvSpPr>
              <p:spPr>
                <a:xfrm>
                  <a:off x="6943680" y="2799720"/>
                  <a:ext cx="15364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142"/>
              <p:cNvGrpSpPr/>
              <p:nvPr/>
            </p:nvGrpSpPr>
            <p:grpSpPr>
              <a:xfrm>
                <a:off x="5133600" y="3234240"/>
                <a:ext cx="1810080" cy="434520"/>
                <a:chOff x="5133600" y="3234240"/>
                <a:chExt cx="1810080" cy="434520"/>
              </a:xfrm>
            </p:grpSpPr>
            <p:sp>
              <p:nvSpPr>
                <p:cNvPr id="573" name="Rectangle 119"/>
                <p:cNvSpPr/>
                <p:nvPr/>
              </p:nvSpPr>
              <p:spPr>
                <a:xfrm>
                  <a:off x="5161320" y="3234240"/>
                  <a:ext cx="17535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ane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Rectangle 141"/>
                <p:cNvSpPr/>
                <p:nvPr/>
              </p:nvSpPr>
              <p:spPr>
                <a:xfrm>
                  <a:off x="5133600" y="3234240"/>
                  <a:ext cx="18100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144"/>
              <p:cNvGrpSpPr/>
              <p:nvPr/>
            </p:nvGrpSpPr>
            <p:grpSpPr>
              <a:xfrm>
                <a:off x="6943680" y="3234240"/>
                <a:ext cx="1536480" cy="434520"/>
                <a:chOff x="6943680" y="3234240"/>
                <a:chExt cx="1536480" cy="434520"/>
              </a:xfrm>
            </p:grpSpPr>
            <p:sp>
              <p:nvSpPr>
                <p:cNvPr id="576" name="Rectangle 120"/>
                <p:cNvSpPr/>
                <p:nvPr/>
              </p:nvSpPr>
              <p:spPr>
                <a:xfrm>
                  <a:off x="6971400" y="3234240"/>
                  <a:ext cx="14799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0,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Rectangle 143"/>
                <p:cNvSpPr/>
                <p:nvPr/>
              </p:nvSpPr>
              <p:spPr>
                <a:xfrm>
                  <a:off x="6943680" y="3234240"/>
                  <a:ext cx="15364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146"/>
              <p:cNvGrpSpPr/>
              <p:nvPr/>
            </p:nvGrpSpPr>
            <p:grpSpPr>
              <a:xfrm>
                <a:off x="5133600" y="3668760"/>
                <a:ext cx="1810080" cy="434520"/>
                <a:chOff x="5133600" y="3668760"/>
                <a:chExt cx="1810080" cy="434520"/>
              </a:xfrm>
            </p:grpSpPr>
            <p:sp>
              <p:nvSpPr>
                <p:cNvPr id="579" name="Rectangle 121"/>
                <p:cNvSpPr/>
                <p:nvPr/>
              </p:nvSpPr>
              <p:spPr>
                <a:xfrm>
                  <a:off x="5161320" y="3668760"/>
                  <a:ext cx="17535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abita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145"/>
                <p:cNvSpPr/>
                <p:nvPr/>
              </p:nvSpPr>
              <p:spPr>
                <a:xfrm>
                  <a:off x="5133600" y="3668760"/>
                  <a:ext cx="18100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148"/>
              <p:cNvGrpSpPr/>
              <p:nvPr/>
            </p:nvGrpSpPr>
            <p:grpSpPr>
              <a:xfrm>
                <a:off x="6943680" y="3668760"/>
                <a:ext cx="1536480" cy="434520"/>
                <a:chOff x="6943680" y="3668760"/>
                <a:chExt cx="1536480" cy="434520"/>
              </a:xfrm>
            </p:grpSpPr>
            <p:sp>
              <p:nvSpPr>
                <p:cNvPr id="582" name="Rectangle 122"/>
                <p:cNvSpPr/>
                <p:nvPr/>
              </p:nvSpPr>
              <p:spPr>
                <a:xfrm>
                  <a:off x="6971400" y="3668760"/>
                  <a:ext cx="14799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6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147"/>
                <p:cNvSpPr/>
                <p:nvPr/>
              </p:nvSpPr>
              <p:spPr>
                <a:xfrm>
                  <a:off x="6943680" y="3668760"/>
                  <a:ext cx="15364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150"/>
              <p:cNvGrpSpPr/>
              <p:nvPr/>
            </p:nvGrpSpPr>
            <p:grpSpPr>
              <a:xfrm>
                <a:off x="5133600" y="4103280"/>
                <a:ext cx="1810080" cy="434520"/>
                <a:chOff x="5133600" y="4103280"/>
                <a:chExt cx="1810080" cy="434520"/>
              </a:xfrm>
            </p:grpSpPr>
            <p:sp>
              <p:nvSpPr>
                <p:cNvPr id="585" name="Rectangle 123"/>
                <p:cNvSpPr/>
                <p:nvPr/>
              </p:nvSpPr>
              <p:spPr>
                <a:xfrm>
                  <a:off x="5161320" y="4103280"/>
                  <a:ext cx="17535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cursos Hídric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149"/>
                <p:cNvSpPr/>
                <p:nvPr/>
              </p:nvSpPr>
              <p:spPr>
                <a:xfrm>
                  <a:off x="5133600" y="4103280"/>
                  <a:ext cx="18100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Group 152"/>
              <p:cNvGrpSpPr/>
              <p:nvPr/>
            </p:nvGrpSpPr>
            <p:grpSpPr>
              <a:xfrm>
                <a:off x="6943680" y="4103280"/>
                <a:ext cx="1536480" cy="434520"/>
                <a:chOff x="6943680" y="4103280"/>
                <a:chExt cx="1536480" cy="434520"/>
              </a:xfrm>
            </p:grpSpPr>
            <p:sp>
              <p:nvSpPr>
                <p:cNvPr id="588" name="Rectangle 124"/>
                <p:cNvSpPr/>
                <p:nvPr/>
              </p:nvSpPr>
              <p:spPr>
                <a:xfrm>
                  <a:off x="6971400" y="4103280"/>
                  <a:ext cx="1479960" cy="43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151"/>
                <p:cNvSpPr/>
                <p:nvPr/>
              </p:nvSpPr>
              <p:spPr>
                <a:xfrm>
                  <a:off x="6943680" y="4103280"/>
                  <a:ext cx="1536480" cy="434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154"/>
              <p:cNvGrpSpPr/>
              <p:nvPr/>
            </p:nvGrpSpPr>
            <p:grpSpPr>
              <a:xfrm>
                <a:off x="5133600" y="4537800"/>
                <a:ext cx="1810080" cy="434160"/>
                <a:chOff x="5133600" y="4537800"/>
                <a:chExt cx="1810080" cy="434160"/>
              </a:xfrm>
            </p:grpSpPr>
            <p:sp>
              <p:nvSpPr>
                <p:cNvPr id="591" name="Rectangle 125"/>
                <p:cNvSpPr/>
                <p:nvPr/>
              </p:nvSpPr>
              <p:spPr>
                <a:xfrm>
                  <a:off x="5161320" y="4537800"/>
                  <a:ext cx="175356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etrô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153"/>
                <p:cNvSpPr/>
                <p:nvPr/>
              </p:nvSpPr>
              <p:spPr>
                <a:xfrm>
                  <a:off x="5133600" y="4537800"/>
                  <a:ext cx="1810080" cy="4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Group 156"/>
              <p:cNvGrpSpPr/>
              <p:nvPr/>
            </p:nvGrpSpPr>
            <p:grpSpPr>
              <a:xfrm>
                <a:off x="6943680" y="4537800"/>
                <a:ext cx="1536480" cy="434160"/>
                <a:chOff x="6943680" y="4537800"/>
                <a:chExt cx="1536480" cy="434160"/>
              </a:xfrm>
            </p:grpSpPr>
            <p:sp>
              <p:nvSpPr>
                <p:cNvPr id="594" name="Rectangle 126"/>
                <p:cNvSpPr/>
                <p:nvPr/>
              </p:nvSpPr>
              <p:spPr>
                <a:xfrm>
                  <a:off x="6971400" y="4537800"/>
                  <a:ext cx="1479960" cy="43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55"/>
                <p:cNvSpPr/>
                <p:nvPr/>
              </p:nvSpPr>
              <p:spPr>
                <a:xfrm>
                  <a:off x="6943680" y="4537800"/>
                  <a:ext cx="1536480" cy="434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160"/>
              <p:cNvGrpSpPr/>
              <p:nvPr/>
            </p:nvGrpSpPr>
            <p:grpSpPr>
              <a:xfrm>
                <a:off x="5133600" y="4971960"/>
                <a:ext cx="1810080" cy="434520"/>
                <a:chOff x="5133600" y="4971960"/>
                <a:chExt cx="1810080" cy="434520"/>
              </a:xfrm>
            </p:grpSpPr>
            <p:sp>
              <p:nvSpPr>
                <p:cNvPr id="597" name="Rectangle 159"/>
                <p:cNvSpPr/>
                <p:nvPr/>
              </p:nvSpPr>
              <p:spPr>
                <a:xfrm>
                  <a:off x="5133600" y="4971960"/>
                  <a:ext cx="1810080" cy="4345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8" name="Group 158"/>
                <p:cNvGrpSpPr/>
                <p:nvPr/>
              </p:nvGrpSpPr>
              <p:grpSpPr>
                <a:xfrm>
                  <a:off x="5133600" y="4971960"/>
                  <a:ext cx="1810080" cy="434520"/>
                  <a:chOff x="5133600" y="4971960"/>
                  <a:chExt cx="1810080" cy="434520"/>
                </a:xfrm>
              </p:grpSpPr>
              <p:sp>
                <p:nvSpPr>
                  <p:cNvPr id="599" name="Rectangle 127"/>
                  <p:cNvSpPr/>
                  <p:nvPr/>
                </p:nvSpPr>
                <p:spPr>
                  <a:xfrm>
                    <a:off x="5161320" y="4971960"/>
                    <a:ext cx="1753560" cy="434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o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Rectangle 157"/>
                  <p:cNvSpPr/>
                  <p:nvPr/>
                </p:nvSpPr>
                <p:spPr>
                  <a:xfrm>
                    <a:off x="5133600" y="4971960"/>
                    <a:ext cx="1810080" cy="43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1" name="Group 164"/>
              <p:cNvGrpSpPr/>
              <p:nvPr/>
            </p:nvGrpSpPr>
            <p:grpSpPr>
              <a:xfrm>
                <a:off x="6943680" y="4971960"/>
                <a:ext cx="1536480" cy="434520"/>
                <a:chOff x="6943680" y="4971960"/>
                <a:chExt cx="1536480" cy="434520"/>
              </a:xfrm>
            </p:grpSpPr>
            <p:sp>
              <p:nvSpPr>
                <p:cNvPr id="602" name="Rectangle 163"/>
                <p:cNvSpPr/>
                <p:nvPr/>
              </p:nvSpPr>
              <p:spPr>
                <a:xfrm>
                  <a:off x="6943680" y="4971960"/>
                  <a:ext cx="1536480" cy="4345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3" name="Group 162"/>
                <p:cNvGrpSpPr/>
                <p:nvPr/>
              </p:nvGrpSpPr>
              <p:grpSpPr>
                <a:xfrm>
                  <a:off x="6943680" y="4971960"/>
                  <a:ext cx="1536480" cy="434520"/>
                  <a:chOff x="6943680" y="4971960"/>
                  <a:chExt cx="1536480" cy="434520"/>
                </a:xfrm>
              </p:grpSpPr>
              <p:sp>
                <p:nvSpPr>
                  <p:cNvPr id="604" name="Rectangle 128"/>
                  <p:cNvSpPr/>
                  <p:nvPr/>
                </p:nvSpPr>
                <p:spPr>
                  <a:xfrm>
                    <a:off x="6971400" y="4971960"/>
                    <a:ext cx="1479960" cy="43452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70,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Rectangle 161"/>
                  <p:cNvSpPr/>
                  <p:nvPr/>
                </p:nvSpPr>
                <p:spPr>
                  <a:xfrm>
                    <a:off x="6943680" y="4971960"/>
                    <a:ext cx="1536480" cy="434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06" name="Rectangle 166"/>
            <p:cNvSpPr/>
            <p:nvPr/>
          </p:nvSpPr>
          <p:spPr>
            <a:xfrm>
              <a:off x="5130720" y="2362320"/>
              <a:ext cx="3353040" cy="3047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2039400" y="228600"/>
            <a:ext cx="506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: CRESCIMENTO ACELERADO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"/>
          <p:cNvSpPr/>
          <p:nvPr/>
        </p:nvSpPr>
        <p:spPr>
          <a:xfrm>
            <a:off x="228600" y="76212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Tabela de desonerações do PAC – em R$ bilhõ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375"/>
          <p:cNvGrpSpPr/>
          <p:nvPr/>
        </p:nvGrpSpPr>
        <p:grpSpPr>
          <a:xfrm>
            <a:off x="228600" y="1066680"/>
            <a:ext cx="8762760" cy="5410440"/>
            <a:chOff x="228600" y="1066680"/>
            <a:chExt cx="8762760" cy="5410440"/>
          </a:xfrm>
        </p:grpSpPr>
        <p:grpSp>
          <p:nvGrpSpPr>
            <p:cNvPr id="610" name="Group 373"/>
            <p:cNvGrpSpPr/>
            <p:nvPr/>
          </p:nvGrpSpPr>
          <p:grpSpPr>
            <a:xfrm>
              <a:off x="235080" y="1069200"/>
              <a:ext cx="8749080" cy="5405040"/>
              <a:chOff x="235080" y="1069200"/>
              <a:chExt cx="8749080" cy="5405040"/>
            </a:xfrm>
          </p:grpSpPr>
          <p:grpSp>
            <p:nvGrpSpPr>
              <p:cNvPr id="611" name="Group 220"/>
              <p:cNvGrpSpPr/>
              <p:nvPr/>
            </p:nvGrpSpPr>
            <p:grpSpPr>
              <a:xfrm>
                <a:off x="235080" y="1069200"/>
                <a:ext cx="6783840" cy="380160"/>
                <a:chOff x="235080" y="1069200"/>
                <a:chExt cx="6783840" cy="380160"/>
              </a:xfrm>
            </p:grpSpPr>
            <p:sp>
              <p:nvSpPr>
                <p:cNvPr id="612" name="Rectangle 219"/>
                <p:cNvSpPr/>
                <p:nvPr/>
              </p:nvSpPr>
              <p:spPr>
                <a:xfrm>
                  <a:off x="235080" y="1069200"/>
                  <a:ext cx="678384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3" name="Group 218"/>
                <p:cNvGrpSpPr/>
                <p:nvPr/>
              </p:nvGrpSpPr>
              <p:grpSpPr>
                <a:xfrm>
                  <a:off x="235080" y="1069200"/>
                  <a:ext cx="6783480" cy="369000"/>
                  <a:chOff x="235080" y="1069200"/>
                  <a:chExt cx="6783480" cy="369000"/>
                </a:xfrm>
              </p:grpSpPr>
              <p:sp>
                <p:nvSpPr>
                  <p:cNvPr id="614" name="Rectangle 166"/>
                  <p:cNvSpPr/>
                  <p:nvPr/>
                </p:nvSpPr>
                <p:spPr>
                  <a:xfrm>
                    <a:off x="394560" y="1074600"/>
                    <a:ext cx="661104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Rectangle 217"/>
                  <p:cNvSpPr/>
                  <p:nvPr/>
                </p:nvSpPr>
                <p:spPr>
                  <a:xfrm>
                    <a:off x="235080" y="1069200"/>
                    <a:ext cx="678348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6" name="Group 224"/>
              <p:cNvGrpSpPr/>
              <p:nvPr/>
            </p:nvGrpSpPr>
            <p:grpSpPr>
              <a:xfrm>
                <a:off x="7019280" y="1069200"/>
                <a:ext cx="982080" cy="380160"/>
                <a:chOff x="7019280" y="1069200"/>
                <a:chExt cx="982080" cy="380160"/>
              </a:xfrm>
            </p:grpSpPr>
            <p:sp>
              <p:nvSpPr>
                <p:cNvPr id="617" name="Rectangle 223"/>
                <p:cNvSpPr/>
                <p:nvPr/>
              </p:nvSpPr>
              <p:spPr>
                <a:xfrm>
                  <a:off x="7019280" y="1069200"/>
                  <a:ext cx="98208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8" name="Group 222"/>
                <p:cNvGrpSpPr/>
                <p:nvPr/>
              </p:nvGrpSpPr>
              <p:grpSpPr>
                <a:xfrm>
                  <a:off x="7019280" y="1069200"/>
                  <a:ext cx="981720" cy="369000"/>
                  <a:chOff x="7019280" y="1069200"/>
                  <a:chExt cx="981720" cy="369000"/>
                </a:xfrm>
              </p:grpSpPr>
              <p:sp>
                <p:nvSpPr>
                  <p:cNvPr id="619" name="Rectangle 167"/>
                  <p:cNvSpPr/>
                  <p:nvPr/>
                </p:nvSpPr>
                <p:spPr>
                  <a:xfrm>
                    <a:off x="7032600" y="1074600"/>
                    <a:ext cx="95508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0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Rectangle 221"/>
                  <p:cNvSpPr/>
                  <p:nvPr/>
                </p:nvSpPr>
                <p:spPr>
                  <a:xfrm>
                    <a:off x="7019280" y="106920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1" name="Group 228"/>
              <p:cNvGrpSpPr/>
              <p:nvPr/>
            </p:nvGrpSpPr>
            <p:grpSpPr>
              <a:xfrm>
                <a:off x="8002080" y="1069200"/>
                <a:ext cx="982080" cy="380160"/>
                <a:chOff x="8002080" y="1069200"/>
                <a:chExt cx="982080" cy="380160"/>
              </a:xfrm>
            </p:grpSpPr>
            <p:sp>
              <p:nvSpPr>
                <p:cNvPr id="622" name="Rectangle 227"/>
                <p:cNvSpPr/>
                <p:nvPr/>
              </p:nvSpPr>
              <p:spPr>
                <a:xfrm>
                  <a:off x="8002080" y="1069200"/>
                  <a:ext cx="98208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3" name="Group 226"/>
                <p:cNvGrpSpPr/>
                <p:nvPr/>
              </p:nvGrpSpPr>
              <p:grpSpPr>
                <a:xfrm>
                  <a:off x="8002080" y="1069200"/>
                  <a:ext cx="981720" cy="369000"/>
                  <a:chOff x="8002080" y="1069200"/>
                  <a:chExt cx="981720" cy="369000"/>
                </a:xfrm>
              </p:grpSpPr>
              <p:sp>
                <p:nvSpPr>
                  <p:cNvPr id="624" name="Rectangle 168"/>
                  <p:cNvSpPr/>
                  <p:nvPr/>
                </p:nvSpPr>
                <p:spPr>
                  <a:xfrm>
                    <a:off x="8015400" y="1074600"/>
                    <a:ext cx="95508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00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Rectangle 225"/>
                  <p:cNvSpPr/>
                  <p:nvPr/>
                </p:nvSpPr>
                <p:spPr>
                  <a:xfrm>
                    <a:off x="8002080" y="106920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6" name="Group 230"/>
              <p:cNvGrpSpPr/>
              <p:nvPr/>
            </p:nvGrpSpPr>
            <p:grpSpPr>
              <a:xfrm>
                <a:off x="235080" y="1443960"/>
                <a:ext cx="5058360" cy="369000"/>
                <a:chOff x="235080" y="1443960"/>
                <a:chExt cx="5058360" cy="369000"/>
              </a:xfrm>
            </p:grpSpPr>
            <p:sp>
              <p:nvSpPr>
                <p:cNvPr id="627" name="Rectangle 169"/>
                <p:cNvSpPr/>
                <p:nvPr/>
              </p:nvSpPr>
              <p:spPr>
                <a:xfrm>
                  <a:off x="394560" y="1449360"/>
                  <a:ext cx="4885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160" rIns="90000" tIns="38160" bIns="3816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Reajustes da tabela do IRPF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229"/>
                <p:cNvSpPr/>
                <p:nvPr/>
              </p:nvSpPr>
              <p:spPr>
                <a:xfrm>
                  <a:off x="235080" y="1443960"/>
                  <a:ext cx="505836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232"/>
              <p:cNvGrpSpPr/>
              <p:nvPr/>
            </p:nvGrpSpPr>
            <p:grpSpPr>
              <a:xfrm>
                <a:off x="5293800" y="1443960"/>
                <a:ext cx="1725120" cy="369000"/>
                <a:chOff x="5293800" y="1443960"/>
                <a:chExt cx="1725120" cy="369000"/>
              </a:xfrm>
            </p:grpSpPr>
            <p:sp>
              <p:nvSpPr>
                <p:cNvPr id="630" name="Rectangle 170"/>
                <p:cNvSpPr/>
                <p:nvPr/>
              </p:nvSpPr>
              <p:spPr>
                <a:xfrm>
                  <a:off x="5306760" y="1449360"/>
                  <a:ext cx="1699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i 11.48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Rectangle 231"/>
                <p:cNvSpPr/>
                <p:nvPr/>
              </p:nvSpPr>
              <p:spPr>
                <a:xfrm>
                  <a:off x="5293800" y="1443960"/>
                  <a:ext cx="1725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234"/>
              <p:cNvGrpSpPr/>
              <p:nvPr/>
            </p:nvGrpSpPr>
            <p:grpSpPr>
              <a:xfrm>
                <a:off x="7019280" y="1443960"/>
                <a:ext cx="982080" cy="369000"/>
                <a:chOff x="7019280" y="1443960"/>
                <a:chExt cx="982080" cy="369000"/>
              </a:xfrm>
            </p:grpSpPr>
            <p:sp>
              <p:nvSpPr>
                <p:cNvPr id="633" name="Rectangle 171"/>
                <p:cNvSpPr/>
                <p:nvPr/>
              </p:nvSpPr>
              <p:spPr>
                <a:xfrm>
                  <a:off x="7032600" y="1449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Rectangle 233"/>
                <p:cNvSpPr/>
                <p:nvPr/>
              </p:nvSpPr>
              <p:spPr>
                <a:xfrm>
                  <a:off x="7019280" y="1443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236"/>
              <p:cNvGrpSpPr/>
              <p:nvPr/>
            </p:nvGrpSpPr>
            <p:grpSpPr>
              <a:xfrm>
                <a:off x="8002080" y="1443960"/>
                <a:ext cx="982080" cy="369000"/>
                <a:chOff x="8002080" y="1443960"/>
                <a:chExt cx="982080" cy="369000"/>
              </a:xfrm>
            </p:grpSpPr>
            <p:sp>
              <p:nvSpPr>
                <p:cNvPr id="636" name="Rectangle 172"/>
                <p:cNvSpPr/>
                <p:nvPr/>
              </p:nvSpPr>
              <p:spPr>
                <a:xfrm>
                  <a:off x="8015400" y="1449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235"/>
                <p:cNvSpPr/>
                <p:nvPr/>
              </p:nvSpPr>
              <p:spPr>
                <a:xfrm>
                  <a:off x="8002080" y="1443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240"/>
              <p:cNvGrpSpPr/>
              <p:nvPr/>
            </p:nvGrpSpPr>
            <p:grpSpPr>
              <a:xfrm>
                <a:off x="235080" y="1818720"/>
                <a:ext cx="5058360" cy="380160"/>
                <a:chOff x="235080" y="1818720"/>
                <a:chExt cx="5058360" cy="380160"/>
              </a:xfrm>
            </p:grpSpPr>
            <p:sp>
              <p:nvSpPr>
                <p:cNvPr id="639" name="Rectangle 239"/>
                <p:cNvSpPr/>
                <p:nvPr/>
              </p:nvSpPr>
              <p:spPr>
                <a:xfrm>
                  <a:off x="235080" y="1818720"/>
                  <a:ext cx="505836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0" name="Group 238"/>
                <p:cNvGrpSpPr/>
                <p:nvPr/>
              </p:nvGrpSpPr>
              <p:grpSpPr>
                <a:xfrm>
                  <a:off x="235080" y="1818720"/>
                  <a:ext cx="5058000" cy="369000"/>
                  <a:chOff x="235080" y="1818720"/>
                  <a:chExt cx="5058000" cy="369000"/>
                </a:xfrm>
              </p:grpSpPr>
              <p:sp>
                <p:nvSpPr>
                  <p:cNvPr id="641" name="Rectangle 173"/>
                  <p:cNvSpPr/>
                  <p:nvPr/>
                </p:nvSpPr>
                <p:spPr>
                  <a:xfrm>
                    <a:off x="394560" y="1824120"/>
                    <a:ext cx="4884840" cy="3632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rrogação da depreciação acelerad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Rectangle 237"/>
                  <p:cNvSpPr/>
                  <p:nvPr/>
                </p:nvSpPr>
                <p:spPr>
                  <a:xfrm>
                    <a:off x="235080" y="1818720"/>
                    <a:ext cx="505800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3" name="Group 244"/>
              <p:cNvGrpSpPr/>
              <p:nvPr/>
            </p:nvGrpSpPr>
            <p:grpSpPr>
              <a:xfrm>
                <a:off x="5293800" y="1818720"/>
                <a:ext cx="1725120" cy="380160"/>
                <a:chOff x="5293800" y="1818720"/>
                <a:chExt cx="1725120" cy="380160"/>
              </a:xfrm>
            </p:grpSpPr>
            <p:sp>
              <p:nvSpPr>
                <p:cNvPr id="644" name="Rectangle 243"/>
                <p:cNvSpPr/>
                <p:nvPr/>
              </p:nvSpPr>
              <p:spPr>
                <a:xfrm>
                  <a:off x="5293800" y="1818720"/>
                  <a:ext cx="172512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Group 242"/>
                <p:cNvGrpSpPr/>
                <p:nvPr/>
              </p:nvGrpSpPr>
              <p:grpSpPr>
                <a:xfrm>
                  <a:off x="5293800" y="1818720"/>
                  <a:ext cx="1724760" cy="369000"/>
                  <a:chOff x="5293800" y="1818720"/>
                  <a:chExt cx="1724760" cy="369000"/>
                </a:xfrm>
              </p:grpSpPr>
              <p:sp>
                <p:nvSpPr>
                  <p:cNvPr id="646" name="Rectangle 174"/>
                  <p:cNvSpPr/>
                  <p:nvPr/>
                </p:nvSpPr>
                <p:spPr>
                  <a:xfrm>
                    <a:off x="5306760" y="1824120"/>
                    <a:ext cx="1698840" cy="3632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i 11.48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Rectangle 241"/>
                  <p:cNvSpPr/>
                  <p:nvPr/>
                </p:nvSpPr>
                <p:spPr>
                  <a:xfrm>
                    <a:off x="5293800" y="1818720"/>
                    <a:ext cx="172476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8" name="Group 248"/>
              <p:cNvGrpSpPr/>
              <p:nvPr/>
            </p:nvGrpSpPr>
            <p:grpSpPr>
              <a:xfrm>
                <a:off x="7019280" y="1818720"/>
                <a:ext cx="982080" cy="380160"/>
                <a:chOff x="7019280" y="1818720"/>
                <a:chExt cx="982080" cy="380160"/>
              </a:xfrm>
            </p:grpSpPr>
            <p:sp>
              <p:nvSpPr>
                <p:cNvPr id="649" name="Rectangle 247"/>
                <p:cNvSpPr/>
                <p:nvPr/>
              </p:nvSpPr>
              <p:spPr>
                <a:xfrm>
                  <a:off x="7019280" y="1818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0" name="Group 246"/>
                <p:cNvGrpSpPr/>
                <p:nvPr/>
              </p:nvGrpSpPr>
              <p:grpSpPr>
                <a:xfrm>
                  <a:off x="7019280" y="1818720"/>
                  <a:ext cx="981720" cy="369000"/>
                  <a:chOff x="7019280" y="1818720"/>
                  <a:chExt cx="981720" cy="369000"/>
                </a:xfrm>
              </p:grpSpPr>
              <p:sp>
                <p:nvSpPr>
                  <p:cNvPr id="651" name="Rectangle 175"/>
                  <p:cNvSpPr/>
                  <p:nvPr/>
                </p:nvSpPr>
                <p:spPr>
                  <a:xfrm>
                    <a:off x="7032600" y="1824120"/>
                    <a:ext cx="955080" cy="3632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,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Rectangle 245"/>
                  <p:cNvSpPr/>
                  <p:nvPr/>
                </p:nvSpPr>
                <p:spPr>
                  <a:xfrm>
                    <a:off x="7019280" y="181872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3" name="Group 252"/>
              <p:cNvGrpSpPr/>
              <p:nvPr/>
            </p:nvGrpSpPr>
            <p:grpSpPr>
              <a:xfrm>
                <a:off x="8002080" y="1818720"/>
                <a:ext cx="982080" cy="380160"/>
                <a:chOff x="8002080" y="1818720"/>
                <a:chExt cx="982080" cy="380160"/>
              </a:xfrm>
            </p:grpSpPr>
            <p:sp>
              <p:nvSpPr>
                <p:cNvPr id="654" name="Rectangle 251"/>
                <p:cNvSpPr/>
                <p:nvPr/>
              </p:nvSpPr>
              <p:spPr>
                <a:xfrm>
                  <a:off x="8002080" y="1818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5" name="Group 250"/>
                <p:cNvGrpSpPr/>
                <p:nvPr/>
              </p:nvGrpSpPr>
              <p:grpSpPr>
                <a:xfrm>
                  <a:off x="8002080" y="1818720"/>
                  <a:ext cx="981720" cy="369000"/>
                  <a:chOff x="8002080" y="1818720"/>
                  <a:chExt cx="981720" cy="369000"/>
                </a:xfrm>
              </p:grpSpPr>
              <p:sp>
                <p:nvSpPr>
                  <p:cNvPr id="656" name="Rectangle 176"/>
                  <p:cNvSpPr/>
                  <p:nvPr/>
                </p:nvSpPr>
                <p:spPr>
                  <a:xfrm>
                    <a:off x="8015400" y="1824120"/>
                    <a:ext cx="955080" cy="3632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,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Rectangle 249"/>
                  <p:cNvSpPr/>
                  <p:nvPr/>
                </p:nvSpPr>
                <p:spPr>
                  <a:xfrm>
                    <a:off x="8002080" y="181872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58" name="Group 254"/>
              <p:cNvGrpSpPr/>
              <p:nvPr/>
            </p:nvGrpSpPr>
            <p:grpSpPr>
              <a:xfrm>
                <a:off x="235080" y="2193480"/>
                <a:ext cx="5058360" cy="474480"/>
                <a:chOff x="235080" y="2193480"/>
                <a:chExt cx="5058360" cy="474480"/>
              </a:xfrm>
            </p:grpSpPr>
            <p:sp>
              <p:nvSpPr>
                <p:cNvPr id="659" name="Rectangle 177"/>
                <p:cNvSpPr/>
                <p:nvPr/>
              </p:nvSpPr>
              <p:spPr>
                <a:xfrm>
                  <a:off x="394560" y="2198880"/>
                  <a:ext cx="4885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rrogação de cumulatividade do PIS/Cofins na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Rectangle 253"/>
                <p:cNvSpPr/>
                <p:nvPr/>
              </p:nvSpPr>
              <p:spPr>
                <a:xfrm>
                  <a:off x="235080" y="2193480"/>
                  <a:ext cx="505836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Group 256"/>
              <p:cNvGrpSpPr/>
              <p:nvPr/>
            </p:nvGrpSpPr>
            <p:grpSpPr>
              <a:xfrm>
                <a:off x="5293800" y="2193480"/>
                <a:ext cx="1725120" cy="474480"/>
                <a:chOff x="5293800" y="2193480"/>
                <a:chExt cx="1725120" cy="474480"/>
              </a:xfrm>
            </p:grpSpPr>
            <p:sp>
              <p:nvSpPr>
                <p:cNvPr id="662" name="Rectangle 178"/>
                <p:cNvSpPr/>
                <p:nvPr/>
              </p:nvSpPr>
              <p:spPr>
                <a:xfrm>
                  <a:off x="5306760" y="2198880"/>
                  <a:ext cx="1699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i 11.43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Rectangle 255"/>
                <p:cNvSpPr/>
                <p:nvPr/>
              </p:nvSpPr>
              <p:spPr>
                <a:xfrm>
                  <a:off x="5293800" y="2193480"/>
                  <a:ext cx="172512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Group 258"/>
              <p:cNvGrpSpPr/>
              <p:nvPr/>
            </p:nvGrpSpPr>
            <p:grpSpPr>
              <a:xfrm>
                <a:off x="7019280" y="2193480"/>
                <a:ext cx="982080" cy="474480"/>
                <a:chOff x="7019280" y="2193480"/>
                <a:chExt cx="982080" cy="474480"/>
              </a:xfrm>
            </p:grpSpPr>
            <p:sp>
              <p:nvSpPr>
                <p:cNvPr id="665" name="Rectangle 179"/>
                <p:cNvSpPr/>
                <p:nvPr/>
              </p:nvSpPr>
              <p:spPr>
                <a:xfrm>
                  <a:off x="7032600" y="2198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Rectangle 257"/>
                <p:cNvSpPr/>
                <p:nvPr/>
              </p:nvSpPr>
              <p:spPr>
                <a:xfrm>
                  <a:off x="7019280" y="2193480"/>
                  <a:ext cx="98208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Group 260"/>
              <p:cNvGrpSpPr/>
              <p:nvPr/>
            </p:nvGrpSpPr>
            <p:grpSpPr>
              <a:xfrm>
                <a:off x="8002080" y="2193480"/>
                <a:ext cx="982080" cy="474480"/>
                <a:chOff x="8002080" y="2193480"/>
                <a:chExt cx="982080" cy="474480"/>
              </a:xfrm>
            </p:grpSpPr>
            <p:sp>
              <p:nvSpPr>
                <p:cNvPr id="668" name="Rectangle 180"/>
                <p:cNvSpPr/>
                <p:nvPr/>
              </p:nvSpPr>
              <p:spPr>
                <a:xfrm>
                  <a:off x="8015400" y="2198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Rectangle 259"/>
                <p:cNvSpPr/>
                <p:nvPr/>
              </p:nvSpPr>
              <p:spPr>
                <a:xfrm>
                  <a:off x="8002080" y="2193480"/>
                  <a:ext cx="98208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Group 264"/>
              <p:cNvGrpSpPr/>
              <p:nvPr/>
            </p:nvGrpSpPr>
            <p:grpSpPr>
              <a:xfrm>
                <a:off x="235080" y="2673720"/>
                <a:ext cx="5058360" cy="380160"/>
                <a:chOff x="235080" y="2673720"/>
                <a:chExt cx="5058360" cy="380160"/>
              </a:xfrm>
            </p:grpSpPr>
            <p:sp>
              <p:nvSpPr>
                <p:cNvPr id="671" name="Rectangle 263"/>
                <p:cNvSpPr/>
                <p:nvPr/>
              </p:nvSpPr>
              <p:spPr>
                <a:xfrm>
                  <a:off x="235080" y="2673720"/>
                  <a:ext cx="505836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2" name="Group 262"/>
                <p:cNvGrpSpPr/>
                <p:nvPr/>
              </p:nvGrpSpPr>
              <p:grpSpPr>
                <a:xfrm>
                  <a:off x="235080" y="2673720"/>
                  <a:ext cx="5058000" cy="369360"/>
                  <a:chOff x="235080" y="2673720"/>
                  <a:chExt cx="5058000" cy="369360"/>
                </a:xfrm>
              </p:grpSpPr>
              <p:sp>
                <p:nvSpPr>
                  <p:cNvPr id="673" name="Rectangle 181"/>
                  <p:cNvSpPr/>
                  <p:nvPr/>
                </p:nvSpPr>
                <p:spPr>
                  <a:xfrm>
                    <a:off x="394560" y="2679120"/>
                    <a:ext cx="488484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i Geral das MPEs (SRF e Previdência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261"/>
                  <p:cNvSpPr/>
                  <p:nvPr/>
                </p:nvSpPr>
                <p:spPr>
                  <a:xfrm>
                    <a:off x="235080" y="2673720"/>
                    <a:ext cx="5058000" cy="36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5" name="Group 268"/>
              <p:cNvGrpSpPr/>
              <p:nvPr/>
            </p:nvGrpSpPr>
            <p:grpSpPr>
              <a:xfrm>
                <a:off x="5293800" y="2673720"/>
                <a:ext cx="1725120" cy="380160"/>
                <a:chOff x="5293800" y="2673720"/>
                <a:chExt cx="1725120" cy="380160"/>
              </a:xfrm>
            </p:grpSpPr>
            <p:sp>
              <p:nvSpPr>
                <p:cNvPr id="676" name="Rectangle 267"/>
                <p:cNvSpPr/>
                <p:nvPr/>
              </p:nvSpPr>
              <p:spPr>
                <a:xfrm>
                  <a:off x="5293800" y="2673720"/>
                  <a:ext cx="172512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7" name="Group 266"/>
                <p:cNvGrpSpPr/>
                <p:nvPr/>
              </p:nvGrpSpPr>
              <p:grpSpPr>
                <a:xfrm>
                  <a:off x="5293800" y="2673720"/>
                  <a:ext cx="1724760" cy="369360"/>
                  <a:chOff x="5293800" y="2673720"/>
                  <a:chExt cx="1724760" cy="369360"/>
                </a:xfrm>
              </p:grpSpPr>
              <p:sp>
                <p:nvSpPr>
                  <p:cNvPr id="678" name="Rectangle 182"/>
                  <p:cNvSpPr/>
                  <p:nvPr/>
                </p:nvSpPr>
                <p:spPr>
                  <a:xfrm>
                    <a:off x="5306760" y="2679120"/>
                    <a:ext cx="169884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C 12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Rectangle 265"/>
                  <p:cNvSpPr/>
                  <p:nvPr/>
                </p:nvSpPr>
                <p:spPr>
                  <a:xfrm>
                    <a:off x="5293800" y="2673720"/>
                    <a:ext cx="1724760" cy="36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0" name="Group 272"/>
              <p:cNvGrpSpPr/>
              <p:nvPr/>
            </p:nvGrpSpPr>
            <p:grpSpPr>
              <a:xfrm>
                <a:off x="7019280" y="2673720"/>
                <a:ext cx="982080" cy="380160"/>
                <a:chOff x="7019280" y="2673720"/>
                <a:chExt cx="982080" cy="380160"/>
              </a:xfrm>
            </p:grpSpPr>
            <p:sp>
              <p:nvSpPr>
                <p:cNvPr id="681" name="Rectangle 271"/>
                <p:cNvSpPr/>
                <p:nvPr/>
              </p:nvSpPr>
              <p:spPr>
                <a:xfrm>
                  <a:off x="7019280" y="2673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2" name="Group 270"/>
                <p:cNvGrpSpPr/>
                <p:nvPr/>
              </p:nvGrpSpPr>
              <p:grpSpPr>
                <a:xfrm>
                  <a:off x="7019280" y="2673720"/>
                  <a:ext cx="981720" cy="369360"/>
                  <a:chOff x="7019280" y="2673720"/>
                  <a:chExt cx="981720" cy="369360"/>
                </a:xfrm>
              </p:grpSpPr>
              <p:sp>
                <p:nvSpPr>
                  <p:cNvPr id="683" name="Rectangle 183"/>
                  <p:cNvSpPr/>
                  <p:nvPr/>
                </p:nvSpPr>
                <p:spPr>
                  <a:xfrm>
                    <a:off x="7032600" y="2679120"/>
                    <a:ext cx="95508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Rectangle 269"/>
                  <p:cNvSpPr/>
                  <p:nvPr/>
                </p:nvSpPr>
                <p:spPr>
                  <a:xfrm>
                    <a:off x="7019280" y="2673720"/>
                    <a:ext cx="981720" cy="36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85" name="Group 276"/>
              <p:cNvGrpSpPr/>
              <p:nvPr/>
            </p:nvGrpSpPr>
            <p:grpSpPr>
              <a:xfrm>
                <a:off x="8002080" y="2673720"/>
                <a:ext cx="982080" cy="380160"/>
                <a:chOff x="8002080" y="2673720"/>
                <a:chExt cx="982080" cy="380160"/>
              </a:xfrm>
            </p:grpSpPr>
            <p:sp>
              <p:nvSpPr>
                <p:cNvPr id="686" name="Rectangle 275"/>
                <p:cNvSpPr/>
                <p:nvPr/>
              </p:nvSpPr>
              <p:spPr>
                <a:xfrm>
                  <a:off x="8002080" y="2673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Group 274"/>
                <p:cNvGrpSpPr/>
                <p:nvPr/>
              </p:nvGrpSpPr>
              <p:grpSpPr>
                <a:xfrm>
                  <a:off x="8002080" y="2673720"/>
                  <a:ext cx="981720" cy="369360"/>
                  <a:chOff x="8002080" y="2673720"/>
                  <a:chExt cx="981720" cy="369360"/>
                </a:xfrm>
              </p:grpSpPr>
              <p:sp>
                <p:nvSpPr>
                  <p:cNvPr id="688" name="Rectangle 184"/>
                  <p:cNvSpPr/>
                  <p:nvPr/>
                </p:nvSpPr>
                <p:spPr>
                  <a:xfrm>
                    <a:off x="8015400" y="2679120"/>
                    <a:ext cx="95508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,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273"/>
                  <p:cNvSpPr/>
                  <p:nvPr/>
                </p:nvSpPr>
                <p:spPr>
                  <a:xfrm>
                    <a:off x="8002080" y="2673720"/>
                    <a:ext cx="981720" cy="3693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0" name="Group 278"/>
              <p:cNvGrpSpPr/>
              <p:nvPr/>
            </p:nvGrpSpPr>
            <p:grpSpPr>
              <a:xfrm>
                <a:off x="235080" y="3048480"/>
                <a:ext cx="5058360" cy="474480"/>
                <a:chOff x="235080" y="3048480"/>
                <a:chExt cx="5058360" cy="474480"/>
              </a:xfrm>
            </p:grpSpPr>
            <p:sp>
              <p:nvSpPr>
                <p:cNvPr id="691" name="Rectangle 185"/>
                <p:cNvSpPr/>
                <p:nvPr/>
              </p:nvSpPr>
              <p:spPr>
                <a:xfrm>
                  <a:off x="394560" y="3053880"/>
                  <a:ext cx="4885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azo dos créditos de PIS e Cofins em edificaçõ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277"/>
                <p:cNvSpPr/>
                <p:nvPr/>
              </p:nvSpPr>
              <p:spPr>
                <a:xfrm>
                  <a:off x="235080" y="3048480"/>
                  <a:ext cx="505836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Group 280"/>
              <p:cNvGrpSpPr/>
              <p:nvPr/>
            </p:nvGrpSpPr>
            <p:grpSpPr>
              <a:xfrm>
                <a:off x="5293800" y="3048480"/>
                <a:ext cx="1725120" cy="474480"/>
                <a:chOff x="5293800" y="3048480"/>
                <a:chExt cx="1725120" cy="474480"/>
              </a:xfrm>
            </p:grpSpPr>
            <p:sp>
              <p:nvSpPr>
                <p:cNvPr id="694" name="Rectangle 186"/>
                <p:cNvSpPr/>
                <p:nvPr/>
              </p:nvSpPr>
              <p:spPr>
                <a:xfrm>
                  <a:off x="5306760" y="3053880"/>
                  <a:ext cx="1699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i 11.48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Rectangle 279"/>
                <p:cNvSpPr/>
                <p:nvPr/>
              </p:nvSpPr>
              <p:spPr>
                <a:xfrm>
                  <a:off x="5293800" y="3048480"/>
                  <a:ext cx="172512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Group 282"/>
              <p:cNvGrpSpPr/>
              <p:nvPr/>
            </p:nvGrpSpPr>
            <p:grpSpPr>
              <a:xfrm>
                <a:off x="7019280" y="3048480"/>
                <a:ext cx="982080" cy="474480"/>
                <a:chOff x="7019280" y="3048480"/>
                <a:chExt cx="982080" cy="474480"/>
              </a:xfrm>
            </p:grpSpPr>
            <p:sp>
              <p:nvSpPr>
                <p:cNvPr id="697" name="Rectangle 187"/>
                <p:cNvSpPr/>
                <p:nvPr/>
              </p:nvSpPr>
              <p:spPr>
                <a:xfrm>
                  <a:off x="7032600" y="3053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Rectangle 281"/>
                <p:cNvSpPr/>
                <p:nvPr/>
              </p:nvSpPr>
              <p:spPr>
                <a:xfrm>
                  <a:off x="7019280" y="3048480"/>
                  <a:ext cx="98208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Group 284"/>
              <p:cNvGrpSpPr/>
              <p:nvPr/>
            </p:nvGrpSpPr>
            <p:grpSpPr>
              <a:xfrm>
                <a:off x="8002080" y="3048480"/>
                <a:ext cx="982080" cy="474480"/>
                <a:chOff x="8002080" y="3048480"/>
                <a:chExt cx="982080" cy="474480"/>
              </a:xfrm>
            </p:grpSpPr>
            <p:sp>
              <p:nvSpPr>
                <p:cNvPr id="700" name="Rectangle 188"/>
                <p:cNvSpPr/>
                <p:nvPr/>
              </p:nvSpPr>
              <p:spPr>
                <a:xfrm>
                  <a:off x="8015400" y="3053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Rectangle 283"/>
                <p:cNvSpPr/>
                <p:nvPr/>
              </p:nvSpPr>
              <p:spPr>
                <a:xfrm>
                  <a:off x="8002080" y="3048480"/>
                  <a:ext cx="982080" cy="474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Group 288"/>
              <p:cNvGrpSpPr/>
              <p:nvPr/>
            </p:nvGrpSpPr>
            <p:grpSpPr>
              <a:xfrm>
                <a:off x="235080" y="3528720"/>
                <a:ext cx="5058360" cy="380160"/>
                <a:chOff x="235080" y="3528720"/>
                <a:chExt cx="5058360" cy="380160"/>
              </a:xfrm>
            </p:grpSpPr>
            <p:sp>
              <p:nvSpPr>
                <p:cNvPr id="703" name="Rectangle 287"/>
                <p:cNvSpPr/>
                <p:nvPr/>
              </p:nvSpPr>
              <p:spPr>
                <a:xfrm>
                  <a:off x="235080" y="3528720"/>
                  <a:ext cx="505836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4" name="Group 286"/>
                <p:cNvGrpSpPr/>
                <p:nvPr/>
              </p:nvGrpSpPr>
              <p:grpSpPr>
                <a:xfrm>
                  <a:off x="235080" y="3528720"/>
                  <a:ext cx="5058000" cy="369000"/>
                  <a:chOff x="235080" y="3528720"/>
                  <a:chExt cx="5058000" cy="369000"/>
                </a:xfrm>
              </p:grpSpPr>
              <p:sp>
                <p:nvSpPr>
                  <p:cNvPr id="705" name="Rectangle 189"/>
                  <p:cNvSpPr/>
                  <p:nvPr/>
                </p:nvSpPr>
                <p:spPr>
                  <a:xfrm>
                    <a:off x="394560" y="3534120"/>
                    <a:ext cx="488484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soneração de obras de infra-estrutur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Rectangle 285"/>
                  <p:cNvSpPr/>
                  <p:nvPr/>
                </p:nvSpPr>
                <p:spPr>
                  <a:xfrm>
                    <a:off x="235080" y="3528720"/>
                    <a:ext cx="505800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Group 292"/>
              <p:cNvGrpSpPr/>
              <p:nvPr/>
            </p:nvGrpSpPr>
            <p:grpSpPr>
              <a:xfrm>
                <a:off x="5293800" y="3528720"/>
                <a:ext cx="1725120" cy="380160"/>
                <a:chOff x="5293800" y="3528720"/>
                <a:chExt cx="1725120" cy="380160"/>
              </a:xfrm>
            </p:grpSpPr>
            <p:sp>
              <p:nvSpPr>
                <p:cNvPr id="708" name="Rectangle 291"/>
                <p:cNvSpPr/>
                <p:nvPr/>
              </p:nvSpPr>
              <p:spPr>
                <a:xfrm>
                  <a:off x="5293800" y="3528720"/>
                  <a:ext cx="172512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9" name="Group 290"/>
                <p:cNvGrpSpPr/>
                <p:nvPr/>
              </p:nvGrpSpPr>
              <p:grpSpPr>
                <a:xfrm>
                  <a:off x="5293800" y="3528720"/>
                  <a:ext cx="1724760" cy="369000"/>
                  <a:chOff x="5293800" y="3528720"/>
                  <a:chExt cx="1724760" cy="369000"/>
                </a:xfrm>
              </p:grpSpPr>
              <p:sp>
                <p:nvSpPr>
                  <p:cNvPr id="710" name="Rectangle 190"/>
                  <p:cNvSpPr/>
                  <p:nvPr/>
                </p:nvSpPr>
                <p:spPr>
                  <a:xfrm>
                    <a:off x="5306760" y="3534120"/>
                    <a:ext cx="169884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i 11.48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Rectangle 289"/>
                  <p:cNvSpPr/>
                  <p:nvPr/>
                </p:nvSpPr>
                <p:spPr>
                  <a:xfrm>
                    <a:off x="5293800" y="3528720"/>
                    <a:ext cx="172476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2" name="Group 296"/>
              <p:cNvGrpSpPr/>
              <p:nvPr/>
            </p:nvGrpSpPr>
            <p:grpSpPr>
              <a:xfrm>
                <a:off x="7019280" y="3528720"/>
                <a:ext cx="982080" cy="380160"/>
                <a:chOff x="7019280" y="3528720"/>
                <a:chExt cx="982080" cy="380160"/>
              </a:xfrm>
            </p:grpSpPr>
            <p:sp>
              <p:nvSpPr>
                <p:cNvPr id="713" name="Rectangle 295"/>
                <p:cNvSpPr/>
                <p:nvPr/>
              </p:nvSpPr>
              <p:spPr>
                <a:xfrm>
                  <a:off x="7019280" y="3528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Group 294"/>
                <p:cNvGrpSpPr/>
                <p:nvPr/>
              </p:nvGrpSpPr>
              <p:grpSpPr>
                <a:xfrm>
                  <a:off x="7019280" y="3528720"/>
                  <a:ext cx="981720" cy="369000"/>
                  <a:chOff x="7019280" y="3528720"/>
                  <a:chExt cx="981720" cy="369000"/>
                </a:xfrm>
              </p:grpSpPr>
              <p:sp>
                <p:nvSpPr>
                  <p:cNvPr id="715" name="Rectangle 191"/>
                  <p:cNvSpPr/>
                  <p:nvPr/>
                </p:nvSpPr>
                <p:spPr>
                  <a:xfrm>
                    <a:off x="7032600" y="3534120"/>
                    <a:ext cx="95508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,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Rectangle 293"/>
                  <p:cNvSpPr/>
                  <p:nvPr/>
                </p:nvSpPr>
                <p:spPr>
                  <a:xfrm>
                    <a:off x="7019280" y="352872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17" name="Group 300"/>
              <p:cNvGrpSpPr/>
              <p:nvPr/>
            </p:nvGrpSpPr>
            <p:grpSpPr>
              <a:xfrm>
                <a:off x="8002080" y="3528720"/>
                <a:ext cx="982080" cy="380160"/>
                <a:chOff x="8002080" y="3528720"/>
                <a:chExt cx="982080" cy="380160"/>
              </a:xfrm>
            </p:grpSpPr>
            <p:sp>
              <p:nvSpPr>
                <p:cNvPr id="718" name="Rectangle 299"/>
                <p:cNvSpPr/>
                <p:nvPr/>
              </p:nvSpPr>
              <p:spPr>
                <a:xfrm>
                  <a:off x="8002080" y="3528720"/>
                  <a:ext cx="982080" cy="38016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9" name="Group 298"/>
                <p:cNvGrpSpPr/>
                <p:nvPr/>
              </p:nvGrpSpPr>
              <p:grpSpPr>
                <a:xfrm>
                  <a:off x="8002080" y="3528720"/>
                  <a:ext cx="981720" cy="369000"/>
                  <a:chOff x="8002080" y="3528720"/>
                  <a:chExt cx="981720" cy="369000"/>
                </a:xfrm>
              </p:grpSpPr>
              <p:sp>
                <p:nvSpPr>
                  <p:cNvPr id="720" name="Rectangle 192"/>
                  <p:cNvSpPr/>
                  <p:nvPr/>
                </p:nvSpPr>
                <p:spPr>
                  <a:xfrm>
                    <a:off x="8015400" y="3534120"/>
                    <a:ext cx="955080" cy="36360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,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Rectangle 297"/>
                  <p:cNvSpPr/>
                  <p:nvPr/>
                </p:nvSpPr>
                <p:spPr>
                  <a:xfrm>
                    <a:off x="8002080" y="352872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22" name="Group 302"/>
              <p:cNvGrpSpPr/>
              <p:nvPr/>
            </p:nvGrpSpPr>
            <p:grpSpPr>
              <a:xfrm>
                <a:off x="235080" y="3903480"/>
                <a:ext cx="5058360" cy="474840"/>
                <a:chOff x="235080" y="3903480"/>
                <a:chExt cx="5058360" cy="474840"/>
              </a:xfrm>
            </p:grpSpPr>
            <p:sp>
              <p:nvSpPr>
                <p:cNvPr id="723" name="Rectangle 193"/>
                <p:cNvSpPr/>
                <p:nvPr/>
              </p:nvSpPr>
              <p:spPr>
                <a:xfrm>
                  <a:off x="394560" y="3908880"/>
                  <a:ext cx="4885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oneração de fundos de investimento em infra-estrutur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Rectangle 301"/>
                <p:cNvSpPr/>
                <p:nvPr/>
              </p:nvSpPr>
              <p:spPr>
                <a:xfrm>
                  <a:off x="235080" y="3903480"/>
                  <a:ext cx="5058360" cy="47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Group 304"/>
              <p:cNvGrpSpPr/>
              <p:nvPr/>
            </p:nvGrpSpPr>
            <p:grpSpPr>
              <a:xfrm>
                <a:off x="5293800" y="3903480"/>
                <a:ext cx="1725120" cy="474840"/>
                <a:chOff x="5293800" y="3903480"/>
                <a:chExt cx="1725120" cy="474840"/>
              </a:xfrm>
            </p:grpSpPr>
            <p:sp>
              <p:nvSpPr>
                <p:cNvPr id="726" name="Rectangle 194"/>
                <p:cNvSpPr/>
                <p:nvPr/>
              </p:nvSpPr>
              <p:spPr>
                <a:xfrm>
                  <a:off x="5306760" y="3908880"/>
                  <a:ext cx="169920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i 11.47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303"/>
                <p:cNvSpPr/>
                <p:nvPr/>
              </p:nvSpPr>
              <p:spPr>
                <a:xfrm>
                  <a:off x="5293800" y="3903480"/>
                  <a:ext cx="1725120" cy="47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" name="Group 306"/>
              <p:cNvGrpSpPr/>
              <p:nvPr/>
            </p:nvGrpSpPr>
            <p:grpSpPr>
              <a:xfrm>
                <a:off x="7019280" y="3903480"/>
                <a:ext cx="982080" cy="474840"/>
                <a:chOff x="7019280" y="3903480"/>
                <a:chExt cx="982080" cy="474840"/>
              </a:xfrm>
            </p:grpSpPr>
            <p:sp>
              <p:nvSpPr>
                <p:cNvPr id="729" name="Rectangle 195"/>
                <p:cNvSpPr/>
                <p:nvPr/>
              </p:nvSpPr>
              <p:spPr>
                <a:xfrm>
                  <a:off x="7032600" y="3908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305"/>
                <p:cNvSpPr/>
                <p:nvPr/>
              </p:nvSpPr>
              <p:spPr>
                <a:xfrm>
                  <a:off x="7019280" y="3903480"/>
                  <a:ext cx="982080" cy="47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Group 308"/>
              <p:cNvGrpSpPr/>
              <p:nvPr/>
            </p:nvGrpSpPr>
            <p:grpSpPr>
              <a:xfrm>
                <a:off x="8002080" y="3903480"/>
                <a:ext cx="982080" cy="474840"/>
                <a:chOff x="8002080" y="3903480"/>
                <a:chExt cx="982080" cy="474840"/>
              </a:xfrm>
            </p:grpSpPr>
            <p:sp>
              <p:nvSpPr>
                <p:cNvPr id="732" name="Rectangle 196"/>
                <p:cNvSpPr/>
                <p:nvPr/>
              </p:nvSpPr>
              <p:spPr>
                <a:xfrm>
                  <a:off x="8015400" y="3908880"/>
                  <a:ext cx="955440" cy="46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Rectangle 307"/>
                <p:cNvSpPr/>
                <p:nvPr/>
              </p:nvSpPr>
              <p:spPr>
                <a:xfrm>
                  <a:off x="8002080" y="3903480"/>
                  <a:ext cx="982080" cy="474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Group 312"/>
              <p:cNvGrpSpPr/>
              <p:nvPr/>
            </p:nvGrpSpPr>
            <p:grpSpPr>
              <a:xfrm>
                <a:off x="235080" y="4383720"/>
                <a:ext cx="5058360" cy="485640"/>
                <a:chOff x="235080" y="4383720"/>
                <a:chExt cx="5058360" cy="485640"/>
              </a:xfrm>
            </p:grpSpPr>
            <p:sp>
              <p:nvSpPr>
                <p:cNvPr id="735" name="Rectangle 311"/>
                <p:cNvSpPr/>
                <p:nvPr/>
              </p:nvSpPr>
              <p:spPr>
                <a:xfrm>
                  <a:off x="235080" y="4383720"/>
                  <a:ext cx="505836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36" name="Group 310"/>
                <p:cNvGrpSpPr/>
                <p:nvPr/>
              </p:nvGrpSpPr>
              <p:grpSpPr>
                <a:xfrm>
                  <a:off x="235080" y="4383720"/>
                  <a:ext cx="5058000" cy="474480"/>
                  <a:chOff x="235080" y="4383720"/>
                  <a:chExt cx="5058000" cy="474480"/>
                </a:xfrm>
              </p:grpSpPr>
              <p:sp>
                <p:nvSpPr>
                  <p:cNvPr id="737" name="Rectangle 197"/>
                  <p:cNvSpPr/>
                  <p:nvPr/>
                </p:nvSpPr>
                <p:spPr>
                  <a:xfrm>
                    <a:off x="394560" y="4389120"/>
                    <a:ext cx="4884840" cy="469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Ampliação de benefício tributário a microcomputad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Rectangle 309"/>
                  <p:cNvSpPr/>
                  <p:nvPr/>
                </p:nvSpPr>
                <p:spPr>
                  <a:xfrm>
                    <a:off x="235080" y="4383720"/>
                    <a:ext cx="505800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39" name="Group 316"/>
              <p:cNvGrpSpPr/>
              <p:nvPr/>
            </p:nvGrpSpPr>
            <p:grpSpPr>
              <a:xfrm>
                <a:off x="5293800" y="4383720"/>
                <a:ext cx="1725120" cy="485640"/>
                <a:chOff x="5293800" y="4383720"/>
                <a:chExt cx="1725120" cy="485640"/>
              </a:xfrm>
            </p:grpSpPr>
            <p:sp>
              <p:nvSpPr>
                <p:cNvPr id="740" name="Rectangle 315"/>
                <p:cNvSpPr/>
                <p:nvPr/>
              </p:nvSpPr>
              <p:spPr>
                <a:xfrm>
                  <a:off x="5293800" y="4383720"/>
                  <a:ext cx="172512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1" name="Group 314"/>
                <p:cNvGrpSpPr/>
                <p:nvPr/>
              </p:nvGrpSpPr>
              <p:grpSpPr>
                <a:xfrm>
                  <a:off x="5293800" y="4383720"/>
                  <a:ext cx="1724760" cy="474480"/>
                  <a:chOff x="5293800" y="4383720"/>
                  <a:chExt cx="1724760" cy="474480"/>
                </a:xfrm>
              </p:grpSpPr>
              <p:sp>
                <p:nvSpPr>
                  <p:cNvPr id="742" name="Rectangle 198"/>
                  <p:cNvSpPr/>
                  <p:nvPr/>
                </p:nvSpPr>
                <p:spPr>
                  <a:xfrm>
                    <a:off x="5306760" y="4389120"/>
                    <a:ext cx="1698840" cy="469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Decreto 6.02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Rectangle 313"/>
                  <p:cNvSpPr/>
                  <p:nvPr/>
                </p:nvSpPr>
                <p:spPr>
                  <a:xfrm>
                    <a:off x="5293800" y="4383720"/>
                    <a:ext cx="172476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4" name="Group 320"/>
              <p:cNvGrpSpPr/>
              <p:nvPr/>
            </p:nvGrpSpPr>
            <p:grpSpPr>
              <a:xfrm>
                <a:off x="7019280" y="4383720"/>
                <a:ext cx="982080" cy="485640"/>
                <a:chOff x="7019280" y="4383720"/>
                <a:chExt cx="982080" cy="485640"/>
              </a:xfrm>
            </p:grpSpPr>
            <p:sp>
              <p:nvSpPr>
                <p:cNvPr id="745" name="Rectangle 319"/>
                <p:cNvSpPr/>
                <p:nvPr/>
              </p:nvSpPr>
              <p:spPr>
                <a:xfrm>
                  <a:off x="7019280" y="4383720"/>
                  <a:ext cx="98208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6" name="Group 318"/>
                <p:cNvGrpSpPr/>
                <p:nvPr/>
              </p:nvGrpSpPr>
              <p:grpSpPr>
                <a:xfrm>
                  <a:off x="7019280" y="4383720"/>
                  <a:ext cx="981720" cy="474480"/>
                  <a:chOff x="7019280" y="4383720"/>
                  <a:chExt cx="981720" cy="474480"/>
                </a:xfrm>
              </p:grpSpPr>
              <p:sp>
                <p:nvSpPr>
                  <p:cNvPr id="747" name="Rectangle 199"/>
                  <p:cNvSpPr/>
                  <p:nvPr/>
                </p:nvSpPr>
                <p:spPr>
                  <a:xfrm>
                    <a:off x="7032600" y="4389120"/>
                    <a:ext cx="955080" cy="469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Rectangle 317"/>
                  <p:cNvSpPr/>
                  <p:nvPr/>
                </p:nvSpPr>
                <p:spPr>
                  <a:xfrm>
                    <a:off x="7019280" y="4383720"/>
                    <a:ext cx="98172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9" name="Group 324"/>
              <p:cNvGrpSpPr/>
              <p:nvPr/>
            </p:nvGrpSpPr>
            <p:grpSpPr>
              <a:xfrm>
                <a:off x="8002080" y="4383720"/>
                <a:ext cx="982080" cy="485640"/>
                <a:chOff x="8002080" y="4383720"/>
                <a:chExt cx="982080" cy="485640"/>
              </a:xfrm>
            </p:grpSpPr>
            <p:sp>
              <p:nvSpPr>
                <p:cNvPr id="750" name="Rectangle 323"/>
                <p:cNvSpPr/>
                <p:nvPr/>
              </p:nvSpPr>
              <p:spPr>
                <a:xfrm>
                  <a:off x="8002080" y="4383720"/>
                  <a:ext cx="98208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1" name="Group 322"/>
                <p:cNvGrpSpPr/>
                <p:nvPr/>
              </p:nvGrpSpPr>
              <p:grpSpPr>
                <a:xfrm>
                  <a:off x="8002080" y="4383720"/>
                  <a:ext cx="981720" cy="474480"/>
                  <a:chOff x="8002080" y="4383720"/>
                  <a:chExt cx="981720" cy="474480"/>
                </a:xfrm>
              </p:grpSpPr>
              <p:sp>
                <p:nvSpPr>
                  <p:cNvPr id="752" name="Rectangle 200"/>
                  <p:cNvSpPr/>
                  <p:nvPr/>
                </p:nvSpPr>
                <p:spPr>
                  <a:xfrm>
                    <a:off x="8015400" y="4389120"/>
                    <a:ext cx="955080" cy="469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0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Rectangle 321"/>
                  <p:cNvSpPr/>
                  <p:nvPr/>
                </p:nvSpPr>
                <p:spPr>
                  <a:xfrm>
                    <a:off x="8002080" y="4383720"/>
                    <a:ext cx="98172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54" name="Group 326"/>
              <p:cNvGrpSpPr/>
              <p:nvPr/>
            </p:nvGrpSpPr>
            <p:grpSpPr>
              <a:xfrm>
                <a:off x="235080" y="4863960"/>
                <a:ext cx="5058360" cy="369000"/>
                <a:chOff x="235080" y="4863960"/>
                <a:chExt cx="5058360" cy="369000"/>
              </a:xfrm>
            </p:grpSpPr>
            <p:sp>
              <p:nvSpPr>
                <p:cNvPr id="755" name="Rectangle 201"/>
                <p:cNvSpPr/>
                <p:nvPr/>
              </p:nvSpPr>
              <p:spPr>
                <a:xfrm>
                  <a:off x="394560" y="4869360"/>
                  <a:ext cx="4885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8160" rIns="90000" tIns="38160" bIns="3816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grama de incentivo ao setor da  TV Digi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Rectangle 325"/>
                <p:cNvSpPr/>
                <p:nvPr/>
              </p:nvSpPr>
              <p:spPr>
                <a:xfrm>
                  <a:off x="235080" y="4863960"/>
                  <a:ext cx="505836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Group 328"/>
              <p:cNvGrpSpPr/>
              <p:nvPr/>
            </p:nvGrpSpPr>
            <p:grpSpPr>
              <a:xfrm>
                <a:off x="5293800" y="4863960"/>
                <a:ext cx="1725120" cy="369000"/>
                <a:chOff x="5293800" y="4863960"/>
                <a:chExt cx="1725120" cy="369000"/>
              </a:xfrm>
            </p:grpSpPr>
            <p:sp>
              <p:nvSpPr>
                <p:cNvPr id="758" name="Rectangle 202"/>
                <p:cNvSpPr/>
                <p:nvPr/>
              </p:nvSpPr>
              <p:spPr>
                <a:xfrm>
                  <a:off x="5306760" y="4869360"/>
                  <a:ext cx="1699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Lei 11.48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Rectangle 327"/>
                <p:cNvSpPr/>
                <p:nvPr/>
              </p:nvSpPr>
              <p:spPr>
                <a:xfrm>
                  <a:off x="5293800" y="4863960"/>
                  <a:ext cx="1725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Group 330"/>
              <p:cNvGrpSpPr/>
              <p:nvPr/>
            </p:nvGrpSpPr>
            <p:grpSpPr>
              <a:xfrm>
                <a:off x="7019280" y="4863960"/>
                <a:ext cx="982080" cy="369000"/>
                <a:chOff x="7019280" y="4863960"/>
                <a:chExt cx="982080" cy="369000"/>
              </a:xfrm>
            </p:grpSpPr>
            <p:sp>
              <p:nvSpPr>
                <p:cNvPr id="761" name="Rectangle 203"/>
                <p:cNvSpPr/>
                <p:nvPr/>
              </p:nvSpPr>
              <p:spPr>
                <a:xfrm>
                  <a:off x="7032600" y="4869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329"/>
                <p:cNvSpPr/>
                <p:nvPr/>
              </p:nvSpPr>
              <p:spPr>
                <a:xfrm>
                  <a:off x="7019280" y="4863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Group 332"/>
              <p:cNvGrpSpPr/>
              <p:nvPr/>
            </p:nvGrpSpPr>
            <p:grpSpPr>
              <a:xfrm>
                <a:off x="8002080" y="4863960"/>
                <a:ext cx="982080" cy="369000"/>
                <a:chOff x="8002080" y="4863960"/>
                <a:chExt cx="982080" cy="369000"/>
              </a:xfrm>
            </p:grpSpPr>
            <p:sp>
              <p:nvSpPr>
                <p:cNvPr id="764" name="Rectangle 204"/>
                <p:cNvSpPr/>
                <p:nvPr/>
              </p:nvSpPr>
              <p:spPr>
                <a:xfrm>
                  <a:off x="8015400" y="4869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Rectangle 331"/>
                <p:cNvSpPr/>
                <p:nvPr/>
              </p:nvSpPr>
              <p:spPr>
                <a:xfrm>
                  <a:off x="8002080" y="4863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336"/>
              <p:cNvGrpSpPr/>
              <p:nvPr/>
            </p:nvGrpSpPr>
            <p:grpSpPr>
              <a:xfrm>
                <a:off x="235080" y="5238720"/>
                <a:ext cx="5058360" cy="485640"/>
                <a:chOff x="235080" y="5238720"/>
                <a:chExt cx="5058360" cy="485640"/>
              </a:xfrm>
            </p:grpSpPr>
            <p:sp>
              <p:nvSpPr>
                <p:cNvPr id="767" name="Rectangle 335"/>
                <p:cNvSpPr/>
                <p:nvPr/>
              </p:nvSpPr>
              <p:spPr>
                <a:xfrm>
                  <a:off x="235080" y="5238720"/>
                  <a:ext cx="505836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334"/>
                <p:cNvGrpSpPr/>
                <p:nvPr/>
              </p:nvGrpSpPr>
              <p:grpSpPr>
                <a:xfrm>
                  <a:off x="235080" y="5238720"/>
                  <a:ext cx="5058000" cy="474480"/>
                  <a:chOff x="235080" y="5238720"/>
                  <a:chExt cx="5058000" cy="474480"/>
                </a:xfrm>
              </p:grpSpPr>
              <p:sp>
                <p:nvSpPr>
                  <p:cNvPr id="769" name="Rectangle 205"/>
                  <p:cNvSpPr/>
                  <p:nvPr/>
                </p:nvSpPr>
                <p:spPr>
                  <a:xfrm>
                    <a:off x="394560" y="5244120"/>
                    <a:ext cx="4884840" cy="468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rograma de incentivo ao setor de semicondutor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Rectangle 333"/>
                  <p:cNvSpPr/>
                  <p:nvPr/>
                </p:nvSpPr>
                <p:spPr>
                  <a:xfrm>
                    <a:off x="235080" y="5238720"/>
                    <a:ext cx="505800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1" name="Group 340"/>
              <p:cNvGrpSpPr/>
              <p:nvPr/>
            </p:nvGrpSpPr>
            <p:grpSpPr>
              <a:xfrm>
                <a:off x="5293800" y="5238720"/>
                <a:ext cx="1725120" cy="485640"/>
                <a:chOff x="5293800" y="5238720"/>
                <a:chExt cx="1725120" cy="485640"/>
              </a:xfrm>
            </p:grpSpPr>
            <p:sp>
              <p:nvSpPr>
                <p:cNvPr id="772" name="Rectangle 339"/>
                <p:cNvSpPr/>
                <p:nvPr/>
              </p:nvSpPr>
              <p:spPr>
                <a:xfrm>
                  <a:off x="5293800" y="5238720"/>
                  <a:ext cx="172512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3" name="Group 338"/>
                <p:cNvGrpSpPr/>
                <p:nvPr/>
              </p:nvGrpSpPr>
              <p:grpSpPr>
                <a:xfrm>
                  <a:off x="5293800" y="5238720"/>
                  <a:ext cx="1724760" cy="474480"/>
                  <a:chOff x="5293800" y="5238720"/>
                  <a:chExt cx="1724760" cy="474480"/>
                </a:xfrm>
              </p:grpSpPr>
              <p:sp>
                <p:nvSpPr>
                  <p:cNvPr id="774" name="Rectangle 206"/>
                  <p:cNvSpPr/>
                  <p:nvPr/>
                </p:nvSpPr>
                <p:spPr>
                  <a:xfrm>
                    <a:off x="5306760" y="5244120"/>
                    <a:ext cx="1698840" cy="468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Lei 11.48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Rectangle 337"/>
                  <p:cNvSpPr/>
                  <p:nvPr/>
                </p:nvSpPr>
                <p:spPr>
                  <a:xfrm>
                    <a:off x="5293800" y="5238720"/>
                    <a:ext cx="172476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6" name="Group 344"/>
              <p:cNvGrpSpPr/>
              <p:nvPr/>
            </p:nvGrpSpPr>
            <p:grpSpPr>
              <a:xfrm>
                <a:off x="7019280" y="5238720"/>
                <a:ext cx="982080" cy="485640"/>
                <a:chOff x="7019280" y="5238720"/>
                <a:chExt cx="982080" cy="485640"/>
              </a:xfrm>
            </p:grpSpPr>
            <p:sp>
              <p:nvSpPr>
                <p:cNvPr id="777" name="Rectangle 343"/>
                <p:cNvSpPr/>
                <p:nvPr/>
              </p:nvSpPr>
              <p:spPr>
                <a:xfrm>
                  <a:off x="7019280" y="5238720"/>
                  <a:ext cx="98208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8" name="Group 342"/>
                <p:cNvGrpSpPr/>
                <p:nvPr/>
              </p:nvGrpSpPr>
              <p:grpSpPr>
                <a:xfrm>
                  <a:off x="7019280" y="5238720"/>
                  <a:ext cx="981720" cy="474480"/>
                  <a:chOff x="7019280" y="5238720"/>
                  <a:chExt cx="981720" cy="474480"/>
                </a:xfrm>
              </p:grpSpPr>
              <p:sp>
                <p:nvSpPr>
                  <p:cNvPr id="779" name="Rectangle 207"/>
                  <p:cNvSpPr/>
                  <p:nvPr/>
                </p:nvSpPr>
                <p:spPr>
                  <a:xfrm>
                    <a:off x="7032600" y="5244120"/>
                    <a:ext cx="955080" cy="468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Rectangle 341"/>
                  <p:cNvSpPr/>
                  <p:nvPr/>
                </p:nvSpPr>
                <p:spPr>
                  <a:xfrm>
                    <a:off x="7019280" y="5238720"/>
                    <a:ext cx="98172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1" name="Group 348"/>
              <p:cNvGrpSpPr/>
              <p:nvPr/>
            </p:nvGrpSpPr>
            <p:grpSpPr>
              <a:xfrm>
                <a:off x="8002080" y="5238720"/>
                <a:ext cx="982080" cy="485640"/>
                <a:chOff x="8002080" y="5238720"/>
                <a:chExt cx="982080" cy="485640"/>
              </a:xfrm>
            </p:grpSpPr>
            <p:sp>
              <p:nvSpPr>
                <p:cNvPr id="782" name="Rectangle 347"/>
                <p:cNvSpPr/>
                <p:nvPr/>
              </p:nvSpPr>
              <p:spPr>
                <a:xfrm>
                  <a:off x="8002080" y="5238720"/>
                  <a:ext cx="982080" cy="48564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3" name="Group 346"/>
                <p:cNvGrpSpPr/>
                <p:nvPr/>
              </p:nvGrpSpPr>
              <p:grpSpPr>
                <a:xfrm>
                  <a:off x="8002080" y="5238720"/>
                  <a:ext cx="981720" cy="474480"/>
                  <a:chOff x="8002080" y="5238720"/>
                  <a:chExt cx="981720" cy="474480"/>
                </a:xfrm>
              </p:grpSpPr>
              <p:sp>
                <p:nvSpPr>
                  <p:cNvPr id="784" name="Rectangle 208"/>
                  <p:cNvSpPr/>
                  <p:nvPr/>
                </p:nvSpPr>
                <p:spPr>
                  <a:xfrm>
                    <a:off x="8015400" y="5244120"/>
                    <a:ext cx="955080" cy="468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-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Rectangle 345"/>
                  <p:cNvSpPr/>
                  <p:nvPr/>
                </p:nvSpPr>
                <p:spPr>
                  <a:xfrm>
                    <a:off x="8002080" y="5238720"/>
                    <a:ext cx="981720" cy="474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6" name="Group 350"/>
              <p:cNvGrpSpPr/>
              <p:nvPr/>
            </p:nvGrpSpPr>
            <p:grpSpPr>
              <a:xfrm>
                <a:off x="235080" y="5718960"/>
                <a:ext cx="5058360" cy="369000"/>
                <a:chOff x="235080" y="5718960"/>
                <a:chExt cx="5058360" cy="369000"/>
              </a:xfrm>
            </p:grpSpPr>
            <p:sp>
              <p:nvSpPr>
                <p:cNvPr id="787" name="Rectangle 209"/>
                <p:cNvSpPr/>
                <p:nvPr/>
              </p:nvSpPr>
              <p:spPr>
                <a:xfrm>
                  <a:off x="394560" y="5724360"/>
                  <a:ext cx="4885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soneração da compra de perfis de aç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Rectangle 349"/>
                <p:cNvSpPr/>
                <p:nvPr/>
              </p:nvSpPr>
              <p:spPr>
                <a:xfrm>
                  <a:off x="235080" y="5718960"/>
                  <a:ext cx="505836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" name="Group 352"/>
              <p:cNvGrpSpPr/>
              <p:nvPr/>
            </p:nvGrpSpPr>
            <p:grpSpPr>
              <a:xfrm>
                <a:off x="5293800" y="5718960"/>
                <a:ext cx="1725120" cy="369000"/>
                <a:chOff x="5293800" y="5718960"/>
                <a:chExt cx="1725120" cy="369000"/>
              </a:xfrm>
            </p:grpSpPr>
            <p:sp>
              <p:nvSpPr>
                <p:cNvPr id="790" name="Rectangle 210"/>
                <p:cNvSpPr/>
                <p:nvPr/>
              </p:nvSpPr>
              <p:spPr>
                <a:xfrm>
                  <a:off x="5306760" y="5724360"/>
                  <a:ext cx="169920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creto 6.02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351"/>
                <p:cNvSpPr/>
                <p:nvPr/>
              </p:nvSpPr>
              <p:spPr>
                <a:xfrm>
                  <a:off x="5293800" y="5718960"/>
                  <a:ext cx="172512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2" name="Group 354"/>
              <p:cNvGrpSpPr/>
              <p:nvPr/>
            </p:nvGrpSpPr>
            <p:grpSpPr>
              <a:xfrm>
                <a:off x="7019280" y="5718960"/>
                <a:ext cx="982080" cy="369000"/>
                <a:chOff x="7019280" y="5718960"/>
                <a:chExt cx="982080" cy="369000"/>
              </a:xfrm>
            </p:grpSpPr>
            <p:sp>
              <p:nvSpPr>
                <p:cNvPr id="793" name="Rectangle 211"/>
                <p:cNvSpPr/>
                <p:nvPr/>
              </p:nvSpPr>
              <p:spPr>
                <a:xfrm>
                  <a:off x="7032600" y="5724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353"/>
                <p:cNvSpPr/>
                <p:nvPr/>
              </p:nvSpPr>
              <p:spPr>
                <a:xfrm>
                  <a:off x="7019280" y="5718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Group 356"/>
              <p:cNvGrpSpPr/>
              <p:nvPr/>
            </p:nvGrpSpPr>
            <p:grpSpPr>
              <a:xfrm>
                <a:off x="8002080" y="5718960"/>
                <a:ext cx="982080" cy="369000"/>
                <a:chOff x="8002080" y="5718960"/>
                <a:chExt cx="982080" cy="369000"/>
              </a:xfrm>
            </p:grpSpPr>
            <p:sp>
              <p:nvSpPr>
                <p:cNvPr id="796" name="Rectangle 212"/>
                <p:cNvSpPr/>
                <p:nvPr/>
              </p:nvSpPr>
              <p:spPr>
                <a:xfrm>
                  <a:off x="8015400" y="5724360"/>
                  <a:ext cx="955440" cy="36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355"/>
                <p:cNvSpPr/>
                <p:nvPr/>
              </p:nvSpPr>
              <p:spPr>
                <a:xfrm>
                  <a:off x="8002080" y="5718960"/>
                  <a:ext cx="982080" cy="36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Group 360"/>
              <p:cNvGrpSpPr/>
              <p:nvPr/>
            </p:nvGrpSpPr>
            <p:grpSpPr>
              <a:xfrm>
                <a:off x="235080" y="6094080"/>
                <a:ext cx="5058360" cy="380160"/>
                <a:chOff x="235080" y="6094080"/>
                <a:chExt cx="5058360" cy="380160"/>
              </a:xfrm>
            </p:grpSpPr>
            <p:sp>
              <p:nvSpPr>
                <p:cNvPr id="799" name="Rectangle 359"/>
                <p:cNvSpPr/>
                <p:nvPr/>
              </p:nvSpPr>
              <p:spPr>
                <a:xfrm>
                  <a:off x="235080" y="6094080"/>
                  <a:ext cx="505836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0" name="Group 358"/>
                <p:cNvGrpSpPr/>
                <p:nvPr/>
              </p:nvGrpSpPr>
              <p:grpSpPr>
                <a:xfrm>
                  <a:off x="235080" y="6094080"/>
                  <a:ext cx="5058000" cy="369000"/>
                  <a:chOff x="235080" y="6094080"/>
                  <a:chExt cx="5058000" cy="369000"/>
                </a:xfrm>
              </p:grpSpPr>
              <p:sp>
                <p:nvSpPr>
                  <p:cNvPr id="801" name="Rectangle 213"/>
                  <p:cNvSpPr/>
                  <p:nvPr/>
                </p:nvSpPr>
                <p:spPr>
                  <a:xfrm>
                    <a:off x="248040" y="6099480"/>
                    <a:ext cx="503136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Total da desoneração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Rectangle 357"/>
                  <p:cNvSpPr/>
                  <p:nvPr/>
                </p:nvSpPr>
                <p:spPr>
                  <a:xfrm>
                    <a:off x="235080" y="6094080"/>
                    <a:ext cx="505800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3" name="Group 364"/>
              <p:cNvGrpSpPr/>
              <p:nvPr/>
            </p:nvGrpSpPr>
            <p:grpSpPr>
              <a:xfrm>
                <a:off x="5293800" y="6094080"/>
                <a:ext cx="1725120" cy="380160"/>
                <a:chOff x="5293800" y="6094080"/>
                <a:chExt cx="1725120" cy="380160"/>
              </a:xfrm>
            </p:grpSpPr>
            <p:sp>
              <p:nvSpPr>
                <p:cNvPr id="804" name="Rectangle 363"/>
                <p:cNvSpPr/>
                <p:nvPr/>
              </p:nvSpPr>
              <p:spPr>
                <a:xfrm>
                  <a:off x="5293800" y="6094080"/>
                  <a:ext cx="172512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5" name="Group 362"/>
                <p:cNvGrpSpPr/>
                <p:nvPr/>
              </p:nvGrpSpPr>
              <p:grpSpPr>
                <a:xfrm>
                  <a:off x="5293800" y="6094080"/>
                  <a:ext cx="1724760" cy="369000"/>
                  <a:chOff x="5293800" y="6094080"/>
                  <a:chExt cx="1724760" cy="369000"/>
                </a:xfrm>
              </p:grpSpPr>
              <p:sp>
                <p:nvSpPr>
                  <p:cNvPr id="806" name="Rectangle 214"/>
                  <p:cNvSpPr/>
                  <p:nvPr/>
                </p:nvSpPr>
                <p:spPr>
                  <a:xfrm>
                    <a:off x="5306760" y="6099480"/>
                    <a:ext cx="169884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Rectangle 361"/>
                  <p:cNvSpPr/>
                  <p:nvPr/>
                </p:nvSpPr>
                <p:spPr>
                  <a:xfrm>
                    <a:off x="5293800" y="6094080"/>
                    <a:ext cx="172476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8" name="Group 368"/>
              <p:cNvGrpSpPr/>
              <p:nvPr/>
            </p:nvGrpSpPr>
            <p:grpSpPr>
              <a:xfrm>
                <a:off x="7019280" y="6094080"/>
                <a:ext cx="982080" cy="380160"/>
                <a:chOff x="7019280" y="6094080"/>
                <a:chExt cx="982080" cy="380160"/>
              </a:xfrm>
            </p:grpSpPr>
            <p:sp>
              <p:nvSpPr>
                <p:cNvPr id="809" name="Rectangle 367"/>
                <p:cNvSpPr/>
                <p:nvPr/>
              </p:nvSpPr>
              <p:spPr>
                <a:xfrm>
                  <a:off x="7019280" y="6094080"/>
                  <a:ext cx="98208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Group 366"/>
                <p:cNvGrpSpPr/>
                <p:nvPr/>
              </p:nvGrpSpPr>
              <p:grpSpPr>
                <a:xfrm>
                  <a:off x="7019280" y="6094080"/>
                  <a:ext cx="981720" cy="369000"/>
                  <a:chOff x="7019280" y="6094080"/>
                  <a:chExt cx="981720" cy="369000"/>
                </a:xfrm>
              </p:grpSpPr>
              <p:sp>
                <p:nvSpPr>
                  <p:cNvPr id="811" name="Rectangle 215"/>
                  <p:cNvSpPr/>
                  <p:nvPr/>
                </p:nvSpPr>
                <p:spPr>
                  <a:xfrm>
                    <a:off x="7032600" y="6099480"/>
                    <a:ext cx="95508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8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Rectangle 365"/>
                  <p:cNvSpPr/>
                  <p:nvPr/>
                </p:nvSpPr>
                <p:spPr>
                  <a:xfrm>
                    <a:off x="7019280" y="609408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13" name="Group 372"/>
              <p:cNvGrpSpPr/>
              <p:nvPr/>
            </p:nvGrpSpPr>
            <p:grpSpPr>
              <a:xfrm>
                <a:off x="8002080" y="6094080"/>
                <a:ext cx="982080" cy="380160"/>
                <a:chOff x="8002080" y="6094080"/>
                <a:chExt cx="982080" cy="380160"/>
              </a:xfrm>
            </p:grpSpPr>
            <p:sp>
              <p:nvSpPr>
                <p:cNvPr id="814" name="Rectangle 371"/>
                <p:cNvSpPr/>
                <p:nvPr/>
              </p:nvSpPr>
              <p:spPr>
                <a:xfrm>
                  <a:off x="8002080" y="6094080"/>
                  <a:ext cx="982080" cy="38016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5" name="Group 370"/>
                <p:cNvGrpSpPr/>
                <p:nvPr/>
              </p:nvGrpSpPr>
              <p:grpSpPr>
                <a:xfrm>
                  <a:off x="8002080" y="6094080"/>
                  <a:ext cx="981720" cy="369000"/>
                  <a:chOff x="8002080" y="6094080"/>
                  <a:chExt cx="981720" cy="369000"/>
                </a:xfrm>
              </p:grpSpPr>
              <p:sp>
                <p:nvSpPr>
                  <p:cNvPr id="816" name="Rectangle 216"/>
                  <p:cNvSpPr/>
                  <p:nvPr/>
                </p:nvSpPr>
                <p:spPr>
                  <a:xfrm>
                    <a:off x="8015400" y="6099480"/>
                    <a:ext cx="955080" cy="36360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b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4,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" name="Rectangle 369"/>
                  <p:cNvSpPr/>
                  <p:nvPr/>
                </p:nvSpPr>
                <p:spPr>
                  <a:xfrm>
                    <a:off x="8002080" y="6094080"/>
                    <a:ext cx="981720" cy="3690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18" name="Rectangle 374"/>
            <p:cNvSpPr/>
            <p:nvPr/>
          </p:nvSpPr>
          <p:spPr>
            <a:xfrm>
              <a:off x="228600" y="1066680"/>
              <a:ext cx="8762760" cy="5410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228600" y="1066680"/>
            <a:ext cx="8686800" cy="47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ção Bás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rmação de profess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Universidade Aberta do Brasil: 291 pólos implantados e 271 pré-selecion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IBID¹ - bolsas de iniciação à docê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valiação dos estudant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vinha Brasil: avalia alfabetização nos anos iniciais do ensino fundam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censo – Censo Escolar por aluno, melhoria nas informações e na aplicação de recursos da educaçã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va Brasil: avalia alunos de 4ª a 8ª (5</a:t>
            </a:r>
            <a:r>
              <a:rPr b="0" lang="pt-BR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a 9ª ano) do ensino fundam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DEB²: possibilita medir e acompanhar resultados educacion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4"/>
          <p:cNvSpPr/>
          <p:nvPr/>
        </p:nvSpPr>
        <p:spPr>
          <a:xfrm>
            <a:off x="1570320" y="228600"/>
            <a:ext cx="5802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DE -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Educação em desenvolvim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5"/>
          <p:cNvSpPr/>
          <p:nvPr/>
        </p:nvSpPr>
        <p:spPr>
          <a:xfrm>
            <a:off x="271440" y="549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vestimentos de R$ 15 bi até 2011 orientados para a melhora da qualidade da educação e redução do analfabet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6"/>
          <p:cNvSpPr/>
          <p:nvPr/>
        </p:nvSpPr>
        <p:spPr>
          <a:xfrm>
            <a:off x="152280" y="6400800"/>
            <a:ext cx="449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¹ - Programa de Bolsa Institucional de Iniciação à Docênci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² - Índice de Desenvolvimento da Educação Básic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3"/>
          <p:cNvSpPr/>
          <p:nvPr/>
        </p:nvSpPr>
        <p:spPr>
          <a:xfrm>
            <a:off x="228600" y="1066680"/>
            <a:ext cx="8686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ção Bás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oio ao aluno e à escol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UNDEB: 2</a:t>
            </a:r>
            <a:r>
              <a:rPr b="0" lang="pt-BR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ano de implantação, investimento de R$ 3,2 bilh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nsino Fundamental de 9 anos: de 24% para 44% de matrículas nesse sistem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-Infânc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484 municípios com escolas de educação infant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minho da Escol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ônibus escolar em 619 municípi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aúde na Escol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atendimento ao escolar por equipes d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aúde da Famíl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Laboratórios de informática em todas as escolas públicas; internet em todas as escolas de educação bás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limpíadas: Matemática e Português (esta em parceria – Fundação Itaú Social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 PNATE¹, PNAE² e PDDE³ para toda educação bás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"/>
          <p:cNvSpPr/>
          <p:nvPr/>
        </p:nvSpPr>
        <p:spPr>
          <a:xfrm>
            <a:off x="1607040" y="228600"/>
            <a:ext cx="572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DE -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Educação em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271440" y="549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vestimentos de R$ 15 bi até 2011 orientados para a melhora da qualidade da educação e redução do analfabet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228600" y="62960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¹ - Programa Nacional de Apoio ao Transporte do Escol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² - Programa Nacional de Alimentação Escola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³ - Programa Dinheiro Direto na Escol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3"/>
          <p:cNvSpPr/>
          <p:nvPr/>
        </p:nvSpPr>
        <p:spPr>
          <a:xfrm>
            <a:off x="228600" y="1066680"/>
            <a:ext cx="868680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ção Bás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desão federativa ao P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25 Estados aderiram até dez/2007 (menos Minas Gerais e São Paul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4.612 municípios (83%) aderiram até jan/2008, entre eles 94% dos prioritári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ção Profissional e Tecnológ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214 novas escolas técnicas (64 criadas em 2003/07, 47 em funcionament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ducação Superio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5 novas universidades federais: 10 implantadas, 2 consolidadas, 3 em tramitaçã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86 extensões federais: 61 criadas (52 em funcionamento) e 25 consolidad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uni¹: ampliação de acesso à universidade federal (de 124 mil para 229 mil vagas/ano), aproveitando estrutura existente: 100% de adesão das IFES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uni³: bolsas de estudo integrais e parciais a estudantes de baixa renda (309 mil bolsas, sem contar 1</a:t>
            </a:r>
            <a:r>
              <a:rPr b="0" lang="pt-BR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semestre de 2008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1661040" y="228600"/>
            <a:ext cx="5723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DE -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Educação em desenvolv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5"/>
          <p:cNvSpPr/>
          <p:nvPr/>
        </p:nvSpPr>
        <p:spPr>
          <a:xfrm>
            <a:off x="271440" y="549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vestimentos de R$ 15 bi até 2011 orientados para a melhora da qualidade da educação e redução do analfabetis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228600" y="628344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¹ - Reestruturação e Expansão das Universidades Federa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² - Instituição Federal de Ensino Superi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³ - Programa Universidade para Tod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2"/>
          <p:cNvSpPr/>
          <p:nvPr/>
        </p:nvSpPr>
        <p:spPr>
          <a:xfrm>
            <a:off x="228600" y="1066680"/>
            <a:ext cx="8686800" cy="57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 Plano Nacional de Turismo (2003-2007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No âmbito do I Plano Nacional de Turismo, o mercado formal de trabalho em turismo no país passou de 1,73 milhão para 2,01 milhões de pessoas empregadas, um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crescimento de aproximadamente 16%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Além disso, o número de desembarques domésticos no país passou de 30,7 milhões em 2003 para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50 milhões em 2007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, totalizando quase 207 milhões de desembarques nos últimos cinco an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A entrada de divisas passou de US$ 2,47 bilhões em 2003 para US$ 4,9 bilhões em 2007, totalizando perto de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US$ 19 bi desde a criação do PNT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I Plano Nacional de Turismo (2007-2010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Lançado em 03/06/2007, 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I Plano Nacional de Turismo – Uma Viagem de Inclusã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– é um instrumento de planejamento e gestão onde são estabelecidas as estratégias e medidas a serem desempenhadas no seto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bjetivos Gerai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senvolver o produto turístico brasileiro com qualidade, contemplando nossas diversidades regionais, culturais e natur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ver o turismo como fator de inclusão social, por meio da geração de trabalho e renda e pela inclusão da atividade na pauta de consumo de todos os brasileir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Fomentar a competitividade do produto turístico brasileiro nos mercados nacional e internacional e atrair divisas para o paí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3"/>
          <p:cNvSpPr/>
          <p:nvPr/>
        </p:nvSpPr>
        <p:spPr>
          <a:xfrm>
            <a:off x="1881720" y="228600"/>
            <a:ext cx="5228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lano Nacional de Turismo (P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4"/>
          <p:cNvSpPr/>
          <p:nvPr/>
        </p:nvSpPr>
        <p:spPr>
          <a:xfrm>
            <a:off x="271440" y="549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Aumento da formalidade e entrada de divisas aliado a promoção, desenvolvimento e inclusão so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2"/>
          <p:cNvSpPr/>
          <p:nvPr/>
        </p:nvSpPr>
        <p:spPr>
          <a:xfrm>
            <a:off x="228600" y="1066680"/>
            <a:ext cx="8686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uas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is met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sã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ção da realização de 163 milhões de viagens no mercado interno em 2007, e 217 milhões em 20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iação de 335 mil novos empregos e ocupações em 2007, e 516 mil em 201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eração de US$ 5,1 bilhões em divisas em 2007 e US$ 7,7 bi em 201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struturação de 65 destinos turísticos com padrão de qualidade internacional durante os quatro an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vestimentos previstos 2007-201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1881720" y="228600"/>
            <a:ext cx="5228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lano Nacional de Turismo (P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271440" y="549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Aumento da formalidade e entrada de divisas aliado a promoção, desenvolvimento e inclusão so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7" name="Picture 5" descr=""/>
          <p:cNvPicPr/>
          <p:nvPr/>
        </p:nvPicPr>
        <p:blipFill>
          <a:blip r:embed="rId1"/>
          <a:stretch/>
        </p:blipFill>
        <p:spPr>
          <a:xfrm>
            <a:off x="380880" y="4495680"/>
            <a:ext cx="7543800" cy="198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44"/>
          <p:cNvSpPr/>
          <p:nvPr/>
        </p:nvSpPr>
        <p:spPr>
          <a:xfrm>
            <a:off x="1905480" y="228600"/>
            <a:ext cx="5383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COMPARAÇÃO: JAN/2003 – JAN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990"/>
          <p:cNvGrpSpPr/>
          <p:nvPr/>
        </p:nvGrpSpPr>
        <p:grpSpPr>
          <a:xfrm>
            <a:off x="457200" y="685800"/>
            <a:ext cx="8077320" cy="330120"/>
            <a:chOff x="457200" y="685800"/>
            <a:chExt cx="8077320" cy="330120"/>
          </a:xfrm>
        </p:grpSpPr>
        <p:sp>
          <p:nvSpPr>
            <p:cNvPr id="224" name="Rectangle 991"/>
            <p:cNvSpPr/>
            <p:nvPr/>
          </p:nvSpPr>
          <p:spPr>
            <a:xfrm>
              <a:off x="457200" y="685800"/>
              <a:ext cx="8077320" cy="3301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992"/>
            <p:cNvGrpSpPr/>
            <p:nvPr/>
          </p:nvGrpSpPr>
          <p:grpSpPr>
            <a:xfrm>
              <a:off x="457200" y="689040"/>
              <a:ext cx="8063640" cy="326880"/>
              <a:chOff x="457200" y="689040"/>
              <a:chExt cx="8063640" cy="326880"/>
            </a:xfrm>
          </p:grpSpPr>
          <p:grpSp>
            <p:nvGrpSpPr>
              <p:cNvPr id="226" name="Group 993"/>
              <p:cNvGrpSpPr/>
              <p:nvPr/>
            </p:nvGrpSpPr>
            <p:grpSpPr>
              <a:xfrm>
                <a:off x="457200" y="689040"/>
                <a:ext cx="4422240" cy="326880"/>
                <a:chOff x="457200" y="689040"/>
                <a:chExt cx="4422240" cy="326880"/>
              </a:xfrm>
            </p:grpSpPr>
            <p:sp>
              <p:nvSpPr>
                <p:cNvPr id="227" name="Rectangle 994"/>
                <p:cNvSpPr/>
                <p:nvPr/>
              </p:nvSpPr>
              <p:spPr>
                <a:xfrm>
                  <a:off x="509400" y="689040"/>
                  <a:ext cx="431748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dicado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995"/>
                <p:cNvSpPr/>
                <p:nvPr/>
              </p:nvSpPr>
              <p:spPr>
                <a:xfrm>
                  <a:off x="457200" y="689040"/>
                  <a:ext cx="442224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996"/>
              <p:cNvGrpSpPr/>
              <p:nvPr/>
            </p:nvGrpSpPr>
            <p:grpSpPr>
              <a:xfrm>
                <a:off x="4879800" y="689040"/>
                <a:ext cx="1086480" cy="326880"/>
                <a:chOff x="4879800" y="689040"/>
                <a:chExt cx="1086480" cy="326880"/>
              </a:xfrm>
            </p:grpSpPr>
            <p:sp>
              <p:nvSpPr>
                <p:cNvPr id="230" name="Rectangle 997"/>
                <p:cNvSpPr/>
                <p:nvPr/>
              </p:nvSpPr>
              <p:spPr>
                <a:xfrm>
                  <a:off x="4932000" y="689040"/>
                  <a:ext cx="98172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/2003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998"/>
                <p:cNvSpPr/>
                <p:nvPr/>
              </p:nvSpPr>
              <p:spPr>
                <a:xfrm>
                  <a:off x="4879800" y="689040"/>
                  <a:ext cx="108648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Group 999"/>
              <p:cNvGrpSpPr/>
              <p:nvPr/>
            </p:nvGrpSpPr>
            <p:grpSpPr>
              <a:xfrm>
                <a:off x="5967000" y="689040"/>
                <a:ext cx="1086120" cy="326880"/>
                <a:chOff x="5967000" y="689040"/>
                <a:chExt cx="1086120" cy="326880"/>
              </a:xfrm>
            </p:grpSpPr>
            <p:sp>
              <p:nvSpPr>
                <p:cNvPr id="233" name="Rectangle 1000"/>
                <p:cNvSpPr/>
                <p:nvPr/>
              </p:nvSpPr>
              <p:spPr>
                <a:xfrm>
                  <a:off x="6019200" y="689040"/>
                  <a:ext cx="98172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jan/200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001"/>
                <p:cNvSpPr/>
                <p:nvPr/>
              </p:nvSpPr>
              <p:spPr>
                <a:xfrm>
                  <a:off x="5967000" y="689040"/>
                  <a:ext cx="108612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Group 1002"/>
              <p:cNvGrpSpPr/>
              <p:nvPr/>
            </p:nvGrpSpPr>
            <p:grpSpPr>
              <a:xfrm>
                <a:off x="7053840" y="689040"/>
                <a:ext cx="1467000" cy="326880"/>
                <a:chOff x="7053840" y="689040"/>
                <a:chExt cx="1467000" cy="326880"/>
              </a:xfrm>
            </p:grpSpPr>
            <p:sp>
              <p:nvSpPr>
                <p:cNvPr id="236" name="Rectangle 1003"/>
                <p:cNvSpPr/>
                <p:nvPr/>
              </p:nvSpPr>
              <p:spPr>
                <a:xfrm>
                  <a:off x="7106400" y="689040"/>
                  <a:ext cx="1362240" cy="3268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ariação (%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Rectangle 1004"/>
                <p:cNvSpPr/>
                <p:nvPr/>
              </p:nvSpPr>
              <p:spPr>
                <a:xfrm>
                  <a:off x="7053840" y="689040"/>
                  <a:ext cx="1467000" cy="32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8" name="Rectangle 1007"/>
          <p:cNvSpPr/>
          <p:nvPr/>
        </p:nvSpPr>
        <p:spPr>
          <a:xfrm>
            <a:off x="380880" y="592776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** Posi</a:t>
            </a:r>
            <a:r>
              <a:rPr b="0" lang="pt-BR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ç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ão em dezembro/2007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**** Estimativa IB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1150"/>
          <p:cNvGrpSpPr/>
          <p:nvPr/>
        </p:nvGrpSpPr>
        <p:grpSpPr>
          <a:xfrm>
            <a:off x="457200" y="1009800"/>
            <a:ext cx="8076960" cy="4876560"/>
            <a:chOff x="457200" y="1009800"/>
            <a:chExt cx="8076960" cy="4876560"/>
          </a:xfrm>
        </p:grpSpPr>
        <p:grpSp>
          <p:nvGrpSpPr>
            <p:cNvPr id="240" name="Group 1148"/>
            <p:cNvGrpSpPr/>
            <p:nvPr/>
          </p:nvGrpSpPr>
          <p:grpSpPr>
            <a:xfrm>
              <a:off x="462600" y="1012680"/>
              <a:ext cx="8065440" cy="4870080"/>
              <a:chOff x="462600" y="1012680"/>
              <a:chExt cx="8065440" cy="4870080"/>
            </a:xfrm>
          </p:grpSpPr>
          <p:grpSp>
            <p:nvGrpSpPr>
              <p:cNvPr id="241" name="Group 1045"/>
              <p:cNvGrpSpPr/>
              <p:nvPr/>
            </p:nvGrpSpPr>
            <p:grpSpPr>
              <a:xfrm>
                <a:off x="462600" y="1012680"/>
                <a:ext cx="4423320" cy="540720"/>
                <a:chOff x="462600" y="1012680"/>
                <a:chExt cx="4423320" cy="540720"/>
              </a:xfrm>
            </p:grpSpPr>
            <p:sp>
              <p:nvSpPr>
                <p:cNvPr id="242" name="Rectangle 1008"/>
                <p:cNvSpPr/>
                <p:nvPr/>
              </p:nvSpPr>
              <p:spPr>
                <a:xfrm>
                  <a:off x="514800" y="1012680"/>
                  <a:ext cx="431856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nflação IPC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% a.m.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Rectangle 1044"/>
                <p:cNvSpPr/>
                <p:nvPr/>
              </p:nvSpPr>
              <p:spPr>
                <a:xfrm>
                  <a:off x="462600" y="1012680"/>
                  <a:ext cx="442332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1047"/>
              <p:cNvGrpSpPr/>
              <p:nvPr/>
            </p:nvGrpSpPr>
            <p:grpSpPr>
              <a:xfrm>
                <a:off x="4886280" y="1012680"/>
                <a:ext cx="1086840" cy="540720"/>
                <a:chOff x="4886280" y="1012680"/>
                <a:chExt cx="1086840" cy="540720"/>
              </a:xfrm>
            </p:grpSpPr>
            <p:sp>
              <p:nvSpPr>
                <p:cNvPr id="245" name="Rectangle 1009"/>
                <p:cNvSpPr/>
                <p:nvPr/>
              </p:nvSpPr>
              <p:spPr>
                <a:xfrm>
                  <a:off x="4938480" y="101268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,2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1046"/>
                <p:cNvSpPr/>
                <p:nvPr/>
              </p:nvSpPr>
              <p:spPr>
                <a:xfrm>
                  <a:off x="4886280" y="1012680"/>
                  <a:ext cx="10868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Group 1049"/>
              <p:cNvGrpSpPr/>
              <p:nvPr/>
            </p:nvGrpSpPr>
            <p:grpSpPr>
              <a:xfrm>
                <a:off x="5973840" y="1012680"/>
                <a:ext cx="1086480" cy="540720"/>
                <a:chOff x="5973840" y="1012680"/>
                <a:chExt cx="1086480" cy="540720"/>
              </a:xfrm>
            </p:grpSpPr>
            <p:sp>
              <p:nvSpPr>
                <p:cNvPr id="248" name="Rectangle 1010"/>
                <p:cNvSpPr/>
                <p:nvPr/>
              </p:nvSpPr>
              <p:spPr>
                <a:xfrm>
                  <a:off x="6026040" y="101268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,54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Rectangle 1048"/>
                <p:cNvSpPr/>
                <p:nvPr/>
              </p:nvSpPr>
              <p:spPr>
                <a:xfrm>
                  <a:off x="5973840" y="1012680"/>
                  <a:ext cx="10864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Group 1051"/>
              <p:cNvGrpSpPr/>
              <p:nvPr/>
            </p:nvGrpSpPr>
            <p:grpSpPr>
              <a:xfrm>
                <a:off x="7060680" y="1012680"/>
                <a:ext cx="1467360" cy="540720"/>
                <a:chOff x="7060680" y="1012680"/>
                <a:chExt cx="1467360" cy="540720"/>
              </a:xfrm>
            </p:grpSpPr>
            <p:sp>
              <p:nvSpPr>
                <p:cNvPr id="251" name="Rectangle 1011"/>
                <p:cNvSpPr/>
                <p:nvPr/>
              </p:nvSpPr>
              <p:spPr>
                <a:xfrm>
                  <a:off x="7113240" y="1012680"/>
                  <a:ext cx="1362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76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Rectangle 1050"/>
                <p:cNvSpPr/>
                <p:nvPr/>
              </p:nvSpPr>
              <p:spPr>
                <a:xfrm>
                  <a:off x="7060680" y="1012680"/>
                  <a:ext cx="146736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055"/>
              <p:cNvGrpSpPr/>
              <p:nvPr/>
            </p:nvGrpSpPr>
            <p:grpSpPr>
              <a:xfrm>
                <a:off x="462600" y="1553400"/>
                <a:ext cx="4423320" cy="541080"/>
                <a:chOff x="462600" y="1553400"/>
                <a:chExt cx="4423320" cy="541080"/>
              </a:xfrm>
            </p:grpSpPr>
            <p:sp>
              <p:nvSpPr>
                <p:cNvPr id="254" name="Rectangle 1054"/>
                <p:cNvSpPr/>
                <p:nvPr/>
              </p:nvSpPr>
              <p:spPr>
                <a:xfrm>
                  <a:off x="462600" y="1553400"/>
                  <a:ext cx="442332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" name="Group 1053"/>
                <p:cNvGrpSpPr/>
                <p:nvPr/>
              </p:nvGrpSpPr>
              <p:grpSpPr>
                <a:xfrm>
                  <a:off x="462600" y="1553400"/>
                  <a:ext cx="4422960" cy="541080"/>
                  <a:chOff x="462600" y="1553400"/>
                  <a:chExt cx="4422960" cy="541080"/>
                </a:xfrm>
              </p:grpSpPr>
              <p:sp>
                <p:nvSpPr>
                  <p:cNvPr id="256" name="Rectangle 1012"/>
                  <p:cNvSpPr/>
                  <p:nvPr/>
                </p:nvSpPr>
                <p:spPr>
                  <a:xfrm>
                    <a:off x="514800" y="1553400"/>
                    <a:ext cx="431820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Feijão</a:t>
                    </a: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 (custo do saco 1kg em SP corrigido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pelo IPCA, período 01/03 a 01/08 – em R$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Rectangle 1052"/>
                  <p:cNvSpPr/>
                  <p:nvPr/>
                </p:nvSpPr>
                <p:spPr>
                  <a:xfrm>
                    <a:off x="462600" y="1553400"/>
                    <a:ext cx="442296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8" name="Group 1059"/>
              <p:cNvGrpSpPr/>
              <p:nvPr/>
            </p:nvGrpSpPr>
            <p:grpSpPr>
              <a:xfrm>
                <a:off x="4886280" y="1553400"/>
                <a:ext cx="1086840" cy="541080"/>
                <a:chOff x="4886280" y="1553400"/>
                <a:chExt cx="1086840" cy="541080"/>
              </a:xfrm>
            </p:grpSpPr>
            <p:sp>
              <p:nvSpPr>
                <p:cNvPr id="259" name="Rectangle 1058"/>
                <p:cNvSpPr/>
                <p:nvPr/>
              </p:nvSpPr>
              <p:spPr>
                <a:xfrm>
                  <a:off x="4886280" y="1553400"/>
                  <a:ext cx="108684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" name="Group 1057"/>
                <p:cNvGrpSpPr/>
                <p:nvPr/>
              </p:nvGrpSpPr>
              <p:grpSpPr>
                <a:xfrm>
                  <a:off x="4886280" y="1553400"/>
                  <a:ext cx="1086480" cy="541080"/>
                  <a:chOff x="4886280" y="1553400"/>
                  <a:chExt cx="1086480" cy="541080"/>
                </a:xfrm>
              </p:grpSpPr>
              <p:sp>
                <p:nvSpPr>
                  <p:cNvPr id="261" name="Rectangle 1013"/>
                  <p:cNvSpPr/>
                  <p:nvPr/>
                </p:nvSpPr>
                <p:spPr>
                  <a:xfrm>
                    <a:off x="4938480" y="155340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4,24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Rectangle 1056"/>
                  <p:cNvSpPr/>
                  <p:nvPr/>
                </p:nvSpPr>
                <p:spPr>
                  <a:xfrm>
                    <a:off x="4886280" y="1553400"/>
                    <a:ext cx="108648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3" name="Group 1063"/>
              <p:cNvGrpSpPr/>
              <p:nvPr/>
            </p:nvGrpSpPr>
            <p:grpSpPr>
              <a:xfrm>
                <a:off x="5973840" y="1553400"/>
                <a:ext cx="1086480" cy="541080"/>
                <a:chOff x="5973840" y="1553400"/>
                <a:chExt cx="1086480" cy="541080"/>
              </a:xfrm>
            </p:grpSpPr>
            <p:sp>
              <p:nvSpPr>
                <p:cNvPr id="264" name="Rectangle 1062"/>
                <p:cNvSpPr/>
                <p:nvPr/>
              </p:nvSpPr>
              <p:spPr>
                <a:xfrm>
                  <a:off x="5973840" y="1553400"/>
                  <a:ext cx="108648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" name="Group 1061"/>
                <p:cNvGrpSpPr/>
                <p:nvPr/>
              </p:nvGrpSpPr>
              <p:grpSpPr>
                <a:xfrm>
                  <a:off x="5973840" y="1553400"/>
                  <a:ext cx="1086120" cy="541080"/>
                  <a:chOff x="5973840" y="1553400"/>
                  <a:chExt cx="1086120" cy="541080"/>
                </a:xfrm>
              </p:grpSpPr>
              <p:sp>
                <p:nvSpPr>
                  <p:cNvPr id="266" name="Rectangle 1014"/>
                  <p:cNvSpPr/>
                  <p:nvPr/>
                </p:nvSpPr>
                <p:spPr>
                  <a:xfrm>
                    <a:off x="6026040" y="155340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7,2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Rectangle 1060"/>
                  <p:cNvSpPr/>
                  <p:nvPr/>
                </p:nvSpPr>
                <p:spPr>
                  <a:xfrm>
                    <a:off x="5973840" y="1553400"/>
                    <a:ext cx="108612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8" name="Group 1067"/>
              <p:cNvGrpSpPr/>
              <p:nvPr/>
            </p:nvGrpSpPr>
            <p:grpSpPr>
              <a:xfrm>
                <a:off x="7060680" y="1553400"/>
                <a:ext cx="1467360" cy="541080"/>
                <a:chOff x="7060680" y="1553400"/>
                <a:chExt cx="1467360" cy="541080"/>
              </a:xfrm>
            </p:grpSpPr>
            <p:sp>
              <p:nvSpPr>
                <p:cNvPr id="269" name="Rectangle 1066"/>
                <p:cNvSpPr/>
                <p:nvPr/>
              </p:nvSpPr>
              <p:spPr>
                <a:xfrm>
                  <a:off x="7060680" y="1553400"/>
                  <a:ext cx="146736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Group 1065"/>
                <p:cNvGrpSpPr/>
                <p:nvPr/>
              </p:nvGrpSpPr>
              <p:grpSpPr>
                <a:xfrm>
                  <a:off x="7060680" y="1553400"/>
                  <a:ext cx="1467000" cy="541080"/>
                  <a:chOff x="7060680" y="1553400"/>
                  <a:chExt cx="1467000" cy="541080"/>
                </a:xfrm>
              </p:grpSpPr>
              <p:sp>
                <p:nvSpPr>
                  <p:cNvPr id="271" name="Rectangle 1015"/>
                  <p:cNvSpPr/>
                  <p:nvPr/>
                </p:nvSpPr>
                <p:spPr>
                  <a:xfrm>
                    <a:off x="7113240" y="1553400"/>
                    <a:ext cx="136224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7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Rectangle 1064"/>
                  <p:cNvSpPr/>
                  <p:nvPr/>
                </p:nvSpPr>
                <p:spPr>
                  <a:xfrm>
                    <a:off x="7060680" y="1553400"/>
                    <a:ext cx="146700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3" name="Group 1069"/>
              <p:cNvGrpSpPr/>
              <p:nvPr/>
            </p:nvGrpSpPr>
            <p:grpSpPr>
              <a:xfrm>
                <a:off x="462600" y="2094840"/>
                <a:ext cx="4423320" cy="540720"/>
                <a:chOff x="462600" y="2094840"/>
                <a:chExt cx="4423320" cy="540720"/>
              </a:xfrm>
            </p:grpSpPr>
            <p:sp>
              <p:nvSpPr>
                <p:cNvPr id="274" name="Rectangle 1016"/>
                <p:cNvSpPr/>
                <p:nvPr/>
              </p:nvSpPr>
              <p:spPr>
                <a:xfrm>
                  <a:off x="514800" y="2094840"/>
                  <a:ext cx="431856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Cimento</a:t>
                  </a: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(custo do saco 50 kg em SP corrigid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elo IPCA, período 01/03 a 01/08 - em R$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Rectangle 1068"/>
                <p:cNvSpPr/>
                <p:nvPr/>
              </p:nvSpPr>
              <p:spPr>
                <a:xfrm>
                  <a:off x="462600" y="2094840"/>
                  <a:ext cx="442332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Group 1071"/>
              <p:cNvGrpSpPr/>
              <p:nvPr/>
            </p:nvGrpSpPr>
            <p:grpSpPr>
              <a:xfrm>
                <a:off x="4886280" y="2094840"/>
                <a:ext cx="1086840" cy="540720"/>
                <a:chOff x="4886280" y="2094840"/>
                <a:chExt cx="1086840" cy="540720"/>
              </a:xfrm>
            </p:grpSpPr>
            <p:sp>
              <p:nvSpPr>
                <p:cNvPr id="277" name="Rectangle 1017"/>
                <p:cNvSpPr/>
                <p:nvPr/>
              </p:nvSpPr>
              <p:spPr>
                <a:xfrm>
                  <a:off x="4938480" y="209484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,17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Rectangle 1070"/>
                <p:cNvSpPr/>
                <p:nvPr/>
              </p:nvSpPr>
              <p:spPr>
                <a:xfrm>
                  <a:off x="4886280" y="2094840"/>
                  <a:ext cx="10868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Group 1073"/>
              <p:cNvGrpSpPr/>
              <p:nvPr/>
            </p:nvGrpSpPr>
            <p:grpSpPr>
              <a:xfrm>
                <a:off x="5973840" y="2094840"/>
                <a:ext cx="1086480" cy="540720"/>
                <a:chOff x="5973840" y="2094840"/>
                <a:chExt cx="1086480" cy="540720"/>
              </a:xfrm>
            </p:grpSpPr>
            <p:sp>
              <p:nvSpPr>
                <p:cNvPr id="280" name="Rectangle 1018"/>
                <p:cNvSpPr/>
                <p:nvPr/>
              </p:nvSpPr>
              <p:spPr>
                <a:xfrm>
                  <a:off x="6026040" y="209484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5,5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072"/>
                <p:cNvSpPr/>
                <p:nvPr/>
              </p:nvSpPr>
              <p:spPr>
                <a:xfrm>
                  <a:off x="5973840" y="2094840"/>
                  <a:ext cx="10864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Group 1075"/>
              <p:cNvGrpSpPr/>
              <p:nvPr/>
            </p:nvGrpSpPr>
            <p:grpSpPr>
              <a:xfrm>
                <a:off x="7060680" y="2094840"/>
                <a:ext cx="1467360" cy="540720"/>
                <a:chOff x="7060680" y="2094840"/>
                <a:chExt cx="1467360" cy="540720"/>
              </a:xfrm>
            </p:grpSpPr>
            <p:sp>
              <p:nvSpPr>
                <p:cNvPr id="283" name="Rectangle 1019"/>
                <p:cNvSpPr/>
                <p:nvPr/>
              </p:nvSpPr>
              <p:spPr>
                <a:xfrm>
                  <a:off x="7113240" y="2094840"/>
                  <a:ext cx="1362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3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Rectangle 1074"/>
                <p:cNvSpPr/>
                <p:nvPr/>
              </p:nvSpPr>
              <p:spPr>
                <a:xfrm>
                  <a:off x="7060680" y="2094840"/>
                  <a:ext cx="146736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 1079"/>
              <p:cNvGrpSpPr/>
              <p:nvPr/>
            </p:nvGrpSpPr>
            <p:grpSpPr>
              <a:xfrm>
                <a:off x="462600" y="2635920"/>
                <a:ext cx="4423320" cy="541080"/>
                <a:chOff x="462600" y="2635920"/>
                <a:chExt cx="4423320" cy="541080"/>
              </a:xfrm>
            </p:grpSpPr>
            <p:sp>
              <p:nvSpPr>
                <p:cNvPr id="286" name="Rectangle 1078"/>
                <p:cNvSpPr/>
                <p:nvPr/>
              </p:nvSpPr>
              <p:spPr>
                <a:xfrm>
                  <a:off x="462600" y="2635920"/>
                  <a:ext cx="442332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Group 1077"/>
                <p:cNvGrpSpPr/>
                <p:nvPr/>
              </p:nvGrpSpPr>
              <p:grpSpPr>
                <a:xfrm>
                  <a:off x="462600" y="2635920"/>
                  <a:ext cx="4422960" cy="541080"/>
                  <a:chOff x="462600" y="2635920"/>
                  <a:chExt cx="4422960" cy="541080"/>
                </a:xfrm>
              </p:grpSpPr>
              <p:sp>
                <p:nvSpPr>
                  <p:cNvPr id="288" name="Rectangle 1020"/>
                  <p:cNvSpPr/>
                  <p:nvPr/>
                </p:nvSpPr>
                <p:spPr>
                  <a:xfrm>
                    <a:off x="514800" y="2635920"/>
                    <a:ext cx="431820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mprego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milhões de postos formais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Rectangle 1076"/>
                  <p:cNvSpPr/>
                  <p:nvPr/>
                </p:nvSpPr>
                <p:spPr>
                  <a:xfrm>
                    <a:off x="462600" y="2635920"/>
                    <a:ext cx="442296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Group 1083"/>
              <p:cNvGrpSpPr/>
              <p:nvPr/>
            </p:nvGrpSpPr>
            <p:grpSpPr>
              <a:xfrm>
                <a:off x="4886280" y="2635920"/>
                <a:ext cx="1086840" cy="541080"/>
                <a:chOff x="4886280" y="2635920"/>
                <a:chExt cx="1086840" cy="541080"/>
              </a:xfrm>
            </p:grpSpPr>
            <p:sp>
              <p:nvSpPr>
                <p:cNvPr id="291" name="Rectangle 1082"/>
                <p:cNvSpPr/>
                <p:nvPr/>
              </p:nvSpPr>
              <p:spPr>
                <a:xfrm>
                  <a:off x="4886280" y="2635920"/>
                  <a:ext cx="108684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Group 1081"/>
                <p:cNvGrpSpPr/>
                <p:nvPr/>
              </p:nvGrpSpPr>
              <p:grpSpPr>
                <a:xfrm>
                  <a:off x="4886280" y="2635920"/>
                  <a:ext cx="1086480" cy="541080"/>
                  <a:chOff x="4886280" y="2635920"/>
                  <a:chExt cx="1086480" cy="541080"/>
                </a:xfrm>
              </p:grpSpPr>
              <p:sp>
                <p:nvSpPr>
                  <p:cNvPr id="293" name="Rectangle 1021"/>
                  <p:cNvSpPr/>
                  <p:nvPr/>
                </p:nvSpPr>
                <p:spPr>
                  <a:xfrm>
                    <a:off x="4938480" y="263592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8,7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Rectangle 1080"/>
                  <p:cNvSpPr/>
                  <p:nvPr/>
                </p:nvSpPr>
                <p:spPr>
                  <a:xfrm>
                    <a:off x="4886280" y="2635920"/>
                    <a:ext cx="108648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Group 1087"/>
              <p:cNvGrpSpPr/>
              <p:nvPr/>
            </p:nvGrpSpPr>
            <p:grpSpPr>
              <a:xfrm>
                <a:off x="5973840" y="2635920"/>
                <a:ext cx="1086480" cy="541080"/>
                <a:chOff x="5973840" y="2635920"/>
                <a:chExt cx="1086480" cy="541080"/>
              </a:xfrm>
            </p:grpSpPr>
            <p:sp>
              <p:nvSpPr>
                <p:cNvPr id="296" name="Rectangle 1086"/>
                <p:cNvSpPr/>
                <p:nvPr/>
              </p:nvSpPr>
              <p:spPr>
                <a:xfrm>
                  <a:off x="5973840" y="2635920"/>
                  <a:ext cx="108648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Group 1085"/>
                <p:cNvGrpSpPr/>
                <p:nvPr/>
              </p:nvGrpSpPr>
              <p:grpSpPr>
                <a:xfrm>
                  <a:off x="5973840" y="2635920"/>
                  <a:ext cx="1086120" cy="541080"/>
                  <a:chOff x="5973840" y="2635920"/>
                  <a:chExt cx="1086120" cy="541080"/>
                </a:xfrm>
              </p:grpSpPr>
              <p:sp>
                <p:nvSpPr>
                  <p:cNvPr id="298" name="Rectangle 1022"/>
                  <p:cNvSpPr/>
                  <p:nvPr/>
                </p:nvSpPr>
                <p:spPr>
                  <a:xfrm>
                    <a:off x="6026040" y="263592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6,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Rectangle 1084"/>
                  <p:cNvSpPr/>
                  <p:nvPr/>
                </p:nvSpPr>
                <p:spPr>
                  <a:xfrm>
                    <a:off x="5973840" y="2635920"/>
                    <a:ext cx="108612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Group 1091"/>
              <p:cNvGrpSpPr/>
              <p:nvPr/>
            </p:nvGrpSpPr>
            <p:grpSpPr>
              <a:xfrm>
                <a:off x="7060680" y="2635920"/>
                <a:ext cx="1467360" cy="541080"/>
                <a:chOff x="7060680" y="2635920"/>
                <a:chExt cx="1467360" cy="541080"/>
              </a:xfrm>
            </p:grpSpPr>
            <p:sp>
              <p:nvSpPr>
                <p:cNvPr id="301" name="Rectangle 1090"/>
                <p:cNvSpPr/>
                <p:nvPr/>
              </p:nvSpPr>
              <p:spPr>
                <a:xfrm>
                  <a:off x="7060680" y="2635920"/>
                  <a:ext cx="146736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Group 1089"/>
                <p:cNvGrpSpPr/>
                <p:nvPr/>
              </p:nvGrpSpPr>
              <p:grpSpPr>
                <a:xfrm>
                  <a:off x="7060680" y="2635920"/>
                  <a:ext cx="1467000" cy="541080"/>
                  <a:chOff x="7060680" y="2635920"/>
                  <a:chExt cx="1467000" cy="541080"/>
                </a:xfrm>
              </p:grpSpPr>
              <p:sp>
                <p:nvSpPr>
                  <p:cNvPr id="303" name="Rectangle 1023"/>
                  <p:cNvSpPr/>
                  <p:nvPr/>
                </p:nvSpPr>
                <p:spPr>
                  <a:xfrm>
                    <a:off x="7113240" y="2635920"/>
                    <a:ext cx="136224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29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Rectangle 1088"/>
                  <p:cNvSpPr/>
                  <p:nvPr/>
                </p:nvSpPr>
                <p:spPr>
                  <a:xfrm>
                    <a:off x="7060680" y="2635920"/>
                    <a:ext cx="146700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Group 1093"/>
              <p:cNvGrpSpPr/>
              <p:nvPr/>
            </p:nvGrpSpPr>
            <p:grpSpPr>
              <a:xfrm>
                <a:off x="462600" y="3177360"/>
                <a:ext cx="4423320" cy="540720"/>
                <a:chOff x="462600" y="3177360"/>
                <a:chExt cx="4423320" cy="540720"/>
              </a:xfrm>
            </p:grpSpPr>
            <p:sp>
              <p:nvSpPr>
                <p:cNvPr id="306" name="Rectangle 1024"/>
                <p:cNvSpPr/>
                <p:nvPr/>
              </p:nvSpPr>
              <p:spPr>
                <a:xfrm>
                  <a:off x="514800" y="3177360"/>
                  <a:ext cx="431856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Taxa de desocupaçã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%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Rectangle 1092"/>
                <p:cNvSpPr/>
                <p:nvPr/>
              </p:nvSpPr>
              <p:spPr>
                <a:xfrm>
                  <a:off x="462600" y="3177360"/>
                  <a:ext cx="442332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Group 1095"/>
              <p:cNvGrpSpPr/>
              <p:nvPr/>
            </p:nvGrpSpPr>
            <p:grpSpPr>
              <a:xfrm>
                <a:off x="4886280" y="3177360"/>
                <a:ext cx="1086840" cy="540720"/>
                <a:chOff x="4886280" y="3177360"/>
                <a:chExt cx="1086840" cy="540720"/>
              </a:xfrm>
            </p:grpSpPr>
            <p:sp>
              <p:nvSpPr>
                <p:cNvPr id="309" name="Rectangle 1025"/>
                <p:cNvSpPr/>
                <p:nvPr/>
              </p:nvSpPr>
              <p:spPr>
                <a:xfrm>
                  <a:off x="4938480" y="317736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,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Rectangle 1094"/>
                <p:cNvSpPr/>
                <p:nvPr/>
              </p:nvSpPr>
              <p:spPr>
                <a:xfrm>
                  <a:off x="4886280" y="3177360"/>
                  <a:ext cx="10868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Group 1097"/>
              <p:cNvGrpSpPr/>
              <p:nvPr/>
            </p:nvGrpSpPr>
            <p:grpSpPr>
              <a:xfrm>
                <a:off x="5973840" y="3177360"/>
                <a:ext cx="1086480" cy="540720"/>
                <a:chOff x="5973840" y="3177360"/>
                <a:chExt cx="1086480" cy="540720"/>
              </a:xfrm>
            </p:grpSpPr>
            <p:sp>
              <p:nvSpPr>
                <p:cNvPr id="312" name="Rectangle 1026"/>
                <p:cNvSpPr/>
                <p:nvPr/>
              </p:nvSpPr>
              <p:spPr>
                <a:xfrm>
                  <a:off x="6026040" y="317736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,4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Rectangle 1096"/>
                <p:cNvSpPr/>
                <p:nvPr/>
              </p:nvSpPr>
              <p:spPr>
                <a:xfrm>
                  <a:off x="5973840" y="3177360"/>
                  <a:ext cx="10864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Group 1099"/>
              <p:cNvGrpSpPr/>
              <p:nvPr/>
            </p:nvGrpSpPr>
            <p:grpSpPr>
              <a:xfrm>
                <a:off x="7060680" y="3177360"/>
                <a:ext cx="1467360" cy="540720"/>
                <a:chOff x="7060680" y="3177360"/>
                <a:chExt cx="1467360" cy="540720"/>
              </a:xfrm>
            </p:grpSpPr>
            <p:sp>
              <p:nvSpPr>
                <p:cNvPr id="315" name="Rectangle 1027"/>
                <p:cNvSpPr/>
                <p:nvPr/>
              </p:nvSpPr>
              <p:spPr>
                <a:xfrm>
                  <a:off x="7113240" y="3177360"/>
                  <a:ext cx="1362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-34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1098"/>
                <p:cNvSpPr/>
                <p:nvPr/>
              </p:nvSpPr>
              <p:spPr>
                <a:xfrm>
                  <a:off x="7060680" y="3177360"/>
                  <a:ext cx="146736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Group 1103"/>
              <p:cNvGrpSpPr/>
              <p:nvPr/>
            </p:nvGrpSpPr>
            <p:grpSpPr>
              <a:xfrm>
                <a:off x="462600" y="3718440"/>
                <a:ext cx="4423320" cy="541080"/>
                <a:chOff x="462600" y="3718440"/>
                <a:chExt cx="4423320" cy="541080"/>
              </a:xfrm>
            </p:grpSpPr>
            <p:sp>
              <p:nvSpPr>
                <p:cNvPr id="318" name="Rectangle 1102"/>
                <p:cNvSpPr/>
                <p:nvPr/>
              </p:nvSpPr>
              <p:spPr>
                <a:xfrm>
                  <a:off x="462600" y="3718440"/>
                  <a:ext cx="442332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9" name="Group 1101"/>
                <p:cNvGrpSpPr/>
                <p:nvPr/>
              </p:nvGrpSpPr>
              <p:grpSpPr>
                <a:xfrm>
                  <a:off x="462600" y="3718440"/>
                  <a:ext cx="4422960" cy="541080"/>
                  <a:chOff x="462600" y="3718440"/>
                  <a:chExt cx="4422960" cy="541080"/>
                </a:xfrm>
              </p:grpSpPr>
              <p:sp>
                <p:nvSpPr>
                  <p:cNvPr id="320" name="Rectangle 1028"/>
                  <p:cNvSpPr/>
                  <p:nvPr/>
                </p:nvSpPr>
                <p:spPr>
                  <a:xfrm>
                    <a:off x="514800" y="3718440"/>
                    <a:ext cx="431820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ctr" pos="2806560"/>
                        <a:tab algn="ctr" pos="3529080"/>
                        <a:tab algn="r" pos="561168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alário mínimo real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ctr" pos="2806560"/>
                        <a:tab algn="ctr" pos="3529080"/>
                        <a:tab algn="r" pos="561168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R$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ctr" pos="2806560"/>
                        <a:tab algn="ctr" pos="3529080"/>
                        <a:tab algn="r" pos="561168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Rectangle 1100"/>
                  <p:cNvSpPr/>
                  <p:nvPr/>
                </p:nvSpPr>
                <p:spPr>
                  <a:xfrm>
                    <a:off x="462600" y="3718440"/>
                    <a:ext cx="442296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2" name="Group 1107"/>
              <p:cNvGrpSpPr/>
              <p:nvPr/>
            </p:nvGrpSpPr>
            <p:grpSpPr>
              <a:xfrm>
                <a:off x="4886280" y="3718440"/>
                <a:ext cx="1086840" cy="541080"/>
                <a:chOff x="4886280" y="3718440"/>
                <a:chExt cx="1086840" cy="541080"/>
              </a:xfrm>
            </p:grpSpPr>
            <p:sp>
              <p:nvSpPr>
                <p:cNvPr id="323" name="Rectangle 1106"/>
                <p:cNvSpPr/>
                <p:nvPr/>
              </p:nvSpPr>
              <p:spPr>
                <a:xfrm>
                  <a:off x="4886280" y="3718440"/>
                  <a:ext cx="108684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Group 1105"/>
                <p:cNvGrpSpPr/>
                <p:nvPr/>
              </p:nvGrpSpPr>
              <p:grpSpPr>
                <a:xfrm>
                  <a:off x="4886280" y="3718440"/>
                  <a:ext cx="1086480" cy="541080"/>
                  <a:chOff x="4886280" y="3718440"/>
                  <a:chExt cx="1086480" cy="541080"/>
                </a:xfrm>
              </p:grpSpPr>
              <p:sp>
                <p:nvSpPr>
                  <p:cNvPr id="325" name="Rectangle 1029"/>
                  <p:cNvSpPr/>
                  <p:nvPr/>
                </p:nvSpPr>
                <p:spPr>
                  <a:xfrm>
                    <a:off x="4938480" y="371844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261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Rectangle 1104"/>
                  <p:cNvSpPr/>
                  <p:nvPr/>
                </p:nvSpPr>
                <p:spPr>
                  <a:xfrm>
                    <a:off x="4886280" y="3718440"/>
                    <a:ext cx="108648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7" name="Group 1111"/>
              <p:cNvGrpSpPr/>
              <p:nvPr/>
            </p:nvGrpSpPr>
            <p:grpSpPr>
              <a:xfrm>
                <a:off x="5973840" y="3718440"/>
                <a:ext cx="1086480" cy="541080"/>
                <a:chOff x="5973840" y="3718440"/>
                <a:chExt cx="1086480" cy="541080"/>
              </a:xfrm>
            </p:grpSpPr>
            <p:sp>
              <p:nvSpPr>
                <p:cNvPr id="328" name="Rectangle 1110"/>
                <p:cNvSpPr/>
                <p:nvPr/>
              </p:nvSpPr>
              <p:spPr>
                <a:xfrm>
                  <a:off x="5973840" y="3718440"/>
                  <a:ext cx="108648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9" name="Group 1109"/>
                <p:cNvGrpSpPr/>
                <p:nvPr/>
              </p:nvGrpSpPr>
              <p:grpSpPr>
                <a:xfrm>
                  <a:off x="5973840" y="3718440"/>
                  <a:ext cx="1086120" cy="541080"/>
                  <a:chOff x="5973840" y="3718440"/>
                  <a:chExt cx="1086120" cy="541080"/>
                </a:xfrm>
              </p:grpSpPr>
              <p:sp>
                <p:nvSpPr>
                  <p:cNvPr id="330" name="Rectangle 1030"/>
                  <p:cNvSpPr/>
                  <p:nvPr/>
                </p:nvSpPr>
                <p:spPr>
                  <a:xfrm>
                    <a:off x="6026040" y="3718440"/>
                    <a:ext cx="98172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80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Rectangle 1108"/>
                  <p:cNvSpPr/>
                  <p:nvPr/>
                </p:nvSpPr>
                <p:spPr>
                  <a:xfrm>
                    <a:off x="5973840" y="3718440"/>
                    <a:ext cx="108612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2" name="Group 1115"/>
              <p:cNvGrpSpPr/>
              <p:nvPr/>
            </p:nvGrpSpPr>
            <p:grpSpPr>
              <a:xfrm>
                <a:off x="7060680" y="3718440"/>
                <a:ext cx="1467360" cy="541080"/>
                <a:chOff x="7060680" y="3718440"/>
                <a:chExt cx="1467360" cy="541080"/>
              </a:xfrm>
            </p:grpSpPr>
            <p:sp>
              <p:nvSpPr>
                <p:cNvPr id="333" name="Rectangle 1114"/>
                <p:cNvSpPr/>
                <p:nvPr/>
              </p:nvSpPr>
              <p:spPr>
                <a:xfrm>
                  <a:off x="7060680" y="3718440"/>
                  <a:ext cx="1467360" cy="5410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Group 1113"/>
                <p:cNvGrpSpPr/>
                <p:nvPr/>
              </p:nvGrpSpPr>
              <p:grpSpPr>
                <a:xfrm>
                  <a:off x="7060680" y="3718440"/>
                  <a:ext cx="1467000" cy="541080"/>
                  <a:chOff x="7060680" y="3718440"/>
                  <a:chExt cx="1467000" cy="541080"/>
                </a:xfrm>
              </p:grpSpPr>
              <p:sp>
                <p:nvSpPr>
                  <p:cNvPr id="335" name="Rectangle 1031"/>
                  <p:cNvSpPr/>
                  <p:nvPr/>
                </p:nvSpPr>
                <p:spPr>
                  <a:xfrm>
                    <a:off x="7113240" y="3718440"/>
                    <a:ext cx="1362240" cy="54108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46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Rectangle 1112"/>
                  <p:cNvSpPr/>
                  <p:nvPr/>
                </p:nvSpPr>
                <p:spPr>
                  <a:xfrm>
                    <a:off x="7060680" y="3718440"/>
                    <a:ext cx="1467000" cy="541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7" name="Group 1117"/>
              <p:cNvGrpSpPr/>
              <p:nvPr/>
            </p:nvGrpSpPr>
            <p:grpSpPr>
              <a:xfrm>
                <a:off x="462600" y="4259520"/>
                <a:ext cx="4423320" cy="540720"/>
                <a:chOff x="462600" y="4259520"/>
                <a:chExt cx="4423320" cy="540720"/>
              </a:xfrm>
            </p:grpSpPr>
            <p:sp>
              <p:nvSpPr>
                <p:cNvPr id="338" name="Rectangle 1032"/>
                <p:cNvSpPr/>
                <p:nvPr/>
              </p:nvSpPr>
              <p:spPr>
                <a:xfrm>
                  <a:off x="514800" y="4259520"/>
                  <a:ext cx="431856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dução industr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Índice de Base Fixa: 2002 = 100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Rectangle 1116"/>
                <p:cNvSpPr/>
                <p:nvPr/>
              </p:nvSpPr>
              <p:spPr>
                <a:xfrm>
                  <a:off x="462600" y="4259520"/>
                  <a:ext cx="442332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1119"/>
              <p:cNvGrpSpPr/>
              <p:nvPr/>
            </p:nvGrpSpPr>
            <p:grpSpPr>
              <a:xfrm>
                <a:off x="4886280" y="4259520"/>
                <a:ext cx="1086840" cy="540720"/>
                <a:chOff x="4886280" y="4259520"/>
                <a:chExt cx="1086840" cy="540720"/>
              </a:xfrm>
            </p:grpSpPr>
            <p:sp>
              <p:nvSpPr>
                <p:cNvPr id="341" name="Rectangle 1033"/>
                <p:cNvSpPr/>
                <p:nvPr/>
              </p:nvSpPr>
              <p:spPr>
                <a:xfrm>
                  <a:off x="4938480" y="425952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22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Rectangle 1118"/>
                <p:cNvSpPr/>
                <p:nvPr/>
              </p:nvSpPr>
              <p:spPr>
                <a:xfrm>
                  <a:off x="4886280" y="4259520"/>
                  <a:ext cx="108684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121"/>
              <p:cNvGrpSpPr/>
              <p:nvPr/>
            </p:nvGrpSpPr>
            <p:grpSpPr>
              <a:xfrm>
                <a:off x="5973840" y="4259520"/>
                <a:ext cx="1086480" cy="540720"/>
                <a:chOff x="5973840" y="4259520"/>
                <a:chExt cx="1086480" cy="540720"/>
              </a:xfrm>
            </p:grpSpPr>
            <p:sp>
              <p:nvSpPr>
                <p:cNvPr id="344" name="Rectangle 1034"/>
                <p:cNvSpPr/>
                <p:nvPr/>
              </p:nvSpPr>
              <p:spPr>
                <a:xfrm>
                  <a:off x="6026040" y="4259520"/>
                  <a:ext cx="98208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6,64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Rectangle 1120"/>
                <p:cNvSpPr/>
                <p:nvPr/>
              </p:nvSpPr>
              <p:spPr>
                <a:xfrm>
                  <a:off x="5973840" y="4259520"/>
                  <a:ext cx="108648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1123"/>
              <p:cNvGrpSpPr/>
              <p:nvPr/>
            </p:nvGrpSpPr>
            <p:grpSpPr>
              <a:xfrm>
                <a:off x="7060680" y="4259520"/>
                <a:ext cx="1467360" cy="540720"/>
                <a:chOff x="7060680" y="4259520"/>
                <a:chExt cx="1467360" cy="540720"/>
              </a:xfrm>
            </p:grpSpPr>
            <p:sp>
              <p:nvSpPr>
                <p:cNvPr id="347" name="Rectangle 1035"/>
                <p:cNvSpPr/>
                <p:nvPr/>
              </p:nvSpPr>
              <p:spPr>
                <a:xfrm>
                  <a:off x="7113240" y="4259520"/>
                  <a:ext cx="1362600" cy="54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26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122"/>
                <p:cNvSpPr/>
                <p:nvPr/>
              </p:nvSpPr>
              <p:spPr>
                <a:xfrm>
                  <a:off x="7060680" y="4259520"/>
                  <a:ext cx="1467360" cy="540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1127"/>
              <p:cNvGrpSpPr/>
              <p:nvPr/>
            </p:nvGrpSpPr>
            <p:grpSpPr>
              <a:xfrm>
                <a:off x="462600" y="4800600"/>
                <a:ext cx="4423320" cy="540720"/>
                <a:chOff x="462600" y="4800600"/>
                <a:chExt cx="4423320" cy="540720"/>
              </a:xfrm>
            </p:grpSpPr>
            <p:sp>
              <p:nvSpPr>
                <p:cNvPr id="350" name="Rectangle 1126"/>
                <p:cNvSpPr/>
                <p:nvPr/>
              </p:nvSpPr>
              <p:spPr>
                <a:xfrm>
                  <a:off x="462600" y="4800600"/>
                  <a:ext cx="4423320" cy="54072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1" name="Group 1125"/>
                <p:cNvGrpSpPr/>
                <p:nvPr/>
              </p:nvGrpSpPr>
              <p:grpSpPr>
                <a:xfrm>
                  <a:off x="462600" y="4800600"/>
                  <a:ext cx="4422960" cy="540720"/>
                  <a:chOff x="462600" y="4800600"/>
                  <a:chExt cx="4422960" cy="540720"/>
                </a:xfrm>
              </p:grpSpPr>
              <p:sp>
                <p:nvSpPr>
                  <p:cNvPr id="352" name="Rectangle 1036"/>
                  <p:cNvSpPr/>
                  <p:nvPr/>
                </p:nvSpPr>
                <p:spPr>
                  <a:xfrm>
                    <a:off x="514800" y="4800600"/>
                    <a:ext cx="4318200" cy="540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pt-BR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afra de grão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(milhões ton/ano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Rectangle 1124"/>
                  <p:cNvSpPr/>
                  <p:nvPr/>
                </p:nvSpPr>
                <p:spPr>
                  <a:xfrm>
                    <a:off x="462600" y="4800600"/>
                    <a:ext cx="4422960" cy="54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4" name="Group 1131"/>
              <p:cNvGrpSpPr/>
              <p:nvPr/>
            </p:nvGrpSpPr>
            <p:grpSpPr>
              <a:xfrm>
                <a:off x="4886280" y="4800600"/>
                <a:ext cx="1086840" cy="540720"/>
                <a:chOff x="4886280" y="4800600"/>
                <a:chExt cx="1086840" cy="540720"/>
              </a:xfrm>
            </p:grpSpPr>
            <p:sp>
              <p:nvSpPr>
                <p:cNvPr id="355" name="Rectangle 1130"/>
                <p:cNvSpPr/>
                <p:nvPr/>
              </p:nvSpPr>
              <p:spPr>
                <a:xfrm>
                  <a:off x="4886280" y="4800600"/>
                  <a:ext cx="1086840" cy="54072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" name="Group 1129"/>
                <p:cNvGrpSpPr/>
                <p:nvPr/>
              </p:nvGrpSpPr>
              <p:grpSpPr>
                <a:xfrm>
                  <a:off x="4886280" y="4800600"/>
                  <a:ext cx="1086480" cy="540720"/>
                  <a:chOff x="4886280" y="4800600"/>
                  <a:chExt cx="1086480" cy="540720"/>
                </a:xfrm>
              </p:grpSpPr>
              <p:sp>
                <p:nvSpPr>
                  <p:cNvPr id="357" name="Rectangle 1037"/>
                  <p:cNvSpPr/>
                  <p:nvPr/>
                </p:nvSpPr>
                <p:spPr>
                  <a:xfrm>
                    <a:off x="4938480" y="4800600"/>
                    <a:ext cx="981720" cy="540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23,2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Rectangle 1128"/>
                  <p:cNvSpPr/>
                  <p:nvPr/>
                </p:nvSpPr>
                <p:spPr>
                  <a:xfrm>
                    <a:off x="4886280" y="4800600"/>
                    <a:ext cx="1086480" cy="54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9" name="Group 1135"/>
              <p:cNvGrpSpPr/>
              <p:nvPr/>
            </p:nvGrpSpPr>
            <p:grpSpPr>
              <a:xfrm>
                <a:off x="5973840" y="4800600"/>
                <a:ext cx="1086480" cy="540720"/>
                <a:chOff x="5973840" y="4800600"/>
                <a:chExt cx="1086480" cy="540720"/>
              </a:xfrm>
            </p:grpSpPr>
            <p:sp>
              <p:nvSpPr>
                <p:cNvPr id="360" name="Rectangle 1134"/>
                <p:cNvSpPr/>
                <p:nvPr/>
              </p:nvSpPr>
              <p:spPr>
                <a:xfrm>
                  <a:off x="5973840" y="4800600"/>
                  <a:ext cx="1086480" cy="54072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1" name="Group 1133"/>
                <p:cNvGrpSpPr/>
                <p:nvPr/>
              </p:nvGrpSpPr>
              <p:grpSpPr>
                <a:xfrm>
                  <a:off x="5973840" y="4800600"/>
                  <a:ext cx="1086120" cy="540720"/>
                  <a:chOff x="5973840" y="4800600"/>
                  <a:chExt cx="1086120" cy="540720"/>
                </a:xfrm>
              </p:grpSpPr>
              <p:sp>
                <p:nvSpPr>
                  <p:cNvPr id="362" name="Rectangle 1038"/>
                  <p:cNvSpPr/>
                  <p:nvPr/>
                </p:nvSpPr>
                <p:spPr>
                  <a:xfrm>
                    <a:off x="6026040" y="4800600"/>
                    <a:ext cx="981720" cy="540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36,5****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Rectangle 1132"/>
                  <p:cNvSpPr/>
                  <p:nvPr/>
                </p:nvSpPr>
                <p:spPr>
                  <a:xfrm>
                    <a:off x="5973840" y="4800600"/>
                    <a:ext cx="1086120" cy="54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4" name="Group 1139"/>
              <p:cNvGrpSpPr/>
              <p:nvPr/>
            </p:nvGrpSpPr>
            <p:grpSpPr>
              <a:xfrm>
                <a:off x="7060680" y="4800600"/>
                <a:ext cx="1467360" cy="540720"/>
                <a:chOff x="7060680" y="4800600"/>
                <a:chExt cx="1467360" cy="540720"/>
              </a:xfrm>
            </p:grpSpPr>
            <p:sp>
              <p:nvSpPr>
                <p:cNvPr id="365" name="Rectangle 1138"/>
                <p:cNvSpPr/>
                <p:nvPr/>
              </p:nvSpPr>
              <p:spPr>
                <a:xfrm>
                  <a:off x="7060680" y="4800600"/>
                  <a:ext cx="1467360" cy="54072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6" name="Group 1137"/>
                <p:cNvGrpSpPr/>
                <p:nvPr/>
              </p:nvGrpSpPr>
              <p:grpSpPr>
                <a:xfrm>
                  <a:off x="7060680" y="4800600"/>
                  <a:ext cx="1467000" cy="540720"/>
                  <a:chOff x="7060680" y="4800600"/>
                  <a:chExt cx="1467000" cy="540720"/>
                </a:xfrm>
              </p:grpSpPr>
              <p:sp>
                <p:nvSpPr>
                  <p:cNvPr id="367" name="Rectangle 1039"/>
                  <p:cNvSpPr/>
                  <p:nvPr/>
                </p:nvSpPr>
                <p:spPr>
                  <a:xfrm>
                    <a:off x="7113240" y="4800600"/>
                    <a:ext cx="1362240" cy="54072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3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+11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Rectangle 1136"/>
                  <p:cNvSpPr/>
                  <p:nvPr/>
                </p:nvSpPr>
                <p:spPr>
                  <a:xfrm>
                    <a:off x="7060680" y="4800600"/>
                    <a:ext cx="1467000" cy="540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9" name="Group 1141"/>
              <p:cNvGrpSpPr/>
              <p:nvPr/>
            </p:nvGrpSpPr>
            <p:grpSpPr>
              <a:xfrm>
                <a:off x="462600" y="5341680"/>
                <a:ext cx="4423320" cy="541080"/>
                <a:chOff x="462600" y="5341680"/>
                <a:chExt cx="4423320" cy="541080"/>
              </a:xfrm>
            </p:grpSpPr>
            <p:sp>
              <p:nvSpPr>
                <p:cNvPr id="370" name="Rectangle 1040"/>
                <p:cNvSpPr/>
                <p:nvPr/>
              </p:nvSpPr>
              <p:spPr>
                <a:xfrm>
                  <a:off x="514800" y="5341680"/>
                  <a:ext cx="431856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ndas do comérc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Índice de Base Fixa: 2003 = 100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1140"/>
                <p:cNvSpPr/>
                <p:nvPr/>
              </p:nvSpPr>
              <p:spPr>
                <a:xfrm>
                  <a:off x="462600" y="5341680"/>
                  <a:ext cx="4423320" cy="54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1143"/>
              <p:cNvGrpSpPr/>
              <p:nvPr/>
            </p:nvGrpSpPr>
            <p:grpSpPr>
              <a:xfrm>
                <a:off x="4886280" y="5341680"/>
                <a:ext cx="1086840" cy="541080"/>
                <a:chOff x="4886280" y="5341680"/>
                <a:chExt cx="1086840" cy="541080"/>
              </a:xfrm>
            </p:grpSpPr>
            <p:sp>
              <p:nvSpPr>
                <p:cNvPr id="373" name="Rectangle 1041"/>
                <p:cNvSpPr/>
                <p:nvPr/>
              </p:nvSpPr>
              <p:spPr>
                <a:xfrm>
                  <a:off x="4938480" y="5341680"/>
                  <a:ext cx="982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3,38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1142"/>
                <p:cNvSpPr/>
                <p:nvPr/>
              </p:nvSpPr>
              <p:spPr>
                <a:xfrm>
                  <a:off x="4886280" y="5341680"/>
                  <a:ext cx="1086840" cy="54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1145"/>
              <p:cNvGrpSpPr/>
              <p:nvPr/>
            </p:nvGrpSpPr>
            <p:grpSpPr>
              <a:xfrm>
                <a:off x="5973840" y="5341680"/>
                <a:ext cx="1086480" cy="541080"/>
                <a:chOff x="5973840" y="5341680"/>
                <a:chExt cx="1086480" cy="541080"/>
              </a:xfrm>
            </p:grpSpPr>
            <p:sp>
              <p:nvSpPr>
                <p:cNvPr id="376" name="Rectangle 1042"/>
                <p:cNvSpPr/>
                <p:nvPr/>
              </p:nvSpPr>
              <p:spPr>
                <a:xfrm>
                  <a:off x="6026040" y="5341680"/>
                  <a:ext cx="98208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87,17*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1144"/>
                <p:cNvSpPr/>
                <p:nvPr/>
              </p:nvSpPr>
              <p:spPr>
                <a:xfrm>
                  <a:off x="5973840" y="5341680"/>
                  <a:ext cx="1086480" cy="54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1147"/>
              <p:cNvGrpSpPr/>
              <p:nvPr/>
            </p:nvGrpSpPr>
            <p:grpSpPr>
              <a:xfrm>
                <a:off x="7060680" y="5341680"/>
                <a:ext cx="1467360" cy="541080"/>
                <a:chOff x="7060680" y="5341680"/>
                <a:chExt cx="1467360" cy="541080"/>
              </a:xfrm>
            </p:grpSpPr>
            <p:sp>
              <p:nvSpPr>
                <p:cNvPr id="379" name="Rectangle 1043"/>
                <p:cNvSpPr/>
                <p:nvPr/>
              </p:nvSpPr>
              <p:spPr>
                <a:xfrm>
                  <a:off x="7113240" y="5341680"/>
                  <a:ext cx="136260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3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+1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1146"/>
                <p:cNvSpPr/>
                <p:nvPr/>
              </p:nvSpPr>
              <p:spPr>
                <a:xfrm>
                  <a:off x="7060680" y="5341680"/>
                  <a:ext cx="1467360" cy="54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Rectangle 1149"/>
            <p:cNvSpPr/>
            <p:nvPr/>
          </p:nvSpPr>
          <p:spPr>
            <a:xfrm>
              <a:off x="457200" y="1009800"/>
              <a:ext cx="8076960" cy="4876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3"/>
          <p:cNvSpPr/>
          <p:nvPr/>
        </p:nvSpPr>
        <p:spPr>
          <a:xfrm>
            <a:off x="228600" y="990720"/>
            <a:ext cx="8686800" cy="56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mplantaçã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té 2012 mais de R$ 6,707 bilhões investidos no combate ao crime e apoio a jovens ameaçados de cair na delinqüência. Prevê participação das comunidades na implantação das medid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tas e Realizações do Pronasc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olsa-formação para policiais – até R$ 400,00 mensai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xpansão da Renaesp: cadastramento de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8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instituiç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2.70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profissionais capacit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90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mil policiais capacitados por ensino a distânc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rça Nacional de Segurança Pública articulada com Polícias Estadu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tegração do jovem em situação de risco e sua família aos programas sociais do Governo Federal: Projeto Mãe da Paz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ioridade às 11 regiões com maiores índices de violência e criminalidade: Belém (PA), Belo Horizonte (MG), Brasília e Entorno (DF), Curitiba (PR), Maceió (AL), Porto Alegre (RS), Recife (PE), Rio de Janeiro (RJ), Salvador (BA), São Paulo (SP) e Vitória (ES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4"/>
          <p:cNvSpPr/>
          <p:nvPr/>
        </p:nvSpPr>
        <p:spPr>
          <a:xfrm>
            <a:off x="3651840" y="228600"/>
            <a:ext cx="1834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RONAS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ama articula políticas de segurança com ações sociais, prioriza a prevenção e busca atingir as causas que levam à viol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3"/>
          <p:cNvSpPr/>
          <p:nvPr/>
        </p:nvSpPr>
        <p:spPr>
          <a:xfrm>
            <a:off x="228600" y="990720"/>
            <a:ext cx="86868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tas e Realizações do Pronasc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strução de pelo menos um presídio em cada uma dessas regiões, criando-se, no mínimo, 64 mil vagas em 4 anos: concluído os planos diretores do sistema penitenciário de 9 das 11 regi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lano Habitacional, em parceria com a Caixa Econômica Federal: lançado em Porto Alegre, com a abertura de crédito para a compra de casa própria para policiais civis e militares, guardas municipais, bombeiros e agentes prisionais de baixa rend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iação dos Gabinetes de Gestão Integrada Municipais (GGIM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urso do PAC em obras de urbanização de melhoria da infra-estrutura das comunidad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nasci se soma a outras medid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a Polícia Feder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strução de presídios federais (Catanduvas/SP e Campo Grande/MS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mplantação o Sistema Único de Segurança Pública – SUSP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rganização de 27 gabinetes de gestão integrada (com estado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riação da Coordenação de Operações Especiais de Fronteira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3651840" y="228600"/>
            <a:ext cx="1834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RONAS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grama articula políticas de segurança com ações sociais, prioriza a prevenção e busca atingir as causas que levam à violê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3"/>
          <p:cNvSpPr/>
          <p:nvPr/>
        </p:nvSpPr>
        <p:spPr>
          <a:xfrm>
            <a:off x="152280" y="831960"/>
            <a:ext cx="8839440" cy="59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7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Jovem – Programa Unificado de Inclusão de Jove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7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ferece a jovens as oportunidades de elevação da escolaridade, de qualificação profissional e desenvolvimento human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7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rticula, integra e amplia o atendimento dos programas voltados para a juventu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5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ta até 2010: beneficiar 4,2 milh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5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ursos: R$ 5,5 bilhões até 2010. Em 2007, somaram R$ 464 milh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5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rasil tem 50,5 milhões de jovens entre 15 e 29 an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5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atro modalidad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Jovem Adolescente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– Serviço Sócio-educativo (antig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gente Jove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). Beneficia jovens entre 15 e 17 anos pertencentes a famílias em situação de pobreza ou egressos de medida sócio-educativa, do PETI ou de programas de combate ao abuso e à exploração sexual. Valor do benefício = R$ 30/mês (limitado a 2 benefícios por família)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Jovem Urban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(antig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Jovem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). Beneficia jovens entre 18 e 29 anos que sabem ler e escrever, mas não concluíram o ensino fundamental. Valor do benefício = R$ 100/mês (limite de 20 meses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Jovem Camp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(antigo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aberes da Terr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). Beneficia jovens agricultores entre 18 e 29 anos. Valor do benefício = R$ 100/mês (limite de 12 meses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Jovem Trabalhador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(integra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Consórcio Social da Juventude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Juventude Cidadã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Escola de Fábric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). Beneficia jovens desempregados entre 18 e 29 anos. Valor do benefício =     R$ 100/mês (limite de 6 meses)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4"/>
          <p:cNvSpPr/>
          <p:nvPr/>
        </p:nvSpPr>
        <p:spPr>
          <a:xfrm>
            <a:off x="3606120" y="228600"/>
            <a:ext cx="1895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ROJOV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5"/>
          <p:cNvSpPr/>
          <p:nvPr/>
        </p:nvSpPr>
        <p:spPr>
          <a:xfrm>
            <a:off x="271440" y="49536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tegra e valoriza os jovens de baixa renda pelo aumento de escolaridade e melhor qualific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3"/>
          <p:cNvSpPr/>
          <p:nvPr/>
        </p:nvSpPr>
        <p:spPr>
          <a:xfrm>
            <a:off x="228600" y="1066680"/>
            <a:ext cx="868680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senvolvido e implementado pelo Ministério da Saúde e pela Fundação Nacional de Saúde (Funasa), prevê investimentos de R$ 4 bi até 201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erviços priorizados: implantação de redes de distribuição de água e de esgotamento sanitário adequado e coleta de lixo e limpeza urb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unicípios priorizados: de até 50 mil habitantes e grupos sociais especiais, como as comunidades de quilombolas, indígenas, assentados rurais, além das áreas de relevante interesse epidemiológico do paí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ilombolas e comunidades indígen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ilombo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nas comunidades reconhecidas, serão investidos cerca de R$ 170 milhões, para fornecimento de água de boa qualidade e adequação do esgotamento sanitário para mais de 40 mil quilombol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Áreas indígen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serão investidos cerca de R$ 295 milhões em abastecimento de água tratada e encanada, beneficiando 62% da população indígena. Em esgotamento sanitário, o objetivo é atender a dois terços da população. As melhorias beneficiarão, até o ano de 2010, cerca de 200 mil indígenas em todo o paí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3485520" y="228600"/>
            <a:ext cx="216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 FUN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Governo leva saneamento a pequenas comunidades quilombolas, indígenas, assentamentos e áreas de interesse epidemiológ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228600" y="1066680"/>
            <a:ext cx="86868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teresse epidemiológ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oença de Chaga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cerca de 500 municípios em área endêmica receberão o investimento de R$ 180 milhões, para a reconstrução de 21,5 mil moradias, buscando minimizar a disseminação da doença, principalmente nos Estados de Minas Gerais, Bahia e Rio Grande do Su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alári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na região amazônica, as populações dos Estados sujeitas à malária também serão contempladas. Serão R$ 120 milhões disponibilizados para a implantação de ações de manejo ambiental e drenagem urb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equenas comunida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grama Nacional de Saneamento Rural: vai atender às populações rurais mais dispersas e as localidades com até 2,5 mil habitantes. Serão disponibilizados R$ 300 milhões, para investimentos em água de boa qualidade e esgotamento sanitário, inclusive nas escolas rur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ções complementa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Funasa presta assessoria técnica e apoio ao controle da qualidade da água para consumo humano e a projetos de coleta e reciclagem de materiais, melhorando a eficiência e a gestão dos serviços de saneamento. Investimento previsto beneficiará mais de mil municípios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4"/>
          <p:cNvSpPr/>
          <p:nvPr/>
        </p:nvSpPr>
        <p:spPr>
          <a:xfrm>
            <a:off x="3485520" y="228600"/>
            <a:ext cx="2169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 FUNA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Governo leva saneamento a pequenas comunidades quilombolas, indígenas, assentamentos e áreas de interesse epidemiológic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3"/>
          <p:cNvSpPr/>
          <p:nvPr/>
        </p:nvSpPr>
        <p:spPr>
          <a:xfrm>
            <a:off x="228600" y="1066680"/>
            <a:ext cx="8686800" cy="56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bjetivos e Ações Prioritária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arantia dos direitos do cidadão e maior redução das desigualdades sociais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estão integrada das políticas para promover a emancipação das famílias pobres, envolvendo pacto entre o Governo Federal, os estados e municípi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dução das desigualdade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s beneficiários do Bolsa Família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 reajuste do valor pago.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eração de oportunidade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às famílias do Bolsa Família (MTE/MDS)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pacitação de  200 mil beneficiários para os empregos gerados pelas obras do PAC em 2008, a começar pela construção civil, 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iciativas de economia solidária e microcrédito para 120 mil famíli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e serviço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sócio-assistenciais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 Programa de Atenção Integral às Famílias – PAIF – e Centros de Referência de Assistência Social - CRAS e CREAS - público preferencial: beneficiários do Bolsa Famíli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 Programa de Aquisição de Alimentos: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40 mil agricultores atendi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arantia do acesso à água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57 mil famílias atendidas (semi-árid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4"/>
          <p:cNvSpPr/>
          <p:nvPr/>
        </p:nvSpPr>
        <p:spPr>
          <a:xfrm>
            <a:off x="3165480" y="228600"/>
            <a:ext cx="28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AGENDA SOCIAL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Mais saúde, educação, trabalho e renda, saneamento e moradia propiciam qualidade de vida para toda a popu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228600" y="1066680"/>
            <a:ext cx="8686800" cy="57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da cidadania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mbate à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obreza rura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mento a atividades produtivas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assistência técnica, crédito e apoio à comercialização para famílias e produção de biodiesel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idadania e acesso a direito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educação, saúde, cultura, documentação, cisternas no semi-árid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fra-estrutura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saneamento básico, habitação, estradas, eletrificação rural e licenciamento ambient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s Pontos de Cultur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4.850 ponto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 difusão – Cineclubes, de Leitura e brinquedotecas)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e 61 pont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alificação de espaços comunitários e culturai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nas periferias e áreas degradad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ibliotecas Públicas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Zerar o número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 municípios (628) que ainda não tem bibliotecas e modernização de outras 56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Livros a preços populares, incentivo à realização de microprojetos culturais, capacitação de jovens mediadores culturais através do ProJovem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Vs públicas como meio de acesso à cultura: 200 projetos apoi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65480" y="228600"/>
            <a:ext cx="28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AGENDA SOCIAL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Mais saúde, educação, trabalho e renda, saneamento e moradia propiciam qualidade de vida para toda a popu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228600" y="1066680"/>
            <a:ext cx="8686800" cy="57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ireitos da cidadan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ocumentação Civil Bás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mpanha nacional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de mobilização para erradicação do sub-registro de nascimen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cesso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27 unidades móveis para prover documentação no campo; 1,3 milhão de novos CPF’s e 300 novos postos de emissão de Carteira de Trabalho e Previdência Socia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ulher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mpliação da rede de atendimento às vitimas de violência mediante reforma e construção de locais especializados para atender mulheres em situação de violência; capacitação de 10 mil profissionais; 250 mil atendimentos através do “ligue 180”; Implantação do Observatório da Lei Maria da Penh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mbate à exploração sexual e ao tráfico de mulher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ção dos direitos das mulheres presa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teção dos direitos sexuais reprodutivos e enfrentamento da feminização da AID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4"/>
          <p:cNvSpPr/>
          <p:nvPr/>
        </p:nvSpPr>
        <p:spPr>
          <a:xfrm>
            <a:off x="3165480" y="228600"/>
            <a:ext cx="28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AGENDA SOCIAL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Mais saúde, educação, trabalho e renda, saneamento e moradia propiciam qualidade de vida para toda a popu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228600" y="1066680"/>
            <a:ext cx="86868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ilomb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cesso à terra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elaboração de 220 Relatórios para demarcação e início do processo de titulação de Comunidad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lhoria da infra-estrutura e qualidade de vid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: saúde da família, alfabetização de jovens e adultos,abastecimento de água e melhorias sanitárias, construção de salas de aula; Luz para Todos, cisternas, concessão do Bolsa Família, Benefícios de Prestação Continuada - BP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mento à inclusão produtiva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ções de desenvolvimento local e etno-desenvolvimento em 1.700 comunidad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ovos Indígen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teção das terras indígenas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limitação e demarcação, indenização, re-assentamento de terras indígenas e diagnóstico para recuperação de áreas degradada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ção dos povos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lhor qualidade de vida através da oferta de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aúde, educação, Bolsa Família, Benefício de Proteção Continuada, Cesta Alimentos, Carteira Indígena, Cisterna, Luz para Todos. Fomento a projetos econômicos de geração de renda e auto-sustentaçã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Valorização e fortalecimento das culturas indígenas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ocumentação de línguas indígenas; implantação de 50 Pontos de Cultur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3165480" y="228600"/>
            <a:ext cx="28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AGENDA SOCIAL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Mais saúde, educação, trabalho e renda, saneamento e moradia propiciam qualidade de vida para toda a popu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3"/>
          <p:cNvSpPr/>
          <p:nvPr/>
        </p:nvSpPr>
        <p:spPr>
          <a:xfrm>
            <a:off x="228600" y="1066680"/>
            <a:ext cx="8686800" cy="53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iança e adolescen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oio à construção e reforma de 19 Unidades de Internação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para induzir a padrão alternativo ao “modelo FEBEM”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oio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o atendimento, em meio aberto,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 498 mil adolescentes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m conflito com a le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tirada de crianças e adolescentes do sistema de abrigos,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orte financeiro para as famílias; Programa Família Acolhedo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clusão prioritária dos egressos do sistema sócio-educativo ao ProJovem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essoas com deficiê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Órteses e Próteses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tendimento previsto de 312 mil pesso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arantia de acessibilidade: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diante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daptação de escolas, habitações, implantação de sala de recursos,  transporte (ônibus e terminai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rcado de trabalho: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ampliação das vagas para pessoas com deficiência e realização de mutirão nacional de acessibilid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4"/>
          <p:cNvSpPr/>
          <p:nvPr/>
        </p:nvSpPr>
        <p:spPr>
          <a:xfrm>
            <a:off x="3165480" y="228600"/>
            <a:ext cx="2809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AGENDA SOCIAL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Mais saúde, educação, trabalho e renda, saneamento e moradia propiciam qualidade de vida para toda a popul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45"/>
          <p:cNvSpPr/>
          <p:nvPr/>
        </p:nvSpPr>
        <p:spPr>
          <a:xfrm>
            <a:off x="3254760" y="228600"/>
            <a:ext cx="263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RETRA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346"/>
          <p:cNvSpPr/>
          <p:nvPr/>
        </p:nvSpPr>
        <p:spPr>
          <a:xfrm>
            <a:off x="228600" y="1219320"/>
            <a:ext cx="85345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da desigual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desigualdade de renda medida pelo Índice de Gini caiu para 0,541 em 2006 (o menor desde 1981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rasil pela primeira vez no grupo de países com alto ID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aís já ultrapassou a meta de reduzir pela metade a extrema pobreza (OD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9,7 milhões de brasileiros saíram da miséria (2003-2006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0 milhões migraram das classes D e E para a classe C.(2002-200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da r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nda média real aumentou 5,3% entre 2003 e 2006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ajuste real de 32% do salário mínimo (2003/2007) ante 21% (1998/200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347"/>
          <p:cNvSpPr/>
          <p:nvPr/>
        </p:nvSpPr>
        <p:spPr>
          <a:xfrm>
            <a:off x="281160" y="533520"/>
            <a:ext cx="56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ções do governo beneficiam todas as camadas so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228600" y="914400"/>
            <a:ext cx="8686800" cy="59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iretriz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Garantir acesso aos bens culturais e meios necessários para a expressão simbólica e artíst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Promover diversidade cultural e social, auto-estima, sentimento de pertencimento,  cidadania, liberdade dos indivíduos, e emancipação soc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Qualificar o ambiente social das cidades, ampliando a oferta de equipamentos e os espaços que permitem acesso à produção e à expressão cultur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Gerar oportunidades de emprego e renda para trabalhadores das micro, pequenas e médias empresas, assim como empreendimentos de economia solidária no mercado cultural brasileir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Linhas de Ação – Metas e Aç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ultura e Cidadania: cidadania, identidades e divers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ontos de 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ontões de 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pacitação Cultu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icroprojetos cultur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Vale 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Lei Rouan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gramação para TV e rádios públic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de de bibliotecas públic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6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Livros a preços popula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3228120" y="228600"/>
            <a:ext cx="253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MAIS CUL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271440" y="53352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romover acesso à cultura e diversidade é investir em um País de To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228600" y="914400"/>
            <a:ext cx="86868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I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idade Cultural: qualificação do ambiente social e direito à c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spaços comunitários e culturais multius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00 bibliotecas espaço multius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spaços construídos ou reformad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cesso da periferia aos centros urbano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gressos subsidiados para atividades cultur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roveitamento da capacidade ociosa de espaços e equipamentos cultur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mento à mobilidade urban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II. Cultura e Renda: ocupação, renda, emprego e financiamento da 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icrocrédito cultural: 150 mil operações - valor médio R$ 900,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Linhas de crédito para empresas culturais: 22 mil operações - valor médio R$ 10 m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rograma de apoio às comunidades artesanais: 170 comunidades apoiadas - valor médio R$ 90 mi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orial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de urban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de vulnerabilidade soc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de Identidades e de Culturas Tradicion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Especi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3228120" y="228600"/>
            <a:ext cx="253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MAIS CUL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4"/>
          <p:cNvSpPr/>
          <p:nvPr/>
        </p:nvSpPr>
        <p:spPr>
          <a:xfrm>
            <a:off x="271440" y="53352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romover acesso à cultura e diversidade é investir em um País de To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228600" y="914400"/>
            <a:ext cx="8686800" cy="58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rç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rçamento Total: R$ 4,7 bilhõ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rçamento 2007-2010 – União: R$ 2,2 bilh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arcerias, contrapartidas, financiamentos e patrocínios: R$ 2,5 bilh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Focos de Atuação - Destaqu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Bibliotecas públicas: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100 bibliotecas espaços culturais multiuso nas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favelas e periferi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Implantação de 613 bibliotecas: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zerar o déficit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de município sem bibliote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Modernizar e qualificar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4.500 bibliotecas da rede públi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Política de atualização de acerv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de vulnerabilidade social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53 municípios com os maiores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índices de violênc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Favelas, periferias e áreas de precarização habitacion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1.251 municípios com os 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menores Índices de Educação Básica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– ID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Áreas de conflito e disputas territori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Territórios Especiai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Bacia hidrográfica do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São Francis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Região do </a:t>
            </a:r>
            <a:r>
              <a:rPr b="1" lang="pt-PT" sz="1900" spc="-1" strike="noStrike">
                <a:solidFill>
                  <a:srgbClr val="000000"/>
                </a:solidFill>
                <a:latin typeface="Arial"/>
                <a:ea typeface="Arial"/>
              </a:rPr>
              <a:t>semi-ári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75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Rodovia Cuiabá-Santarém (BR-163) – área de incidência de obras do P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587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900" spc="-1" strike="noStrike">
                <a:solidFill>
                  <a:srgbClr val="000000"/>
                </a:solidFill>
                <a:latin typeface="Arial"/>
              </a:rPr>
              <a:t>Juventude: Programa Nacional de Inclusão de Jovens (PROJOVEM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3228120" y="228600"/>
            <a:ext cx="253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MAIS CULT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271440" y="53352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Promover acesso à cultura e diversidade é investir em um País de Todo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3"/>
          <p:cNvSpPr/>
          <p:nvPr/>
        </p:nvSpPr>
        <p:spPr>
          <a:xfrm>
            <a:off x="228600" y="762120"/>
            <a:ext cx="8686800" cy="59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incipais objetiv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xpansão e consolidação do sistema de ciência e tecnolog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solidação Institucional do Sistem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ormação de Recursos Human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fra-estrutura e fomento da pesquisa científica e tecnológ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ção da inovação tecnológica nas empres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poio financeiro à cooperação entre empresas, capacitação de recursos humanos e implantação de centros de pesquisa e desenvolviment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centivo à criação e consolidação de empresas intensivas em tecnolog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esquisa e desenvolvimento em áreas estratégicas como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iotecnologia, nanotecnologia, tecnologias da informação e comunicação, insumos para a saúde, biocombustíveis, energia elétrica, hidrogênio, energias renováveis, petróleo, gás, carvão mineral, agronegócio, biodiversidade e recursos naturais, Amazônia e Semi-Árido, meteorologia e mudanças climáticas, Programa Espacial, Programa Nuclear, Defesa Nacional e Segurança Públ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2313720" y="228600"/>
            <a:ext cx="4514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 CIÊNCIA E TECNOLOGIA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5"/>
          <p:cNvSpPr/>
          <p:nvPr/>
        </p:nvSpPr>
        <p:spPr>
          <a:xfrm>
            <a:off x="271440" y="49536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ovação, pesquisa e desenvolv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3"/>
          <p:cNvSpPr/>
          <p:nvPr/>
        </p:nvSpPr>
        <p:spPr>
          <a:xfrm>
            <a:off x="228600" y="762120"/>
            <a:ext cx="86868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Desenvolvimento soc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opularização da ciência e tecnologia e melhoria do ensino de ciênci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Tecnologias para o desenvolvimento social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ç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$ 41,2 bilhões até 2010 (8 ministérios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volução de procedimentos: integração de todos os setores do governo, criando-se um programa para o Estado brasileir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vestimento em P&amp;D (Pesquisa e Desenvolvimento) passará de 1,02% do PIB para 1,5% até 201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Bolsas CNPQ-CAP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Ampliação do número total anual de bolsas </a:t>
            </a:r>
            <a:r>
              <a:rPr b="0" i="1" lang="pt-BR" sz="1900" spc="-1" strike="noStrike">
                <a:solidFill>
                  <a:srgbClr val="000000"/>
                </a:solidFill>
                <a:latin typeface="Arial"/>
              </a:rPr>
              <a:t>CNPq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e Capes: de 102 mil em 2007 para aproximadamente 170 mil em 2010, além de reajuste de 20% nas bolsas de pós-graduaçã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4"/>
          <p:cNvSpPr/>
          <p:nvPr/>
        </p:nvSpPr>
        <p:spPr>
          <a:xfrm>
            <a:off x="2313720" y="228600"/>
            <a:ext cx="45147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PAC CIÊNCIA E TECNOLOGIA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271440" y="495360"/>
            <a:ext cx="856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ovação, pesquisa e desenvolvi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110"/>
          <p:cNvGrpSpPr/>
          <p:nvPr/>
        </p:nvGrpSpPr>
        <p:grpSpPr>
          <a:xfrm>
            <a:off x="2235240" y="5199120"/>
            <a:ext cx="4645080" cy="1328760"/>
            <a:chOff x="2235240" y="5199120"/>
            <a:chExt cx="4645080" cy="1328760"/>
          </a:xfrm>
        </p:grpSpPr>
        <p:grpSp>
          <p:nvGrpSpPr>
            <p:cNvPr id="884" name="Group 108"/>
            <p:cNvGrpSpPr/>
            <p:nvPr/>
          </p:nvGrpSpPr>
          <p:grpSpPr>
            <a:xfrm>
              <a:off x="2235240" y="5384880"/>
              <a:ext cx="4645080" cy="1143000"/>
              <a:chOff x="2235240" y="5384880"/>
              <a:chExt cx="4645080" cy="1143000"/>
            </a:xfrm>
          </p:grpSpPr>
          <p:grpSp>
            <p:nvGrpSpPr>
              <p:cNvPr id="885" name="Group 106"/>
              <p:cNvGrpSpPr/>
              <p:nvPr/>
            </p:nvGrpSpPr>
            <p:grpSpPr>
              <a:xfrm>
                <a:off x="2239920" y="5386680"/>
                <a:ext cx="4635360" cy="1139040"/>
                <a:chOff x="2239920" y="5386680"/>
                <a:chExt cx="4635360" cy="1139040"/>
              </a:xfrm>
            </p:grpSpPr>
            <p:grpSp>
              <p:nvGrpSpPr>
                <p:cNvPr id="886" name="Group 73"/>
                <p:cNvGrpSpPr/>
                <p:nvPr/>
              </p:nvGrpSpPr>
              <p:grpSpPr>
                <a:xfrm>
                  <a:off x="2239920" y="5386680"/>
                  <a:ext cx="1022400" cy="284760"/>
                  <a:chOff x="2239920" y="5386680"/>
                  <a:chExt cx="1022400" cy="284760"/>
                </a:xfrm>
              </p:grpSpPr>
              <p:sp>
                <p:nvSpPr>
                  <p:cNvPr id="887" name="Rectangle 72"/>
                  <p:cNvSpPr/>
                  <p:nvPr/>
                </p:nvSpPr>
                <p:spPr>
                  <a:xfrm>
                    <a:off x="2239920" y="5386680"/>
                    <a:ext cx="102240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8" name="Group 71"/>
                  <p:cNvGrpSpPr/>
                  <p:nvPr/>
                </p:nvGrpSpPr>
                <p:grpSpPr>
                  <a:xfrm>
                    <a:off x="2239920" y="5386680"/>
                    <a:ext cx="1022400" cy="284760"/>
                    <a:chOff x="2239920" y="5386680"/>
                    <a:chExt cx="1022400" cy="284760"/>
                  </a:xfrm>
                </p:grpSpPr>
                <p:sp>
                  <p:nvSpPr>
                    <p:cNvPr id="889" name="Rectangle 58"/>
                    <p:cNvSpPr/>
                    <p:nvPr/>
                  </p:nvSpPr>
                  <p:spPr>
                    <a:xfrm>
                      <a:off x="2284200" y="5386680"/>
                      <a:ext cx="93348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l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Rectangle 70"/>
                    <p:cNvSpPr/>
                    <p:nvPr/>
                  </p:nvSpPr>
                  <p:spPr>
                    <a:xfrm>
                      <a:off x="2239920" y="5386680"/>
                      <a:ext cx="102240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1" name="Group 77"/>
                <p:cNvGrpSpPr/>
                <p:nvPr/>
              </p:nvGrpSpPr>
              <p:grpSpPr>
                <a:xfrm>
                  <a:off x="3262320" y="5386680"/>
                  <a:ext cx="1806480" cy="284760"/>
                  <a:chOff x="3262320" y="5386680"/>
                  <a:chExt cx="1806480" cy="284760"/>
                </a:xfrm>
              </p:grpSpPr>
              <p:sp>
                <p:nvSpPr>
                  <p:cNvPr id="892" name="Rectangle 76"/>
                  <p:cNvSpPr/>
                  <p:nvPr/>
                </p:nvSpPr>
                <p:spPr>
                  <a:xfrm>
                    <a:off x="3262320" y="5386680"/>
                    <a:ext cx="180648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3" name="Group 75"/>
                  <p:cNvGrpSpPr/>
                  <p:nvPr/>
                </p:nvGrpSpPr>
                <p:grpSpPr>
                  <a:xfrm>
                    <a:off x="3262320" y="5386680"/>
                    <a:ext cx="1806480" cy="284760"/>
                    <a:chOff x="3262320" y="5386680"/>
                    <a:chExt cx="1806480" cy="284760"/>
                  </a:xfrm>
                </p:grpSpPr>
                <p:sp>
                  <p:nvSpPr>
                    <p:cNvPr id="894" name="Rectangle 59"/>
                    <p:cNvSpPr/>
                    <p:nvPr/>
                  </p:nvSpPr>
                  <p:spPr>
                    <a:xfrm>
                      <a:off x="3306600" y="5386680"/>
                      <a:ext cx="171792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Rectangle 74"/>
                    <p:cNvSpPr/>
                    <p:nvPr/>
                  </p:nvSpPr>
                  <p:spPr>
                    <a:xfrm>
                      <a:off x="3262320" y="5386680"/>
                      <a:ext cx="180648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6" name="Group 81"/>
                <p:cNvGrpSpPr/>
                <p:nvPr/>
              </p:nvGrpSpPr>
              <p:grpSpPr>
                <a:xfrm>
                  <a:off x="5068800" y="5386680"/>
                  <a:ext cx="1806480" cy="284760"/>
                  <a:chOff x="5068800" y="5386680"/>
                  <a:chExt cx="1806480" cy="284760"/>
                </a:xfrm>
              </p:grpSpPr>
              <p:sp>
                <p:nvSpPr>
                  <p:cNvPr id="897" name="Rectangle 80"/>
                  <p:cNvSpPr/>
                  <p:nvPr/>
                </p:nvSpPr>
                <p:spPr>
                  <a:xfrm>
                    <a:off x="5068800" y="5386680"/>
                    <a:ext cx="180648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8" name="Group 79"/>
                  <p:cNvGrpSpPr/>
                  <p:nvPr/>
                </p:nvGrpSpPr>
                <p:grpSpPr>
                  <a:xfrm>
                    <a:off x="5068800" y="5386680"/>
                    <a:ext cx="1806480" cy="284760"/>
                    <a:chOff x="5068800" y="5386680"/>
                    <a:chExt cx="1806480" cy="284760"/>
                  </a:xfrm>
                </p:grpSpPr>
                <p:sp>
                  <p:nvSpPr>
                    <p:cNvPr id="899" name="Rectangle 60"/>
                    <p:cNvSpPr/>
                    <p:nvPr/>
                  </p:nvSpPr>
                  <p:spPr>
                    <a:xfrm>
                      <a:off x="5113440" y="5386680"/>
                      <a:ext cx="171756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78"/>
                    <p:cNvSpPr/>
                    <p:nvPr/>
                  </p:nvSpPr>
                  <p:spPr>
                    <a:xfrm>
                      <a:off x="5068800" y="5386680"/>
                      <a:ext cx="180648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1" name="Group 83"/>
                <p:cNvGrpSpPr/>
                <p:nvPr/>
              </p:nvGrpSpPr>
              <p:grpSpPr>
                <a:xfrm>
                  <a:off x="2239920" y="5671440"/>
                  <a:ext cx="1022400" cy="284760"/>
                  <a:chOff x="2239920" y="5671440"/>
                  <a:chExt cx="1022400" cy="284760"/>
                </a:xfrm>
              </p:grpSpPr>
              <p:sp>
                <p:nvSpPr>
                  <p:cNvPr id="902" name="Rectangle 61"/>
                  <p:cNvSpPr/>
                  <p:nvPr/>
                </p:nvSpPr>
                <p:spPr>
                  <a:xfrm>
                    <a:off x="2284200" y="5671440"/>
                    <a:ext cx="933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NPq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Rectangle 82"/>
                  <p:cNvSpPr/>
                  <p:nvPr/>
                </p:nvSpPr>
                <p:spPr>
                  <a:xfrm>
                    <a:off x="2239920" y="5671440"/>
                    <a:ext cx="102240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4" name="Group 85"/>
                <p:cNvGrpSpPr/>
                <p:nvPr/>
              </p:nvGrpSpPr>
              <p:grpSpPr>
                <a:xfrm>
                  <a:off x="3262320" y="5671440"/>
                  <a:ext cx="1806480" cy="284760"/>
                  <a:chOff x="3262320" y="5671440"/>
                  <a:chExt cx="1806480" cy="284760"/>
                </a:xfrm>
              </p:grpSpPr>
              <p:sp>
                <p:nvSpPr>
                  <p:cNvPr id="905" name="Rectangle 62"/>
                  <p:cNvSpPr/>
                  <p:nvPr/>
                </p:nvSpPr>
                <p:spPr>
                  <a:xfrm>
                    <a:off x="3306600" y="5671440"/>
                    <a:ext cx="171792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8 mi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Rectangle 84"/>
                  <p:cNvSpPr/>
                  <p:nvPr/>
                </p:nvSpPr>
                <p:spPr>
                  <a:xfrm>
                    <a:off x="3262320" y="5671440"/>
                    <a:ext cx="180648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7" name="Group 87"/>
                <p:cNvGrpSpPr/>
                <p:nvPr/>
              </p:nvGrpSpPr>
              <p:grpSpPr>
                <a:xfrm>
                  <a:off x="5068800" y="5671440"/>
                  <a:ext cx="1806480" cy="284760"/>
                  <a:chOff x="5068800" y="5671440"/>
                  <a:chExt cx="1806480" cy="284760"/>
                </a:xfrm>
              </p:grpSpPr>
              <p:sp>
                <p:nvSpPr>
                  <p:cNvPr id="908" name="Rectangle 63"/>
                  <p:cNvSpPr/>
                  <p:nvPr/>
                </p:nvSpPr>
                <p:spPr>
                  <a:xfrm>
                    <a:off x="5113440" y="5671440"/>
                    <a:ext cx="171756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5 mi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Rectangle 86"/>
                  <p:cNvSpPr/>
                  <p:nvPr/>
                </p:nvSpPr>
                <p:spPr>
                  <a:xfrm>
                    <a:off x="5068800" y="5671440"/>
                    <a:ext cx="180648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0" name="Group 89"/>
                <p:cNvGrpSpPr/>
                <p:nvPr/>
              </p:nvGrpSpPr>
              <p:grpSpPr>
                <a:xfrm>
                  <a:off x="2239920" y="5956200"/>
                  <a:ext cx="1022400" cy="284760"/>
                  <a:chOff x="2239920" y="5956200"/>
                  <a:chExt cx="1022400" cy="284760"/>
                </a:xfrm>
              </p:grpSpPr>
              <p:sp>
                <p:nvSpPr>
                  <p:cNvPr id="911" name="Rectangle 64"/>
                  <p:cNvSpPr/>
                  <p:nvPr/>
                </p:nvSpPr>
                <p:spPr>
                  <a:xfrm>
                    <a:off x="2284200" y="5956200"/>
                    <a:ext cx="93348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CAP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Rectangle 88"/>
                  <p:cNvSpPr/>
                  <p:nvPr/>
                </p:nvSpPr>
                <p:spPr>
                  <a:xfrm>
                    <a:off x="2239920" y="5956200"/>
                    <a:ext cx="102240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3" name="Group 91"/>
                <p:cNvGrpSpPr/>
                <p:nvPr/>
              </p:nvGrpSpPr>
              <p:grpSpPr>
                <a:xfrm>
                  <a:off x="3262320" y="5956200"/>
                  <a:ext cx="1806480" cy="284760"/>
                  <a:chOff x="3262320" y="5956200"/>
                  <a:chExt cx="1806480" cy="284760"/>
                </a:xfrm>
              </p:grpSpPr>
              <p:sp>
                <p:nvSpPr>
                  <p:cNvPr id="914" name="Rectangle 65"/>
                  <p:cNvSpPr/>
                  <p:nvPr/>
                </p:nvSpPr>
                <p:spPr>
                  <a:xfrm>
                    <a:off x="3306600" y="5956200"/>
                    <a:ext cx="171792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34 mi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Rectangle 90"/>
                  <p:cNvSpPr/>
                  <p:nvPr/>
                </p:nvSpPr>
                <p:spPr>
                  <a:xfrm>
                    <a:off x="3262320" y="5956200"/>
                    <a:ext cx="180648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6" name="Group 93"/>
                <p:cNvGrpSpPr/>
                <p:nvPr/>
              </p:nvGrpSpPr>
              <p:grpSpPr>
                <a:xfrm>
                  <a:off x="5068800" y="5956200"/>
                  <a:ext cx="1806480" cy="284760"/>
                  <a:chOff x="5068800" y="5956200"/>
                  <a:chExt cx="1806480" cy="284760"/>
                </a:xfrm>
              </p:grpSpPr>
              <p:sp>
                <p:nvSpPr>
                  <p:cNvPr id="917" name="Rectangle 66"/>
                  <p:cNvSpPr/>
                  <p:nvPr/>
                </p:nvSpPr>
                <p:spPr>
                  <a:xfrm>
                    <a:off x="5113440" y="5956200"/>
                    <a:ext cx="1717560" cy="28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pt-BR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65 mi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8" name="Rectangle 92"/>
                  <p:cNvSpPr/>
                  <p:nvPr/>
                </p:nvSpPr>
                <p:spPr>
                  <a:xfrm>
                    <a:off x="5068800" y="5956200"/>
                    <a:ext cx="1806480" cy="28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9" name="Group 97"/>
                <p:cNvGrpSpPr/>
                <p:nvPr/>
              </p:nvGrpSpPr>
              <p:grpSpPr>
                <a:xfrm>
                  <a:off x="2239920" y="6240960"/>
                  <a:ext cx="1022400" cy="284760"/>
                  <a:chOff x="2239920" y="6240960"/>
                  <a:chExt cx="1022400" cy="284760"/>
                </a:xfrm>
              </p:grpSpPr>
              <p:sp>
                <p:nvSpPr>
                  <p:cNvPr id="920" name="Rectangle 96"/>
                  <p:cNvSpPr/>
                  <p:nvPr/>
                </p:nvSpPr>
                <p:spPr>
                  <a:xfrm>
                    <a:off x="2239920" y="6240960"/>
                    <a:ext cx="102240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1" name="Group 95"/>
                  <p:cNvGrpSpPr/>
                  <p:nvPr/>
                </p:nvGrpSpPr>
                <p:grpSpPr>
                  <a:xfrm>
                    <a:off x="2239920" y="6240960"/>
                    <a:ext cx="1022400" cy="284760"/>
                    <a:chOff x="2239920" y="6240960"/>
                    <a:chExt cx="1022400" cy="284760"/>
                  </a:xfrm>
                </p:grpSpPr>
                <p:sp>
                  <p:nvSpPr>
                    <p:cNvPr id="922" name="Rectangle 67"/>
                    <p:cNvSpPr/>
                    <p:nvPr/>
                  </p:nvSpPr>
                  <p:spPr>
                    <a:xfrm>
                      <a:off x="2284200" y="6240960"/>
                      <a:ext cx="93348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Rectangle 94"/>
                    <p:cNvSpPr/>
                    <p:nvPr/>
                  </p:nvSpPr>
                  <p:spPr>
                    <a:xfrm>
                      <a:off x="2239920" y="6240960"/>
                      <a:ext cx="102240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24" name="Group 101"/>
                <p:cNvGrpSpPr/>
                <p:nvPr/>
              </p:nvGrpSpPr>
              <p:grpSpPr>
                <a:xfrm>
                  <a:off x="3262320" y="6240960"/>
                  <a:ext cx="1806480" cy="284760"/>
                  <a:chOff x="3262320" y="6240960"/>
                  <a:chExt cx="1806480" cy="284760"/>
                </a:xfrm>
              </p:grpSpPr>
              <p:sp>
                <p:nvSpPr>
                  <p:cNvPr id="925" name="Rectangle 100"/>
                  <p:cNvSpPr/>
                  <p:nvPr/>
                </p:nvSpPr>
                <p:spPr>
                  <a:xfrm>
                    <a:off x="3262320" y="6240960"/>
                    <a:ext cx="180648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26" name="Group 99"/>
                  <p:cNvGrpSpPr/>
                  <p:nvPr/>
                </p:nvGrpSpPr>
                <p:grpSpPr>
                  <a:xfrm>
                    <a:off x="3262320" y="6240960"/>
                    <a:ext cx="1806480" cy="284760"/>
                    <a:chOff x="3262320" y="6240960"/>
                    <a:chExt cx="1806480" cy="284760"/>
                  </a:xfrm>
                </p:grpSpPr>
                <p:sp>
                  <p:nvSpPr>
                    <p:cNvPr id="927" name="Rectangle 68"/>
                    <p:cNvSpPr/>
                    <p:nvPr/>
                  </p:nvSpPr>
                  <p:spPr>
                    <a:xfrm>
                      <a:off x="3306600" y="6240960"/>
                      <a:ext cx="171792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 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Rectangle 98"/>
                    <p:cNvSpPr/>
                    <p:nvPr/>
                  </p:nvSpPr>
                  <p:spPr>
                    <a:xfrm>
                      <a:off x="3262320" y="6240960"/>
                      <a:ext cx="180648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29" name="Group 105"/>
                <p:cNvGrpSpPr/>
                <p:nvPr/>
              </p:nvGrpSpPr>
              <p:grpSpPr>
                <a:xfrm>
                  <a:off x="5068800" y="6240960"/>
                  <a:ext cx="1806480" cy="284760"/>
                  <a:chOff x="5068800" y="6240960"/>
                  <a:chExt cx="1806480" cy="284760"/>
                </a:xfrm>
              </p:grpSpPr>
              <p:sp>
                <p:nvSpPr>
                  <p:cNvPr id="930" name="Rectangle 104"/>
                  <p:cNvSpPr/>
                  <p:nvPr/>
                </p:nvSpPr>
                <p:spPr>
                  <a:xfrm>
                    <a:off x="5068800" y="6240960"/>
                    <a:ext cx="1806480" cy="28476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31" name="Group 103"/>
                  <p:cNvGrpSpPr/>
                  <p:nvPr/>
                </p:nvGrpSpPr>
                <p:grpSpPr>
                  <a:xfrm>
                    <a:off x="5068800" y="6240960"/>
                    <a:ext cx="1806480" cy="284760"/>
                    <a:chOff x="5068800" y="6240960"/>
                    <a:chExt cx="1806480" cy="284760"/>
                  </a:xfrm>
                </p:grpSpPr>
                <p:sp>
                  <p:nvSpPr>
                    <p:cNvPr id="932" name="Rectangle 69"/>
                    <p:cNvSpPr/>
                    <p:nvPr/>
                  </p:nvSpPr>
                  <p:spPr>
                    <a:xfrm>
                      <a:off x="5113440" y="6240960"/>
                      <a:ext cx="1717560" cy="284760"/>
                    </a:xfrm>
                    <a:prstGeom prst="rect">
                      <a:avLst/>
                    </a:prstGeom>
                    <a:solidFill>
                      <a:srgbClr val="e6e6e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 m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Rectangle 102"/>
                    <p:cNvSpPr/>
                    <p:nvPr/>
                  </p:nvSpPr>
                  <p:spPr>
                    <a:xfrm>
                      <a:off x="5068800" y="6240960"/>
                      <a:ext cx="1806480" cy="2847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934" name="Rectangle 107"/>
              <p:cNvSpPr/>
              <p:nvPr/>
            </p:nvSpPr>
            <p:spPr>
              <a:xfrm>
                <a:off x="2235240" y="5384880"/>
                <a:ext cx="4645080" cy="114300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5" name="Rectangle 109"/>
            <p:cNvSpPr/>
            <p:nvPr/>
          </p:nvSpPr>
          <p:spPr>
            <a:xfrm>
              <a:off x="2781360" y="5199120"/>
              <a:ext cx="35812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lsas CNPq </a:t>
              </a: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CAPES 2007-2010</a:t>
              </a:r>
              <a:r>
                <a:rPr b="0" lang="pt-BR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228600" y="1087560"/>
            <a:ext cx="868680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88,6 bilhões para saúde*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$ 64,6 bilhões no PP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vestimentos de R$ 24 bi entre 2008/11 – EC 29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moção e atenção à saú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lanejamento famili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Qualificação de profission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onitoramento para gestantes e população de 0 a 5 an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tendimento médico a 24 milhões de alunos da rede públ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Universalização do Programa Saúde da Famíl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mpliação do Brasil Sorridente, Internação Domiciliar e Farmácia Popular do Brasi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stímulo a práticas de alimentação saudável e de atividade fís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gulamentação do teor de sal e gordura nos produtos industrializad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3504600" y="228600"/>
            <a:ext cx="212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MAIS SAÚDE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vestimentos para melhorar acesso, qualificar atendimento, modernizar a gestão e promover pesquisa e capacitação profissional em saú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228600" y="1052640"/>
            <a:ext cx="8686800" cy="57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dução, Desenvolvimento e Cooperação em Saú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centivo para as indústrias privadas, produtoras de medicamentos e insum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nclusão da Hemobrás até 201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odernização de 75% dos laboratórios da Rede Nacional de Saúde Públic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umento de 50% na quantidade de medicamentos produzidos pelos 19 laboratórios ofici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Gestão, Trabalho e Particip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stalação de mais de 100 ouvidorias do SU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iação de 302 complexos para agendar consultas, internações e exames especializados, atendendo 107 milhões de pesso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apacitação de 373 mil técnic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ais acesso, melhor qual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bertura de 400 novos centros de especialidades odontológica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430 centros de atenção psicossoci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1.500 núcleos de apoio à Saúde da Famíl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2000 novas Unidades de Pronto Atendimento a cada ano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Possibilitará geração de 3 milhões de empregos diretos e indireto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3504600" y="228600"/>
            <a:ext cx="212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MAIS SAÚDE</a:t>
            </a:r>
            <a:r>
              <a:rPr b="1" lang="pt-BR" sz="2400" spc="-1" strike="noStrike">
                <a:solidFill>
                  <a:srgbClr val="008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4"/>
          <p:cNvSpPr/>
          <p:nvPr/>
        </p:nvSpPr>
        <p:spPr>
          <a:xfrm>
            <a:off x="271440" y="495360"/>
            <a:ext cx="85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000000"/>
                </a:solidFill>
                <a:latin typeface="Arial"/>
              </a:rPr>
              <a:t>Investimentos para melhorar acesso, qualificar atendimento, modernizar a gestão e promover pesquisa e capacitação profissional em saú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3"/>
          <p:cNvSpPr/>
          <p:nvPr/>
        </p:nvSpPr>
        <p:spPr>
          <a:xfrm>
            <a:off x="3478320" y="228600"/>
            <a:ext cx="192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5"/>
          <p:cNvSpPr/>
          <p:nvPr/>
        </p:nvSpPr>
        <p:spPr>
          <a:xfrm>
            <a:off x="76320" y="533520"/>
            <a:ext cx="44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cursos Federais Aplicados no Estado em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Group 98"/>
          <p:cNvGrpSpPr/>
          <p:nvPr/>
        </p:nvGrpSpPr>
        <p:grpSpPr>
          <a:xfrm>
            <a:off x="0" y="762120"/>
            <a:ext cx="9143640" cy="2819160"/>
            <a:chOff x="0" y="762120"/>
            <a:chExt cx="9143640" cy="2819160"/>
          </a:xfrm>
        </p:grpSpPr>
        <p:grpSp>
          <p:nvGrpSpPr>
            <p:cNvPr id="945" name="Group 96"/>
            <p:cNvGrpSpPr/>
            <p:nvPr/>
          </p:nvGrpSpPr>
          <p:grpSpPr>
            <a:xfrm>
              <a:off x="6120" y="763560"/>
              <a:ext cx="9129600" cy="2815200"/>
              <a:chOff x="6120" y="763560"/>
              <a:chExt cx="9129600" cy="2815200"/>
            </a:xfrm>
          </p:grpSpPr>
          <p:grpSp>
            <p:nvGrpSpPr>
              <p:cNvPr id="946" name="Group 37"/>
              <p:cNvGrpSpPr/>
              <p:nvPr/>
            </p:nvGrpSpPr>
            <p:grpSpPr>
              <a:xfrm>
                <a:off x="6120" y="763560"/>
                <a:ext cx="4439160" cy="385200"/>
                <a:chOff x="6120" y="763560"/>
                <a:chExt cx="4439160" cy="385200"/>
              </a:xfrm>
            </p:grpSpPr>
            <p:sp>
              <p:nvSpPr>
                <p:cNvPr id="947" name="Rectangle 6"/>
                <p:cNvSpPr/>
                <p:nvPr/>
              </p:nvSpPr>
              <p:spPr>
                <a:xfrm>
                  <a:off x="66960" y="763560"/>
                  <a:ext cx="4316400" cy="3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Ite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Rectangle 36"/>
                <p:cNvSpPr/>
                <p:nvPr/>
              </p:nvSpPr>
              <p:spPr>
                <a:xfrm>
                  <a:off x="6120" y="763560"/>
                  <a:ext cx="4439160" cy="38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Group 39"/>
              <p:cNvGrpSpPr/>
              <p:nvPr/>
            </p:nvGrpSpPr>
            <p:grpSpPr>
              <a:xfrm>
                <a:off x="4445640" y="763560"/>
                <a:ext cx="2013840" cy="385200"/>
                <a:chOff x="4445640" y="763560"/>
                <a:chExt cx="2013840" cy="385200"/>
              </a:xfrm>
            </p:grpSpPr>
            <p:sp>
              <p:nvSpPr>
                <p:cNvPr id="950" name="Rectangle 7"/>
                <p:cNvSpPr/>
                <p:nvPr/>
              </p:nvSpPr>
              <p:spPr>
                <a:xfrm>
                  <a:off x="4506480" y="763560"/>
                  <a:ext cx="1891800" cy="3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Valor(em R$ milhões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38"/>
                <p:cNvSpPr/>
                <p:nvPr/>
              </p:nvSpPr>
              <p:spPr>
                <a:xfrm>
                  <a:off x="4445640" y="763560"/>
                  <a:ext cx="2013840" cy="38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Group 41"/>
              <p:cNvGrpSpPr/>
              <p:nvPr/>
            </p:nvGrpSpPr>
            <p:grpSpPr>
              <a:xfrm>
                <a:off x="6459840" y="763560"/>
                <a:ext cx="2675880" cy="385200"/>
                <a:chOff x="6459840" y="763560"/>
                <a:chExt cx="2675880" cy="385200"/>
              </a:xfrm>
            </p:grpSpPr>
            <p:sp>
              <p:nvSpPr>
                <p:cNvPr id="953" name="Rectangle 8"/>
                <p:cNvSpPr/>
                <p:nvPr/>
              </p:nvSpPr>
              <p:spPr>
                <a:xfrm>
                  <a:off x="6521400" y="763560"/>
                  <a:ext cx="2553120" cy="3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Item/Receita Estadual (%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40"/>
                <p:cNvSpPr/>
                <p:nvPr/>
              </p:nvSpPr>
              <p:spPr>
                <a:xfrm>
                  <a:off x="6459840" y="763560"/>
                  <a:ext cx="2675880" cy="385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Group 43"/>
              <p:cNvGrpSpPr/>
              <p:nvPr/>
            </p:nvGrpSpPr>
            <p:grpSpPr>
              <a:xfrm>
                <a:off x="6120" y="1148760"/>
                <a:ext cx="4439160" cy="315360"/>
                <a:chOff x="6120" y="1148760"/>
                <a:chExt cx="4439160" cy="315360"/>
              </a:xfrm>
            </p:grpSpPr>
            <p:sp>
              <p:nvSpPr>
                <p:cNvPr id="956" name="Rectangle 9"/>
                <p:cNvSpPr/>
                <p:nvPr/>
              </p:nvSpPr>
              <p:spPr>
                <a:xfrm>
                  <a:off x="66960" y="1148760"/>
                  <a:ext cx="43164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Transferências Constitucionais e Obrigatórias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42"/>
                <p:cNvSpPr/>
                <p:nvPr/>
              </p:nvSpPr>
              <p:spPr>
                <a:xfrm>
                  <a:off x="6120" y="1148760"/>
                  <a:ext cx="443916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Group 45"/>
              <p:cNvGrpSpPr/>
              <p:nvPr/>
            </p:nvGrpSpPr>
            <p:grpSpPr>
              <a:xfrm>
                <a:off x="4445640" y="1148760"/>
                <a:ext cx="2013840" cy="315360"/>
                <a:chOff x="4445640" y="1148760"/>
                <a:chExt cx="2013840" cy="315360"/>
              </a:xfrm>
            </p:grpSpPr>
            <p:sp>
              <p:nvSpPr>
                <p:cNvPr id="959" name="Rectangle 10"/>
                <p:cNvSpPr/>
                <p:nvPr/>
              </p:nvSpPr>
              <p:spPr>
                <a:xfrm>
                  <a:off x="4506480" y="1148760"/>
                  <a:ext cx="18918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7.6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44"/>
                <p:cNvSpPr/>
                <p:nvPr/>
              </p:nvSpPr>
              <p:spPr>
                <a:xfrm>
                  <a:off x="4445640" y="1148760"/>
                  <a:ext cx="201384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Group 47"/>
              <p:cNvGrpSpPr/>
              <p:nvPr/>
            </p:nvGrpSpPr>
            <p:grpSpPr>
              <a:xfrm>
                <a:off x="6459840" y="1148760"/>
                <a:ext cx="2675880" cy="315360"/>
                <a:chOff x="6459840" y="1148760"/>
                <a:chExt cx="2675880" cy="315360"/>
              </a:xfrm>
            </p:grpSpPr>
            <p:sp>
              <p:nvSpPr>
                <p:cNvPr id="962" name="Rectangle 11"/>
                <p:cNvSpPr/>
                <p:nvPr/>
              </p:nvSpPr>
              <p:spPr>
                <a:xfrm>
                  <a:off x="6521400" y="1148760"/>
                  <a:ext cx="255312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Rectangle 46"/>
                <p:cNvSpPr/>
                <p:nvPr/>
              </p:nvSpPr>
              <p:spPr>
                <a:xfrm>
                  <a:off x="6459840" y="1148760"/>
                  <a:ext cx="267588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Group 49"/>
              <p:cNvGrpSpPr/>
              <p:nvPr/>
            </p:nvGrpSpPr>
            <p:grpSpPr>
              <a:xfrm>
                <a:off x="6120" y="1464480"/>
                <a:ext cx="4439160" cy="245160"/>
                <a:chOff x="6120" y="1464480"/>
                <a:chExt cx="4439160" cy="245160"/>
              </a:xfrm>
            </p:grpSpPr>
            <p:sp>
              <p:nvSpPr>
                <p:cNvPr id="965" name="Rectangle 12"/>
                <p:cNvSpPr/>
                <p:nvPr/>
              </p:nvSpPr>
              <p:spPr>
                <a:xfrm>
                  <a:off x="66960" y="1464480"/>
                  <a:ext cx="4316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bono e Seguro-Desemprego²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Rectangle 48"/>
                <p:cNvSpPr/>
                <p:nvPr/>
              </p:nvSpPr>
              <p:spPr>
                <a:xfrm>
                  <a:off x="6120" y="1464480"/>
                  <a:ext cx="44391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Group 51"/>
              <p:cNvGrpSpPr/>
              <p:nvPr/>
            </p:nvGrpSpPr>
            <p:grpSpPr>
              <a:xfrm>
                <a:off x="4445640" y="1464480"/>
                <a:ext cx="2013840" cy="245160"/>
                <a:chOff x="4445640" y="1464480"/>
                <a:chExt cx="2013840" cy="245160"/>
              </a:xfrm>
            </p:grpSpPr>
            <p:sp>
              <p:nvSpPr>
                <p:cNvPr id="968" name="Rectangle 13"/>
                <p:cNvSpPr/>
                <p:nvPr/>
              </p:nvSpPr>
              <p:spPr>
                <a:xfrm>
                  <a:off x="4506480" y="1464480"/>
                  <a:ext cx="18918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3.770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Rectangle 50"/>
                <p:cNvSpPr/>
                <p:nvPr/>
              </p:nvSpPr>
              <p:spPr>
                <a:xfrm>
                  <a:off x="4445640" y="1464480"/>
                  <a:ext cx="2013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Group 53"/>
              <p:cNvGrpSpPr/>
              <p:nvPr/>
            </p:nvGrpSpPr>
            <p:grpSpPr>
              <a:xfrm>
                <a:off x="6459840" y="1464480"/>
                <a:ext cx="2675880" cy="245160"/>
                <a:chOff x="6459840" y="1464480"/>
                <a:chExt cx="2675880" cy="245160"/>
              </a:xfrm>
            </p:grpSpPr>
            <p:sp>
              <p:nvSpPr>
                <p:cNvPr id="971" name="Rectangle 14"/>
                <p:cNvSpPr/>
                <p:nvPr/>
              </p:nvSpPr>
              <p:spPr>
                <a:xfrm>
                  <a:off x="6521400" y="1464480"/>
                  <a:ext cx="25531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Rectangle 52"/>
                <p:cNvSpPr/>
                <p:nvPr/>
              </p:nvSpPr>
              <p:spPr>
                <a:xfrm>
                  <a:off x="6459840" y="1464480"/>
                  <a:ext cx="267588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Group 55"/>
              <p:cNvGrpSpPr/>
              <p:nvPr/>
            </p:nvGrpSpPr>
            <p:grpSpPr>
              <a:xfrm>
                <a:off x="6120" y="1709640"/>
                <a:ext cx="4439160" cy="245160"/>
                <a:chOff x="6120" y="1709640"/>
                <a:chExt cx="4439160" cy="245160"/>
              </a:xfrm>
            </p:grpSpPr>
            <p:sp>
              <p:nvSpPr>
                <p:cNvPr id="974" name="Rectangle 15"/>
                <p:cNvSpPr/>
                <p:nvPr/>
              </p:nvSpPr>
              <p:spPr>
                <a:xfrm>
                  <a:off x="66960" y="1709640"/>
                  <a:ext cx="4316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enefícios da Previdência³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Rectangle 54"/>
                <p:cNvSpPr/>
                <p:nvPr/>
              </p:nvSpPr>
              <p:spPr>
                <a:xfrm>
                  <a:off x="6120" y="1709640"/>
                  <a:ext cx="44391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Group 57"/>
              <p:cNvGrpSpPr/>
              <p:nvPr/>
            </p:nvGrpSpPr>
            <p:grpSpPr>
              <a:xfrm>
                <a:off x="4445640" y="1709640"/>
                <a:ext cx="2013840" cy="245160"/>
                <a:chOff x="4445640" y="1709640"/>
                <a:chExt cx="2013840" cy="245160"/>
              </a:xfrm>
            </p:grpSpPr>
            <p:sp>
              <p:nvSpPr>
                <p:cNvPr id="977" name="Rectangle 16"/>
                <p:cNvSpPr/>
                <p:nvPr/>
              </p:nvSpPr>
              <p:spPr>
                <a:xfrm>
                  <a:off x="4506480" y="1709640"/>
                  <a:ext cx="18918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44.794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56"/>
                <p:cNvSpPr/>
                <p:nvPr/>
              </p:nvSpPr>
              <p:spPr>
                <a:xfrm>
                  <a:off x="4445640" y="1709640"/>
                  <a:ext cx="2013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Group 59"/>
              <p:cNvGrpSpPr/>
              <p:nvPr/>
            </p:nvGrpSpPr>
            <p:grpSpPr>
              <a:xfrm>
                <a:off x="6459840" y="1709640"/>
                <a:ext cx="2675880" cy="245160"/>
                <a:chOff x="6459840" y="1709640"/>
                <a:chExt cx="2675880" cy="245160"/>
              </a:xfrm>
            </p:grpSpPr>
            <p:sp>
              <p:nvSpPr>
                <p:cNvPr id="980" name="Rectangle 17"/>
                <p:cNvSpPr/>
                <p:nvPr/>
              </p:nvSpPr>
              <p:spPr>
                <a:xfrm>
                  <a:off x="6521400" y="1709640"/>
                  <a:ext cx="25531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Rectangle 58"/>
                <p:cNvSpPr/>
                <p:nvPr/>
              </p:nvSpPr>
              <p:spPr>
                <a:xfrm>
                  <a:off x="6459840" y="1709640"/>
                  <a:ext cx="267588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Group 61"/>
              <p:cNvGrpSpPr/>
              <p:nvPr/>
            </p:nvGrpSpPr>
            <p:grpSpPr>
              <a:xfrm>
                <a:off x="6120" y="1955160"/>
                <a:ext cx="4439160" cy="245160"/>
                <a:chOff x="6120" y="1955160"/>
                <a:chExt cx="4439160" cy="245160"/>
              </a:xfrm>
            </p:grpSpPr>
            <p:sp>
              <p:nvSpPr>
                <p:cNvPr id="983" name="Rectangle 18"/>
                <p:cNvSpPr/>
                <p:nvPr/>
              </p:nvSpPr>
              <p:spPr>
                <a:xfrm>
                  <a:off x="66960" y="1955160"/>
                  <a:ext cx="4316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ubto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60"/>
                <p:cNvSpPr/>
                <p:nvPr/>
              </p:nvSpPr>
              <p:spPr>
                <a:xfrm>
                  <a:off x="6120" y="1955160"/>
                  <a:ext cx="44391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Group 63"/>
              <p:cNvGrpSpPr/>
              <p:nvPr/>
            </p:nvGrpSpPr>
            <p:grpSpPr>
              <a:xfrm>
                <a:off x="4445640" y="1955160"/>
                <a:ext cx="2013840" cy="245160"/>
                <a:chOff x="4445640" y="1955160"/>
                <a:chExt cx="2013840" cy="245160"/>
              </a:xfrm>
            </p:grpSpPr>
            <p:sp>
              <p:nvSpPr>
                <p:cNvPr id="986" name="Rectangle 19"/>
                <p:cNvSpPr/>
                <p:nvPr/>
              </p:nvSpPr>
              <p:spPr>
                <a:xfrm>
                  <a:off x="4506480" y="1955160"/>
                  <a:ext cx="18918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6.186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Rectangle 62"/>
                <p:cNvSpPr/>
                <p:nvPr/>
              </p:nvSpPr>
              <p:spPr>
                <a:xfrm>
                  <a:off x="4445640" y="1955160"/>
                  <a:ext cx="2013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Group 65"/>
              <p:cNvGrpSpPr/>
              <p:nvPr/>
            </p:nvGrpSpPr>
            <p:grpSpPr>
              <a:xfrm>
                <a:off x="6459840" y="1955160"/>
                <a:ext cx="2675880" cy="245160"/>
                <a:chOff x="6459840" y="1955160"/>
                <a:chExt cx="2675880" cy="245160"/>
              </a:xfrm>
            </p:grpSpPr>
            <p:sp>
              <p:nvSpPr>
                <p:cNvPr id="989" name="Rectangle 20"/>
                <p:cNvSpPr/>
                <p:nvPr/>
              </p:nvSpPr>
              <p:spPr>
                <a:xfrm>
                  <a:off x="6521400" y="1955160"/>
                  <a:ext cx="25531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6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64"/>
                <p:cNvSpPr/>
                <p:nvPr/>
              </p:nvSpPr>
              <p:spPr>
                <a:xfrm>
                  <a:off x="6459840" y="1955160"/>
                  <a:ext cx="267588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Group 67"/>
              <p:cNvGrpSpPr/>
              <p:nvPr/>
            </p:nvGrpSpPr>
            <p:grpSpPr>
              <a:xfrm>
                <a:off x="6120" y="2200320"/>
                <a:ext cx="4439160" cy="315360"/>
                <a:chOff x="6120" y="2200320"/>
                <a:chExt cx="4439160" cy="315360"/>
              </a:xfrm>
            </p:grpSpPr>
            <p:sp>
              <p:nvSpPr>
                <p:cNvPr id="992" name="Rectangle 21"/>
                <p:cNvSpPr/>
                <p:nvPr/>
              </p:nvSpPr>
              <p:spPr>
                <a:xfrm>
                  <a:off x="66960" y="2200320"/>
                  <a:ext cx="43164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Transferências Voluntárias e Aplicação Direta</a:t>
                  </a:r>
                  <a:r>
                    <a:rPr b="0" lang="pt-BR" sz="1400" spc="-1" strike="noStrike" baseline="30000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66"/>
                <p:cNvSpPr/>
                <p:nvPr/>
              </p:nvSpPr>
              <p:spPr>
                <a:xfrm>
                  <a:off x="6120" y="2200320"/>
                  <a:ext cx="443916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Group 69"/>
              <p:cNvGrpSpPr/>
              <p:nvPr/>
            </p:nvGrpSpPr>
            <p:grpSpPr>
              <a:xfrm>
                <a:off x="4445640" y="2200320"/>
                <a:ext cx="2013840" cy="315360"/>
                <a:chOff x="4445640" y="2200320"/>
                <a:chExt cx="2013840" cy="315360"/>
              </a:xfrm>
            </p:grpSpPr>
            <p:sp>
              <p:nvSpPr>
                <p:cNvPr id="995" name="Rectangle 22"/>
                <p:cNvSpPr/>
                <p:nvPr/>
              </p:nvSpPr>
              <p:spPr>
                <a:xfrm>
                  <a:off x="4506480" y="2200320"/>
                  <a:ext cx="18918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8.0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68"/>
                <p:cNvSpPr/>
                <p:nvPr/>
              </p:nvSpPr>
              <p:spPr>
                <a:xfrm>
                  <a:off x="4445640" y="2200320"/>
                  <a:ext cx="201384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Group 71"/>
              <p:cNvGrpSpPr/>
              <p:nvPr/>
            </p:nvGrpSpPr>
            <p:grpSpPr>
              <a:xfrm>
                <a:off x="6459840" y="2200320"/>
                <a:ext cx="2675880" cy="315360"/>
                <a:chOff x="6459840" y="2200320"/>
                <a:chExt cx="2675880" cy="315360"/>
              </a:xfrm>
            </p:grpSpPr>
            <p:sp>
              <p:nvSpPr>
                <p:cNvPr id="998" name="Rectangle 23"/>
                <p:cNvSpPr/>
                <p:nvPr/>
              </p:nvSpPr>
              <p:spPr>
                <a:xfrm>
                  <a:off x="6521400" y="2200320"/>
                  <a:ext cx="255312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0"/>
                <p:cNvSpPr/>
                <p:nvPr/>
              </p:nvSpPr>
              <p:spPr>
                <a:xfrm>
                  <a:off x="6459840" y="2200320"/>
                  <a:ext cx="267588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Group 73"/>
              <p:cNvGrpSpPr/>
              <p:nvPr/>
            </p:nvGrpSpPr>
            <p:grpSpPr>
              <a:xfrm>
                <a:off x="6120" y="2516040"/>
                <a:ext cx="4439160" cy="315360"/>
                <a:chOff x="6120" y="2516040"/>
                <a:chExt cx="4439160" cy="315360"/>
              </a:xfrm>
            </p:grpSpPr>
            <p:sp>
              <p:nvSpPr>
                <p:cNvPr id="1001" name="Rectangle 24"/>
                <p:cNvSpPr/>
                <p:nvPr/>
              </p:nvSpPr>
              <p:spPr>
                <a:xfrm>
                  <a:off x="66960" y="2516040"/>
                  <a:ext cx="43164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Transferência de Renda com Condicionalidades</a:t>
                  </a:r>
                  <a:r>
                    <a:rPr b="0" lang="pt-BR" sz="1400" spc="-1" strike="noStrike" baseline="30000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Rectangle 72"/>
                <p:cNvSpPr/>
                <p:nvPr/>
              </p:nvSpPr>
              <p:spPr>
                <a:xfrm>
                  <a:off x="6120" y="2516040"/>
                  <a:ext cx="443916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Group 75"/>
              <p:cNvGrpSpPr/>
              <p:nvPr/>
            </p:nvGrpSpPr>
            <p:grpSpPr>
              <a:xfrm>
                <a:off x="4445640" y="2516040"/>
                <a:ext cx="2013840" cy="315360"/>
                <a:chOff x="4445640" y="2516040"/>
                <a:chExt cx="2013840" cy="315360"/>
              </a:xfrm>
            </p:grpSpPr>
            <p:sp>
              <p:nvSpPr>
                <p:cNvPr id="1004" name="Rectangle 25"/>
                <p:cNvSpPr/>
                <p:nvPr/>
              </p:nvSpPr>
              <p:spPr>
                <a:xfrm>
                  <a:off x="4506480" y="2516040"/>
                  <a:ext cx="189180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692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Rectangle 74"/>
                <p:cNvSpPr/>
                <p:nvPr/>
              </p:nvSpPr>
              <p:spPr>
                <a:xfrm>
                  <a:off x="4445640" y="2516040"/>
                  <a:ext cx="201384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Group 77"/>
              <p:cNvGrpSpPr/>
              <p:nvPr/>
            </p:nvGrpSpPr>
            <p:grpSpPr>
              <a:xfrm>
                <a:off x="6459840" y="2516040"/>
                <a:ext cx="2675880" cy="315360"/>
                <a:chOff x="6459840" y="2516040"/>
                <a:chExt cx="2675880" cy="315360"/>
              </a:xfrm>
            </p:grpSpPr>
            <p:sp>
              <p:nvSpPr>
                <p:cNvPr id="1007" name="Rectangle 26"/>
                <p:cNvSpPr/>
                <p:nvPr/>
              </p:nvSpPr>
              <p:spPr>
                <a:xfrm>
                  <a:off x="6521400" y="2516040"/>
                  <a:ext cx="2553120" cy="31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Rectangle 76"/>
                <p:cNvSpPr/>
                <p:nvPr/>
              </p:nvSpPr>
              <p:spPr>
                <a:xfrm>
                  <a:off x="6459840" y="2516040"/>
                  <a:ext cx="2675880" cy="31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Group 79"/>
              <p:cNvGrpSpPr/>
              <p:nvPr/>
            </p:nvGrpSpPr>
            <p:grpSpPr>
              <a:xfrm>
                <a:off x="6120" y="2831400"/>
                <a:ext cx="4439160" cy="245160"/>
                <a:chOff x="6120" y="2831400"/>
                <a:chExt cx="4439160" cy="245160"/>
              </a:xfrm>
            </p:grpSpPr>
            <p:sp>
              <p:nvSpPr>
                <p:cNvPr id="1010" name="Rectangle 27"/>
                <p:cNvSpPr/>
                <p:nvPr/>
              </p:nvSpPr>
              <p:spPr>
                <a:xfrm>
                  <a:off x="66960" y="2831400"/>
                  <a:ext cx="4316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LOAS e Renda Mensal Vitalícia</a:t>
                  </a:r>
                  <a:r>
                    <a:rPr b="0" lang="pt-BR" sz="1400" spc="-1" strike="noStrike" baseline="30000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Rectangle 78"/>
                <p:cNvSpPr/>
                <p:nvPr/>
              </p:nvSpPr>
              <p:spPr>
                <a:xfrm>
                  <a:off x="6120" y="2831400"/>
                  <a:ext cx="44391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Group 81"/>
              <p:cNvGrpSpPr/>
              <p:nvPr/>
            </p:nvGrpSpPr>
            <p:grpSpPr>
              <a:xfrm>
                <a:off x="4445640" y="2831400"/>
                <a:ext cx="2013840" cy="245160"/>
                <a:chOff x="4445640" y="2831400"/>
                <a:chExt cx="2013840" cy="245160"/>
              </a:xfrm>
            </p:grpSpPr>
            <p:sp>
              <p:nvSpPr>
                <p:cNvPr id="1013" name="Rectangle 28"/>
                <p:cNvSpPr/>
                <p:nvPr/>
              </p:nvSpPr>
              <p:spPr>
                <a:xfrm>
                  <a:off x="4506480" y="2831400"/>
                  <a:ext cx="18918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.014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Rectangle 80"/>
                <p:cNvSpPr/>
                <p:nvPr/>
              </p:nvSpPr>
              <p:spPr>
                <a:xfrm>
                  <a:off x="4445640" y="2831400"/>
                  <a:ext cx="2013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Group 83"/>
              <p:cNvGrpSpPr/>
              <p:nvPr/>
            </p:nvGrpSpPr>
            <p:grpSpPr>
              <a:xfrm>
                <a:off x="6459840" y="2831400"/>
                <a:ext cx="2675880" cy="245160"/>
                <a:chOff x="6459840" y="2831400"/>
                <a:chExt cx="2675880" cy="245160"/>
              </a:xfrm>
            </p:grpSpPr>
            <p:sp>
              <p:nvSpPr>
                <p:cNvPr id="1016" name="Rectangle 29"/>
                <p:cNvSpPr/>
                <p:nvPr/>
              </p:nvSpPr>
              <p:spPr>
                <a:xfrm>
                  <a:off x="6521400" y="2831400"/>
                  <a:ext cx="25531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Rectangle 82"/>
                <p:cNvSpPr/>
                <p:nvPr/>
              </p:nvSpPr>
              <p:spPr>
                <a:xfrm>
                  <a:off x="6459840" y="2831400"/>
                  <a:ext cx="267588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Group 85"/>
              <p:cNvGrpSpPr/>
              <p:nvPr/>
            </p:nvGrpSpPr>
            <p:grpSpPr>
              <a:xfrm>
                <a:off x="6120" y="3076920"/>
                <a:ext cx="4439160" cy="245160"/>
                <a:chOff x="6120" y="3076920"/>
                <a:chExt cx="4439160" cy="245160"/>
              </a:xfrm>
            </p:grpSpPr>
            <p:sp>
              <p:nvSpPr>
                <p:cNvPr id="1019" name="Rectangle 30"/>
                <p:cNvSpPr/>
                <p:nvPr/>
              </p:nvSpPr>
              <p:spPr>
                <a:xfrm>
                  <a:off x="66960" y="3076920"/>
                  <a:ext cx="43164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ubto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Rectangle 84"/>
                <p:cNvSpPr/>
                <p:nvPr/>
              </p:nvSpPr>
              <p:spPr>
                <a:xfrm>
                  <a:off x="6120" y="3076920"/>
                  <a:ext cx="443916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Group 87"/>
              <p:cNvGrpSpPr/>
              <p:nvPr/>
            </p:nvGrpSpPr>
            <p:grpSpPr>
              <a:xfrm>
                <a:off x="4445640" y="3076920"/>
                <a:ext cx="2013840" cy="245160"/>
                <a:chOff x="4445640" y="3076920"/>
                <a:chExt cx="2013840" cy="245160"/>
              </a:xfrm>
            </p:grpSpPr>
            <p:sp>
              <p:nvSpPr>
                <p:cNvPr id="1022" name="Rectangle 31"/>
                <p:cNvSpPr/>
                <p:nvPr/>
              </p:nvSpPr>
              <p:spPr>
                <a:xfrm>
                  <a:off x="4506480" y="3076920"/>
                  <a:ext cx="18918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0.766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Rectangle 86"/>
                <p:cNvSpPr/>
                <p:nvPr/>
              </p:nvSpPr>
              <p:spPr>
                <a:xfrm>
                  <a:off x="4445640" y="3076920"/>
                  <a:ext cx="201384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Group 89"/>
              <p:cNvGrpSpPr/>
              <p:nvPr/>
            </p:nvGrpSpPr>
            <p:grpSpPr>
              <a:xfrm>
                <a:off x="6459840" y="3076920"/>
                <a:ext cx="2675880" cy="245160"/>
                <a:chOff x="6459840" y="3076920"/>
                <a:chExt cx="2675880" cy="245160"/>
              </a:xfrm>
            </p:grpSpPr>
            <p:sp>
              <p:nvSpPr>
                <p:cNvPr id="1025" name="Rectangle 32"/>
                <p:cNvSpPr/>
                <p:nvPr/>
              </p:nvSpPr>
              <p:spPr>
                <a:xfrm>
                  <a:off x="6521400" y="3076920"/>
                  <a:ext cx="255312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Rectangle 88"/>
                <p:cNvSpPr/>
                <p:nvPr/>
              </p:nvSpPr>
              <p:spPr>
                <a:xfrm>
                  <a:off x="6459840" y="3076920"/>
                  <a:ext cx="2675880" cy="24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Group 91"/>
              <p:cNvGrpSpPr/>
              <p:nvPr/>
            </p:nvGrpSpPr>
            <p:grpSpPr>
              <a:xfrm>
                <a:off x="6120" y="3322080"/>
                <a:ext cx="4439160" cy="256680"/>
                <a:chOff x="6120" y="3322080"/>
                <a:chExt cx="4439160" cy="256680"/>
              </a:xfrm>
            </p:grpSpPr>
            <p:sp>
              <p:nvSpPr>
                <p:cNvPr id="1028" name="Rectangle 33"/>
                <p:cNvSpPr/>
                <p:nvPr/>
              </p:nvSpPr>
              <p:spPr>
                <a:xfrm>
                  <a:off x="66960" y="3322080"/>
                  <a:ext cx="431640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Tot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Rectangle 90"/>
                <p:cNvSpPr/>
                <p:nvPr/>
              </p:nvSpPr>
              <p:spPr>
                <a:xfrm>
                  <a:off x="6120" y="3322080"/>
                  <a:ext cx="443916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Group 93"/>
              <p:cNvGrpSpPr/>
              <p:nvPr/>
            </p:nvGrpSpPr>
            <p:grpSpPr>
              <a:xfrm>
                <a:off x="4445640" y="3322080"/>
                <a:ext cx="2013840" cy="256680"/>
                <a:chOff x="4445640" y="3322080"/>
                <a:chExt cx="2013840" cy="256680"/>
              </a:xfrm>
            </p:grpSpPr>
            <p:sp>
              <p:nvSpPr>
                <p:cNvPr id="1031" name="Rectangle 34"/>
                <p:cNvSpPr/>
                <p:nvPr/>
              </p:nvSpPr>
              <p:spPr>
                <a:xfrm>
                  <a:off x="4506480" y="3322080"/>
                  <a:ext cx="189180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66.953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Rectangle 92"/>
                <p:cNvSpPr/>
                <p:nvPr/>
              </p:nvSpPr>
              <p:spPr>
                <a:xfrm>
                  <a:off x="4445640" y="3322080"/>
                  <a:ext cx="201384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Group 95"/>
              <p:cNvGrpSpPr/>
              <p:nvPr/>
            </p:nvGrpSpPr>
            <p:grpSpPr>
              <a:xfrm>
                <a:off x="6459840" y="3322080"/>
                <a:ext cx="2675880" cy="256680"/>
                <a:chOff x="6459840" y="3322080"/>
                <a:chExt cx="2675880" cy="256680"/>
              </a:xfrm>
            </p:grpSpPr>
            <p:sp>
              <p:nvSpPr>
                <p:cNvPr id="1034" name="Rectangle 35"/>
                <p:cNvSpPr/>
                <p:nvPr/>
              </p:nvSpPr>
              <p:spPr>
                <a:xfrm>
                  <a:off x="6521400" y="3322080"/>
                  <a:ext cx="25531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4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7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Rectangle 94"/>
                <p:cNvSpPr/>
                <p:nvPr/>
              </p:nvSpPr>
              <p:spPr>
                <a:xfrm>
                  <a:off x="6459840" y="3322080"/>
                  <a:ext cx="2675880" cy="25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6" name="Rectangle 97"/>
            <p:cNvSpPr/>
            <p:nvPr/>
          </p:nvSpPr>
          <p:spPr>
            <a:xfrm>
              <a:off x="0" y="762120"/>
              <a:ext cx="9143640" cy="2819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Rectangle 99"/>
          <p:cNvSpPr/>
          <p:nvPr/>
        </p:nvSpPr>
        <p:spPr>
          <a:xfrm>
            <a:off x="0" y="3581280"/>
            <a:ext cx="914400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¹ Inclui FPE, FPM, IPI-EE, Salário Educação, FUNDEF, FUNDEF-Complementação, Lei Kandir, CIDE Combustíveis, compensações financeiras e PASEP distribuído entre os Estados e despesas não passíveis de identificação contábil, no SIAFI, da Unidade da Federação benefic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² Inclui Abono Salarial PIS/PASEP, Bolsa-Qualificação, Seguro-Desemprego de Trabalhador Formal, de Empregado Doméstico, de Pescador Artesanal e de Trabalhador Resgatado e não inclui despesas não passíveis de identificação contábil, no SIAFI, da Unidade da Federação benefic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³ Inclui pagamento de aposentadorias, pensões, auxílio-doença, salário-família, salário-maternidade, abono de permanência, sentenças judiciais da Previdência Social e não inclui despesas não passíveis de identificação contábil, no SIAFI, da Unidade da Federação benefic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Custeio e investimento. Não inclui Bolsa-Família, pessoal, reserva, dívida, despesas financeiras e outras despesas não passíveis de identificação contábil, no SIAFI, da Unidade da Federação benefic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5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Inclui Bolsa-Família, Bolsa-Escola, Bolsa-Alimentação, Cartão-Alimentação, Auxílio-Gás e não inclui despesas não passíveis de identificação contábil, no SIAFI, da Unidade da Federação benefici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baseline="30000">
                <a:solidFill>
                  <a:srgbClr val="000000"/>
                </a:solidFill>
                <a:latin typeface="Arial"/>
                <a:ea typeface="Arial Unicode MS"/>
              </a:rPr>
              <a:t>6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Inclui Benefício de Prestação Continuada ao Idoso, Benefício de Prestação Continuada à Pessoa Portadora de Deficiência Física, Renda Mensal Vitalícia por Idade e Renda Mensal Vitalícia por Invalidez e não inclui despesas não passíveis de identificação contábil, no SIAFI, da Unidade da Federação beneficia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Fontes: SAM/PR e SOF/MP (17.08.07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2"/>
          <p:cNvSpPr/>
          <p:nvPr/>
        </p:nvSpPr>
        <p:spPr>
          <a:xfrm>
            <a:off x="3478320" y="228600"/>
            <a:ext cx="192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3"/>
          <p:cNvSpPr/>
          <p:nvPr/>
        </p:nvSpPr>
        <p:spPr>
          <a:xfrm>
            <a:off x="3240" y="4255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Mercado de Trabalho (janeiro/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3240" y="30956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* Estimativa do MTE aponta para a criação de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10.320.313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portunidades de trabalho (postos formais e informais) no Governo Lul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onte: Ministério do Trabalho e Emprego/RAIS e CAGED (19.02.08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Uni - Programa Universidade para Todos (2005 a 200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Group 5"/>
          <p:cNvGrpSpPr/>
          <p:nvPr/>
        </p:nvGrpSpPr>
        <p:grpSpPr>
          <a:xfrm>
            <a:off x="0" y="4471920"/>
            <a:ext cx="9143640" cy="1928880"/>
            <a:chOff x="0" y="4471920"/>
            <a:chExt cx="9143640" cy="1928880"/>
          </a:xfrm>
        </p:grpSpPr>
        <p:grpSp>
          <p:nvGrpSpPr>
            <p:cNvPr id="1042" name="Group 6"/>
            <p:cNvGrpSpPr/>
            <p:nvPr/>
          </p:nvGrpSpPr>
          <p:grpSpPr>
            <a:xfrm>
              <a:off x="6480" y="4476600"/>
              <a:ext cx="9129960" cy="1919520"/>
              <a:chOff x="6480" y="4476600"/>
              <a:chExt cx="9129960" cy="1919520"/>
            </a:xfrm>
          </p:grpSpPr>
          <p:grpSp>
            <p:nvGrpSpPr>
              <p:cNvPr id="1043" name="Group 7"/>
              <p:cNvGrpSpPr/>
              <p:nvPr/>
            </p:nvGrpSpPr>
            <p:grpSpPr>
              <a:xfrm>
                <a:off x="6480" y="4476600"/>
                <a:ext cx="4355280" cy="639720"/>
                <a:chOff x="6480" y="4476600"/>
                <a:chExt cx="4355280" cy="639720"/>
              </a:xfrm>
            </p:grpSpPr>
            <p:sp>
              <p:nvSpPr>
                <p:cNvPr id="1044" name="Rectangle 8"/>
                <p:cNvSpPr/>
                <p:nvPr/>
              </p:nvSpPr>
              <p:spPr>
                <a:xfrm>
                  <a:off x="68400" y="4476600"/>
                  <a:ext cx="4231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Unidade da Feder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Rectangle 9"/>
                <p:cNvSpPr/>
                <p:nvPr/>
              </p:nvSpPr>
              <p:spPr>
                <a:xfrm>
                  <a:off x="6480" y="4476600"/>
                  <a:ext cx="4355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Group 10"/>
              <p:cNvGrpSpPr/>
              <p:nvPr/>
            </p:nvGrpSpPr>
            <p:grpSpPr>
              <a:xfrm>
                <a:off x="4362120" y="4476600"/>
                <a:ext cx="4774320" cy="639720"/>
                <a:chOff x="4362120" y="4476600"/>
                <a:chExt cx="4774320" cy="639720"/>
              </a:xfrm>
            </p:grpSpPr>
            <p:sp>
              <p:nvSpPr>
                <p:cNvPr id="1047" name="Rectangle 11"/>
                <p:cNvSpPr/>
                <p:nvPr/>
              </p:nvSpPr>
              <p:spPr>
                <a:xfrm>
                  <a:off x="4424400" y="4476600"/>
                  <a:ext cx="4649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Estudantes Benefici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Rectangle 12"/>
                <p:cNvSpPr/>
                <p:nvPr/>
              </p:nvSpPr>
              <p:spPr>
                <a:xfrm>
                  <a:off x="4362120" y="4476600"/>
                  <a:ext cx="4774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9" name="Group 13"/>
              <p:cNvGrpSpPr/>
              <p:nvPr/>
            </p:nvGrpSpPr>
            <p:grpSpPr>
              <a:xfrm>
                <a:off x="6480" y="5116320"/>
                <a:ext cx="4355280" cy="640080"/>
                <a:chOff x="6480" y="5116320"/>
                <a:chExt cx="4355280" cy="640080"/>
              </a:xfrm>
            </p:grpSpPr>
            <p:sp>
              <p:nvSpPr>
                <p:cNvPr id="1050" name="Rectangle 14"/>
                <p:cNvSpPr/>
                <p:nvPr/>
              </p:nvSpPr>
              <p:spPr>
                <a:xfrm>
                  <a:off x="68400" y="5116320"/>
                  <a:ext cx="42310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São Pau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Rectangle 15"/>
                <p:cNvSpPr/>
                <p:nvPr/>
              </p:nvSpPr>
              <p:spPr>
                <a:xfrm>
                  <a:off x="6480" y="5116320"/>
                  <a:ext cx="4355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2" name="Group 16"/>
              <p:cNvGrpSpPr/>
              <p:nvPr/>
            </p:nvGrpSpPr>
            <p:grpSpPr>
              <a:xfrm>
                <a:off x="4362120" y="5116320"/>
                <a:ext cx="4774320" cy="640080"/>
                <a:chOff x="4362120" y="5116320"/>
                <a:chExt cx="4774320" cy="640080"/>
              </a:xfrm>
            </p:grpSpPr>
            <p:sp>
              <p:nvSpPr>
                <p:cNvPr id="1053" name="Rectangle 17"/>
                <p:cNvSpPr/>
                <p:nvPr/>
              </p:nvSpPr>
              <p:spPr>
                <a:xfrm>
                  <a:off x="4424400" y="5116320"/>
                  <a:ext cx="46490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89.58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Rectangle 18"/>
                <p:cNvSpPr/>
                <p:nvPr/>
              </p:nvSpPr>
              <p:spPr>
                <a:xfrm>
                  <a:off x="4362120" y="5116320"/>
                  <a:ext cx="47743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5" name="Group 19"/>
              <p:cNvGrpSpPr/>
              <p:nvPr/>
            </p:nvGrpSpPr>
            <p:grpSpPr>
              <a:xfrm>
                <a:off x="6480" y="5756400"/>
                <a:ext cx="4355280" cy="639720"/>
                <a:chOff x="6480" y="5756400"/>
                <a:chExt cx="4355280" cy="639720"/>
              </a:xfrm>
            </p:grpSpPr>
            <p:sp>
              <p:nvSpPr>
                <p:cNvPr id="1056" name="Rectangle 20"/>
                <p:cNvSpPr/>
                <p:nvPr/>
              </p:nvSpPr>
              <p:spPr>
                <a:xfrm>
                  <a:off x="68400" y="5756400"/>
                  <a:ext cx="4231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ras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21"/>
                <p:cNvSpPr/>
                <p:nvPr/>
              </p:nvSpPr>
              <p:spPr>
                <a:xfrm>
                  <a:off x="6480" y="5756400"/>
                  <a:ext cx="4355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8" name="Group 22"/>
              <p:cNvGrpSpPr/>
              <p:nvPr/>
            </p:nvGrpSpPr>
            <p:grpSpPr>
              <a:xfrm>
                <a:off x="4362120" y="5756400"/>
                <a:ext cx="4774320" cy="639720"/>
                <a:chOff x="4362120" y="5756400"/>
                <a:chExt cx="4774320" cy="639720"/>
              </a:xfrm>
            </p:grpSpPr>
            <p:sp>
              <p:nvSpPr>
                <p:cNvPr id="1059" name="Rectangle 23"/>
                <p:cNvSpPr/>
                <p:nvPr/>
              </p:nvSpPr>
              <p:spPr>
                <a:xfrm>
                  <a:off x="4424400" y="5756400"/>
                  <a:ext cx="4649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310.09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Rectangle 24"/>
                <p:cNvSpPr/>
                <p:nvPr/>
              </p:nvSpPr>
              <p:spPr>
                <a:xfrm>
                  <a:off x="4362120" y="5756400"/>
                  <a:ext cx="4774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61" name="Rectangle 25"/>
            <p:cNvSpPr/>
            <p:nvPr/>
          </p:nvSpPr>
          <p:spPr>
            <a:xfrm>
              <a:off x="0" y="4471920"/>
              <a:ext cx="9143640" cy="1928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Rectangle 26"/>
          <p:cNvSpPr/>
          <p:nvPr/>
        </p:nvSpPr>
        <p:spPr>
          <a:xfrm>
            <a:off x="324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nte: Ministério da Educação (19.02.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7"/>
          <p:cNvGrpSpPr/>
          <p:nvPr/>
        </p:nvGrpSpPr>
        <p:grpSpPr>
          <a:xfrm>
            <a:off x="0" y="1036800"/>
            <a:ext cx="9143280" cy="2086920"/>
            <a:chOff x="0" y="1036800"/>
            <a:chExt cx="9143280" cy="2086920"/>
          </a:xfrm>
        </p:grpSpPr>
        <p:grpSp>
          <p:nvGrpSpPr>
            <p:cNvPr id="1064" name="Group 28"/>
            <p:cNvGrpSpPr/>
            <p:nvPr/>
          </p:nvGrpSpPr>
          <p:grpSpPr>
            <a:xfrm>
              <a:off x="0" y="1036800"/>
              <a:ext cx="2996640" cy="1037880"/>
              <a:chOff x="0" y="1036800"/>
              <a:chExt cx="2996640" cy="1037880"/>
            </a:xfrm>
          </p:grpSpPr>
          <p:sp>
            <p:nvSpPr>
              <p:cNvPr id="1065" name="Rectangle 29"/>
              <p:cNvSpPr/>
              <p:nvPr/>
            </p:nvSpPr>
            <p:spPr>
              <a:xfrm>
                <a:off x="60480" y="1036800"/>
                <a:ext cx="2875680" cy="10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Unidade da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Feder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30"/>
              <p:cNvSpPr/>
              <p:nvPr/>
            </p:nvSpPr>
            <p:spPr>
              <a:xfrm>
                <a:off x="0" y="1036800"/>
                <a:ext cx="2996640" cy="103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Group 31"/>
            <p:cNvGrpSpPr/>
            <p:nvPr/>
          </p:nvGrpSpPr>
          <p:grpSpPr>
            <a:xfrm>
              <a:off x="2997000" y="1036800"/>
              <a:ext cx="1687320" cy="1037880"/>
              <a:chOff x="2997000" y="1036800"/>
              <a:chExt cx="1687320" cy="1037880"/>
            </a:xfrm>
          </p:grpSpPr>
          <p:sp>
            <p:nvSpPr>
              <p:cNvPr id="1068" name="Rectangle 32"/>
              <p:cNvSpPr/>
              <p:nvPr/>
            </p:nvSpPr>
            <p:spPr>
              <a:xfrm>
                <a:off x="3057840" y="1036800"/>
                <a:ext cx="1565280" cy="10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Emprego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Forma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3"/>
              <p:cNvSpPr/>
              <p:nvPr/>
            </p:nvSpPr>
            <p:spPr>
              <a:xfrm>
                <a:off x="2997000" y="1036800"/>
                <a:ext cx="1687320" cy="1037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Group 34"/>
            <p:cNvGrpSpPr/>
            <p:nvPr/>
          </p:nvGrpSpPr>
          <p:grpSpPr>
            <a:xfrm>
              <a:off x="4684680" y="1036800"/>
              <a:ext cx="4458240" cy="513000"/>
              <a:chOff x="4684680" y="1036800"/>
              <a:chExt cx="4458240" cy="513000"/>
            </a:xfrm>
          </p:grpSpPr>
          <p:sp>
            <p:nvSpPr>
              <p:cNvPr id="1071" name="Rectangle 35"/>
              <p:cNvSpPr/>
              <p:nvPr/>
            </p:nvSpPr>
            <p:spPr>
              <a:xfrm>
                <a:off x="4745160" y="1036800"/>
                <a:ext cx="4336560" cy="51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Novos Empregos Formais – Governo Lul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Rectangle 36"/>
              <p:cNvSpPr/>
              <p:nvPr/>
            </p:nvSpPr>
            <p:spPr>
              <a:xfrm>
                <a:off x="4684680" y="1036800"/>
                <a:ext cx="4458240" cy="513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Group 37"/>
            <p:cNvGrpSpPr/>
            <p:nvPr/>
          </p:nvGrpSpPr>
          <p:grpSpPr>
            <a:xfrm>
              <a:off x="4684680" y="1549800"/>
              <a:ext cx="2460240" cy="524520"/>
              <a:chOff x="4684680" y="1549800"/>
              <a:chExt cx="2460240" cy="524520"/>
            </a:xfrm>
          </p:grpSpPr>
          <p:sp>
            <p:nvSpPr>
              <p:cNvPr id="1074" name="Rectangle 38"/>
              <p:cNvSpPr/>
              <p:nvPr/>
            </p:nvSpPr>
            <p:spPr>
              <a:xfrm>
                <a:off x="4745160" y="1549800"/>
                <a:ext cx="23392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Quantidad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Rectangle 39"/>
              <p:cNvSpPr/>
              <p:nvPr/>
            </p:nvSpPr>
            <p:spPr>
              <a:xfrm>
                <a:off x="4684680" y="1549800"/>
                <a:ext cx="24602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Group 40"/>
            <p:cNvGrpSpPr/>
            <p:nvPr/>
          </p:nvGrpSpPr>
          <p:grpSpPr>
            <a:xfrm>
              <a:off x="7145640" y="1549800"/>
              <a:ext cx="1997640" cy="524520"/>
              <a:chOff x="7145640" y="1549800"/>
              <a:chExt cx="1997640" cy="524520"/>
            </a:xfrm>
          </p:grpSpPr>
          <p:sp>
            <p:nvSpPr>
              <p:cNvPr id="1077" name="Rectangle 41"/>
              <p:cNvSpPr/>
              <p:nvPr/>
            </p:nvSpPr>
            <p:spPr>
              <a:xfrm>
                <a:off x="7206120" y="1549800"/>
                <a:ext cx="187596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riação (%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Rectangle 42"/>
              <p:cNvSpPr/>
              <p:nvPr/>
            </p:nvSpPr>
            <p:spPr>
              <a:xfrm>
                <a:off x="7145640" y="1549800"/>
                <a:ext cx="19976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43"/>
            <p:cNvGrpSpPr/>
            <p:nvPr/>
          </p:nvGrpSpPr>
          <p:grpSpPr>
            <a:xfrm>
              <a:off x="0" y="2074680"/>
              <a:ext cx="2996640" cy="524520"/>
              <a:chOff x="0" y="2074680"/>
              <a:chExt cx="2996640" cy="524520"/>
            </a:xfrm>
          </p:grpSpPr>
          <p:sp>
            <p:nvSpPr>
              <p:cNvPr id="1080" name="Rectangle 44"/>
              <p:cNvSpPr/>
              <p:nvPr/>
            </p:nvSpPr>
            <p:spPr>
              <a:xfrm>
                <a:off x="60480" y="2074680"/>
                <a:ext cx="28756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ão Pa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Rectangle 45"/>
              <p:cNvSpPr/>
              <p:nvPr/>
            </p:nvSpPr>
            <p:spPr>
              <a:xfrm>
                <a:off x="0" y="2074680"/>
                <a:ext cx="29966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Group 46"/>
            <p:cNvGrpSpPr/>
            <p:nvPr/>
          </p:nvGrpSpPr>
          <p:grpSpPr>
            <a:xfrm>
              <a:off x="2997000" y="2074680"/>
              <a:ext cx="1687320" cy="524520"/>
              <a:chOff x="2997000" y="2074680"/>
              <a:chExt cx="1687320" cy="524520"/>
            </a:xfrm>
          </p:grpSpPr>
          <p:sp>
            <p:nvSpPr>
              <p:cNvPr id="1083" name="Rectangle 47"/>
              <p:cNvSpPr/>
              <p:nvPr/>
            </p:nvSpPr>
            <p:spPr>
              <a:xfrm>
                <a:off x="3057840" y="2074680"/>
                <a:ext cx="15652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10.991.76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48"/>
              <p:cNvSpPr/>
              <p:nvPr/>
            </p:nvSpPr>
            <p:spPr>
              <a:xfrm>
                <a:off x="2997000" y="2074680"/>
                <a:ext cx="168732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Group 49"/>
            <p:cNvGrpSpPr/>
            <p:nvPr/>
          </p:nvGrpSpPr>
          <p:grpSpPr>
            <a:xfrm>
              <a:off x="4684680" y="2074680"/>
              <a:ext cx="2460240" cy="524520"/>
              <a:chOff x="4684680" y="2074680"/>
              <a:chExt cx="2460240" cy="524520"/>
            </a:xfrm>
          </p:grpSpPr>
          <p:sp>
            <p:nvSpPr>
              <p:cNvPr id="1086" name="Rectangle 50"/>
              <p:cNvSpPr/>
              <p:nvPr/>
            </p:nvSpPr>
            <p:spPr>
              <a:xfrm>
                <a:off x="4745160" y="2074680"/>
                <a:ext cx="23392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2.383.72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Rectangle 51"/>
              <p:cNvSpPr/>
              <p:nvPr/>
            </p:nvSpPr>
            <p:spPr>
              <a:xfrm>
                <a:off x="4684680" y="2074680"/>
                <a:ext cx="24602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Group 52"/>
            <p:cNvGrpSpPr/>
            <p:nvPr/>
          </p:nvGrpSpPr>
          <p:grpSpPr>
            <a:xfrm>
              <a:off x="7145640" y="2074680"/>
              <a:ext cx="1997640" cy="524520"/>
              <a:chOff x="7145640" y="2074680"/>
              <a:chExt cx="1997640" cy="524520"/>
            </a:xfrm>
          </p:grpSpPr>
          <p:sp>
            <p:nvSpPr>
              <p:cNvPr id="1089" name="Rectangle 53"/>
              <p:cNvSpPr/>
              <p:nvPr/>
            </p:nvSpPr>
            <p:spPr>
              <a:xfrm>
                <a:off x="7206120" y="2074680"/>
                <a:ext cx="187596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2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54"/>
              <p:cNvSpPr/>
              <p:nvPr/>
            </p:nvSpPr>
            <p:spPr>
              <a:xfrm>
                <a:off x="7145640" y="2074680"/>
                <a:ext cx="19976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Group 55"/>
            <p:cNvGrpSpPr/>
            <p:nvPr/>
          </p:nvGrpSpPr>
          <p:grpSpPr>
            <a:xfrm>
              <a:off x="0" y="2599200"/>
              <a:ext cx="2996640" cy="524520"/>
              <a:chOff x="0" y="2599200"/>
              <a:chExt cx="2996640" cy="524520"/>
            </a:xfrm>
          </p:grpSpPr>
          <p:sp>
            <p:nvSpPr>
              <p:cNvPr id="1092" name="Rectangle 56"/>
              <p:cNvSpPr/>
              <p:nvPr/>
            </p:nvSpPr>
            <p:spPr>
              <a:xfrm>
                <a:off x="60480" y="2599200"/>
                <a:ext cx="28756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ras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57"/>
              <p:cNvSpPr/>
              <p:nvPr/>
            </p:nvSpPr>
            <p:spPr>
              <a:xfrm>
                <a:off x="0" y="2599200"/>
                <a:ext cx="29966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Group 58"/>
            <p:cNvGrpSpPr/>
            <p:nvPr/>
          </p:nvGrpSpPr>
          <p:grpSpPr>
            <a:xfrm>
              <a:off x="2997000" y="2599200"/>
              <a:ext cx="1684800" cy="524520"/>
              <a:chOff x="2997000" y="2599200"/>
              <a:chExt cx="1684800" cy="524520"/>
            </a:xfrm>
          </p:grpSpPr>
          <p:sp>
            <p:nvSpPr>
              <p:cNvPr id="1095" name="Rectangle 59"/>
              <p:cNvSpPr/>
              <p:nvPr/>
            </p:nvSpPr>
            <p:spPr>
              <a:xfrm>
                <a:off x="3057840" y="2599200"/>
                <a:ext cx="156312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36.915.56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60"/>
              <p:cNvSpPr/>
              <p:nvPr/>
            </p:nvSpPr>
            <p:spPr>
              <a:xfrm>
                <a:off x="2997000" y="2599200"/>
                <a:ext cx="168480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Group 61"/>
            <p:cNvGrpSpPr/>
            <p:nvPr/>
          </p:nvGrpSpPr>
          <p:grpSpPr>
            <a:xfrm>
              <a:off x="4682160" y="2599200"/>
              <a:ext cx="2462760" cy="524520"/>
              <a:chOff x="4682160" y="2599200"/>
              <a:chExt cx="2462760" cy="524520"/>
            </a:xfrm>
          </p:grpSpPr>
          <p:sp>
            <p:nvSpPr>
              <p:cNvPr id="1098" name="Rectangle 62"/>
              <p:cNvSpPr/>
              <p:nvPr/>
            </p:nvSpPr>
            <p:spPr>
              <a:xfrm>
                <a:off x="4743000" y="2599200"/>
                <a:ext cx="234108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8.231.64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63"/>
              <p:cNvSpPr/>
              <p:nvPr/>
            </p:nvSpPr>
            <p:spPr>
              <a:xfrm>
                <a:off x="4682160" y="2599200"/>
                <a:ext cx="246276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Group 64"/>
            <p:cNvGrpSpPr/>
            <p:nvPr/>
          </p:nvGrpSpPr>
          <p:grpSpPr>
            <a:xfrm>
              <a:off x="7145640" y="2599200"/>
              <a:ext cx="1997640" cy="524520"/>
              <a:chOff x="7145640" y="2599200"/>
              <a:chExt cx="1997640" cy="524520"/>
            </a:xfrm>
          </p:grpSpPr>
          <p:sp>
            <p:nvSpPr>
              <p:cNvPr id="1101" name="Rectangle 65"/>
              <p:cNvSpPr/>
              <p:nvPr/>
            </p:nvSpPr>
            <p:spPr>
              <a:xfrm>
                <a:off x="7206120" y="2599200"/>
                <a:ext cx="1875960" cy="5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2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66"/>
              <p:cNvSpPr/>
              <p:nvPr/>
            </p:nvSpPr>
            <p:spPr>
              <a:xfrm>
                <a:off x="7145640" y="2599200"/>
                <a:ext cx="1997640" cy="524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cover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2"/>
          <p:cNvSpPr/>
          <p:nvPr/>
        </p:nvSpPr>
        <p:spPr>
          <a:xfrm>
            <a:off x="3478320" y="228600"/>
            <a:ext cx="192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212"/>
          <p:cNvSpPr/>
          <p:nvPr/>
        </p:nvSpPr>
        <p:spPr>
          <a:xfrm>
            <a:off x="228600" y="609480"/>
            <a:ext cx="86868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Expansão da Rede Federal de Ensin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Expansão Universitári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1 nova universidade: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Universidade Federal do ABC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(Santo André), 1.000 vagas ofertadas em 2007, início das aulas em setembro/200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4 novos campi: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Sorocab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(vinculado à UFSCAR), 180 vagas em 2007, aulas iniciadas em março/2006;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Diadem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(vinculado à UNIFESP), 200 vagas em 2007, aulas iniciadas em março/2007;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Guarulho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(vinculado à UNIFESP), 400 vagas em 2007, aulas iniciadas em março/2007;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Baixada Santista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 (vinculado à UNIFESP), em Santos, 190 vagas em 2007, aulas iniciadas em março/200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ta para o Brasil: 30 mil vagas anuai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xpansão do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 Unicode MS"/>
              </a:rPr>
              <a:t>Ensino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Técnic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Fase II: 12 cidades-pólo: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raraquara, Registro, Campinas, Votuporanga, Itapetininga, Suzano, Birigui, Presidente Epitácio, Catanduva, Piracicaba, Avaré e Barretos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etas para o Brasil: Fase I - 74 mil novas vagas a partir de 2009 em cursos técnicos de nível médio e superiores de tecnologia, com investimento de R$ 122,7 milhões. Fase II – Mais 200 mil matrículas em 2010, com investimento de R$ 750,0 milhõ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213"/>
          <p:cNvSpPr/>
          <p:nvPr/>
        </p:nvSpPr>
        <p:spPr>
          <a:xfrm>
            <a:off x="0" y="64008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Ministério da Educação (17.08.07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3"/>
          <p:cNvSpPr/>
          <p:nvPr/>
        </p:nvSpPr>
        <p:spPr>
          <a:xfrm>
            <a:off x="3254760" y="228600"/>
            <a:ext cx="263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RETRA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281160" y="533520"/>
            <a:ext cx="56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ções do governo beneficiam todas as camadas so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228600" y="1279440"/>
            <a:ext cx="8686800" cy="54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Qualidade de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ou o acesso a bens de consumo duráveis entre 2005 e 2006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micílios com geladeira (de 88,0% para 89,2%), com máquina de lavar roupa (de 35,8% para 37,5%) e com televisão (de 91,4% para 93,0%)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aram os domicílios atendidos por energia elétrica (de 97,2% em 2005 para 97,7% em 2006) e por telefonia (de 71,6% para 74,5%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no acesso a água, saneamento básico e coleta de lixo de 2 a 3 pontos percentuais nos últimos 4 a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35 mil jovens n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Jov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(nov/2007) e 310 mil alunos n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Uni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(dez/2007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5 novas universidades: 10 implantadas, 2 consolidadas e 3 em tramitação (7 mil vagas semestrais) e 86 extensões federais: 61 criadas e 25 consolidadas (29 mil vagas semestra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214 novas escolas técnicas, 47 funcionando (14 mil alunos em 200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97,6% das crianças de 7 a 14 anos estavam na escola em 200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2"/>
          <p:cNvSpPr/>
          <p:nvPr/>
        </p:nvSpPr>
        <p:spPr>
          <a:xfrm>
            <a:off x="3478320" y="228600"/>
            <a:ext cx="192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300"/>
          <p:cNvSpPr/>
          <p:nvPr/>
        </p:nvSpPr>
        <p:spPr>
          <a:xfrm>
            <a:off x="76320" y="5335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Jovem (2005, 2006 e 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8" name="Group 330"/>
          <p:cNvGrpSpPr/>
          <p:nvPr/>
        </p:nvGrpSpPr>
        <p:grpSpPr>
          <a:xfrm>
            <a:off x="-1440" y="838080"/>
            <a:ext cx="9145080" cy="1928880"/>
            <a:chOff x="-1440" y="838080"/>
            <a:chExt cx="9145080" cy="1928880"/>
          </a:xfrm>
        </p:grpSpPr>
        <p:grpSp>
          <p:nvGrpSpPr>
            <p:cNvPr id="1109" name="Group 328"/>
            <p:cNvGrpSpPr/>
            <p:nvPr/>
          </p:nvGrpSpPr>
          <p:grpSpPr>
            <a:xfrm>
              <a:off x="4680" y="842760"/>
              <a:ext cx="9131040" cy="1919160"/>
              <a:chOff x="4680" y="842760"/>
              <a:chExt cx="9131040" cy="1919160"/>
            </a:xfrm>
          </p:grpSpPr>
          <p:grpSp>
            <p:nvGrpSpPr>
              <p:cNvPr id="1110" name="Group 311"/>
              <p:cNvGrpSpPr/>
              <p:nvPr/>
            </p:nvGrpSpPr>
            <p:grpSpPr>
              <a:xfrm>
                <a:off x="4680" y="842760"/>
                <a:ext cx="3042360" cy="639720"/>
                <a:chOff x="4680" y="842760"/>
                <a:chExt cx="3042360" cy="639720"/>
              </a:xfrm>
            </p:grpSpPr>
            <p:sp>
              <p:nvSpPr>
                <p:cNvPr id="1111" name="Rectangle 301"/>
                <p:cNvSpPr/>
                <p:nvPr/>
              </p:nvSpPr>
              <p:spPr>
                <a:xfrm>
                  <a:off x="65880" y="842760"/>
                  <a:ext cx="2919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Unidade da Federaçã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310"/>
                <p:cNvSpPr/>
                <p:nvPr/>
              </p:nvSpPr>
              <p:spPr>
                <a:xfrm>
                  <a:off x="4680" y="842760"/>
                  <a:ext cx="304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Group 313"/>
              <p:cNvGrpSpPr/>
              <p:nvPr/>
            </p:nvGrpSpPr>
            <p:grpSpPr>
              <a:xfrm>
                <a:off x="3047400" y="842760"/>
                <a:ext cx="3043080" cy="639720"/>
                <a:chOff x="3047400" y="842760"/>
                <a:chExt cx="3043080" cy="639720"/>
              </a:xfrm>
            </p:grpSpPr>
            <p:sp>
              <p:nvSpPr>
                <p:cNvPr id="1114" name="Rectangle 302"/>
                <p:cNvSpPr/>
                <p:nvPr/>
              </p:nvSpPr>
              <p:spPr>
                <a:xfrm>
                  <a:off x="3108960" y="842760"/>
                  <a:ext cx="2919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lunos Inscrit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Rectangle 312"/>
                <p:cNvSpPr/>
                <p:nvPr/>
              </p:nvSpPr>
              <p:spPr>
                <a:xfrm>
                  <a:off x="3047400" y="842760"/>
                  <a:ext cx="3043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Group 315"/>
              <p:cNvGrpSpPr/>
              <p:nvPr/>
            </p:nvGrpSpPr>
            <p:grpSpPr>
              <a:xfrm>
                <a:off x="6090840" y="842760"/>
                <a:ext cx="3044880" cy="639720"/>
                <a:chOff x="6090840" y="842760"/>
                <a:chExt cx="3044880" cy="639720"/>
              </a:xfrm>
            </p:grpSpPr>
            <p:sp>
              <p:nvSpPr>
                <p:cNvPr id="1117" name="Rectangle 303"/>
                <p:cNvSpPr/>
                <p:nvPr/>
              </p:nvSpPr>
              <p:spPr>
                <a:xfrm>
                  <a:off x="6152040" y="842760"/>
                  <a:ext cx="29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Alunos Matriculado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Rectangle 314"/>
                <p:cNvSpPr/>
                <p:nvPr/>
              </p:nvSpPr>
              <p:spPr>
                <a:xfrm>
                  <a:off x="6090840" y="842760"/>
                  <a:ext cx="304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Group 317"/>
              <p:cNvGrpSpPr/>
              <p:nvPr/>
            </p:nvGrpSpPr>
            <p:grpSpPr>
              <a:xfrm>
                <a:off x="4680" y="1482480"/>
                <a:ext cx="3042360" cy="639720"/>
                <a:chOff x="4680" y="1482480"/>
                <a:chExt cx="3042360" cy="639720"/>
              </a:xfrm>
            </p:grpSpPr>
            <p:sp>
              <p:nvSpPr>
                <p:cNvPr id="1120" name="Rectangle 304"/>
                <p:cNvSpPr/>
                <p:nvPr/>
              </p:nvSpPr>
              <p:spPr>
                <a:xfrm>
                  <a:off x="65880" y="1482480"/>
                  <a:ext cx="2919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São Pau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Rectangle 316"/>
                <p:cNvSpPr/>
                <p:nvPr/>
              </p:nvSpPr>
              <p:spPr>
                <a:xfrm>
                  <a:off x="4680" y="1482480"/>
                  <a:ext cx="304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Group 319"/>
              <p:cNvGrpSpPr/>
              <p:nvPr/>
            </p:nvGrpSpPr>
            <p:grpSpPr>
              <a:xfrm>
                <a:off x="3047400" y="1482480"/>
                <a:ext cx="3043080" cy="639720"/>
                <a:chOff x="3047400" y="1482480"/>
                <a:chExt cx="3043080" cy="639720"/>
              </a:xfrm>
            </p:grpSpPr>
            <p:sp>
              <p:nvSpPr>
                <p:cNvPr id="1123" name="Rectangle 305"/>
                <p:cNvSpPr/>
                <p:nvPr/>
              </p:nvSpPr>
              <p:spPr>
                <a:xfrm>
                  <a:off x="3108960" y="1482480"/>
                  <a:ext cx="2919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7.74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Rectangle 318"/>
                <p:cNvSpPr/>
                <p:nvPr/>
              </p:nvSpPr>
              <p:spPr>
                <a:xfrm>
                  <a:off x="3047400" y="1482480"/>
                  <a:ext cx="3043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Group 321"/>
              <p:cNvGrpSpPr/>
              <p:nvPr/>
            </p:nvGrpSpPr>
            <p:grpSpPr>
              <a:xfrm>
                <a:off x="6090840" y="1482480"/>
                <a:ext cx="3044880" cy="639720"/>
                <a:chOff x="6090840" y="1482480"/>
                <a:chExt cx="3044880" cy="639720"/>
              </a:xfrm>
            </p:grpSpPr>
            <p:sp>
              <p:nvSpPr>
                <p:cNvPr id="1126" name="Rectangle 306"/>
                <p:cNvSpPr/>
                <p:nvPr/>
              </p:nvSpPr>
              <p:spPr>
                <a:xfrm>
                  <a:off x="6152040" y="1482480"/>
                  <a:ext cx="29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6.4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320"/>
                <p:cNvSpPr/>
                <p:nvPr/>
              </p:nvSpPr>
              <p:spPr>
                <a:xfrm>
                  <a:off x="6090840" y="1482480"/>
                  <a:ext cx="304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Group 323"/>
              <p:cNvGrpSpPr/>
              <p:nvPr/>
            </p:nvGrpSpPr>
            <p:grpSpPr>
              <a:xfrm>
                <a:off x="4680" y="2122200"/>
                <a:ext cx="3042360" cy="639720"/>
                <a:chOff x="4680" y="2122200"/>
                <a:chExt cx="3042360" cy="639720"/>
              </a:xfrm>
            </p:grpSpPr>
            <p:sp>
              <p:nvSpPr>
                <p:cNvPr id="1129" name="Rectangle 307"/>
                <p:cNvSpPr/>
                <p:nvPr/>
              </p:nvSpPr>
              <p:spPr>
                <a:xfrm>
                  <a:off x="65880" y="2122200"/>
                  <a:ext cx="29199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ras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Rectangle 322"/>
                <p:cNvSpPr/>
                <p:nvPr/>
              </p:nvSpPr>
              <p:spPr>
                <a:xfrm>
                  <a:off x="4680" y="2122200"/>
                  <a:ext cx="3042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Group 325"/>
              <p:cNvGrpSpPr/>
              <p:nvPr/>
            </p:nvGrpSpPr>
            <p:grpSpPr>
              <a:xfrm>
                <a:off x="3047400" y="2122200"/>
                <a:ext cx="3043080" cy="639720"/>
                <a:chOff x="3047400" y="2122200"/>
                <a:chExt cx="3043080" cy="639720"/>
              </a:xfrm>
            </p:grpSpPr>
            <p:sp>
              <p:nvSpPr>
                <p:cNvPr id="1132" name="Rectangle 308"/>
                <p:cNvSpPr/>
                <p:nvPr/>
              </p:nvSpPr>
              <p:spPr>
                <a:xfrm>
                  <a:off x="3108960" y="2122200"/>
                  <a:ext cx="2919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02.19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Rectangle 324"/>
                <p:cNvSpPr/>
                <p:nvPr/>
              </p:nvSpPr>
              <p:spPr>
                <a:xfrm>
                  <a:off x="3047400" y="2122200"/>
                  <a:ext cx="30430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Group 327"/>
              <p:cNvGrpSpPr/>
              <p:nvPr/>
            </p:nvGrpSpPr>
            <p:grpSpPr>
              <a:xfrm>
                <a:off x="6090840" y="2122200"/>
                <a:ext cx="3044880" cy="639720"/>
                <a:chOff x="6090840" y="2122200"/>
                <a:chExt cx="3044880" cy="639720"/>
              </a:xfrm>
            </p:grpSpPr>
            <p:sp>
              <p:nvSpPr>
                <p:cNvPr id="1135" name="Rectangle 309"/>
                <p:cNvSpPr/>
                <p:nvPr/>
              </p:nvSpPr>
              <p:spPr>
                <a:xfrm>
                  <a:off x="6152040" y="2122200"/>
                  <a:ext cx="29217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34.57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Rectangle 326"/>
                <p:cNvSpPr/>
                <p:nvPr/>
              </p:nvSpPr>
              <p:spPr>
                <a:xfrm>
                  <a:off x="6090840" y="2122200"/>
                  <a:ext cx="304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37" name="Rectangle 329"/>
            <p:cNvSpPr/>
            <p:nvPr/>
          </p:nvSpPr>
          <p:spPr>
            <a:xfrm>
              <a:off x="-1440" y="838080"/>
              <a:ext cx="9145080" cy="1928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8" name="Rectangle 331"/>
          <p:cNvSpPr/>
          <p:nvPr/>
        </p:nvSpPr>
        <p:spPr>
          <a:xfrm>
            <a:off x="3240" y="2819520"/>
            <a:ext cx="57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nte: Secretaria-Geral da Presidência da República (19.02.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332"/>
          <p:cNvSpPr/>
          <p:nvPr/>
        </p:nvSpPr>
        <p:spPr>
          <a:xfrm>
            <a:off x="76320" y="3378240"/>
            <a:ext cx="48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a Luz para Todos (janeiro/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0" name="Group 380"/>
          <p:cNvGrpSpPr/>
          <p:nvPr/>
        </p:nvGrpSpPr>
        <p:grpSpPr>
          <a:xfrm>
            <a:off x="-1440" y="3726000"/>
            <a:ext cx="9145080" cy="2293920"/>
            <a:chOff x="-1440" y="3726000"/>
            <a:chExt cx="9145080" cy="2293920"/>
          </a:xfrm>
        </p:grpSpPr>
        <p:grpSp>
          <p:nvGrpSpPr>
            <p:cNvPr id="1141" name="Group 378"/>
            <p:cNvGrpSpPr/>
            <p:nvPr/>
          </p:nvGrpSpPr>
          <p:grpSpPr>
            <a:xfrm>
              <a:off x="4680" y="3730680"/>
              <a:ext cx="9131400" cy="2284560"/>
              <a:chOff x="4680" y="3730680"/>
              <a:chExt cx="9131400" cy="2284560"/>
            </a:xfrm>
          </p:grpSpPr>
          <p:grpSp>
            <p:nvGrpSpPr>
              <p:cNvPr id="1142" name="Group 349"/>
              <p:cNvGrpSpPr/>
              <p:nvPr/>
            </p:nvGrpSpPr>
            <p:grpSpPr>
              <a:xfrm>
                <a:off x="4680" y="3730680"/>
                <a:ext cx="1738440" cy="1004760"/>
                <a:chOff x="4680" y="3730680"/>
                <a:chExt cx="1738440" cy="1004760"/>
              </a:xfrm>
            </p:grpSpPr>
            <p:sp>
              <p:nvSpPr>
                <p:cNvPr id="1143" name="Rectangle 333"/>
                <p:cNvSpPr/>
                <p:nvPr/>
              </p:nvSpPr>
              <p:spPr>
                <a:xfrm>
                  <a:off x="63720" y="3730680"/>
                  <a:ext cx="162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700" spc="-1" strike="noStrike">
                      <a:solidFill>
                        <a:srgbClr val="000000"/>
                      </a:solidFill>
                      <a:latin typeface="Arial"/>
                    </a:rPr>
                    <a:t>Unidade da Federação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Rectangle 348"/>
                <p:cNvSpPr/>
                <p:nvPr/>
              </p:nvSpPr>
              <p:spPr>
                <a:xfrm>
                  <a:off x="4680" y="3730680"/>
                  <a:ext cx="17384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Group 351"/>
              <p:cNvGrpSpPr/>
              <p:nvPr/>
            </p:nvGrpSpPr>
            <p:grpSpPr>
              <a:xfrm>
                <a:off x="1743480" y="3730680"/>
                <a:ext cx="1451520" cy="1004760"/>
                <a:chOff x="1743480" y="3730680"/>
                <a:chExt cx="1451520" cy="1004760"/>
              </a:xfrm>
            </p:grpSpPr>
            <p:sp>
              <p:nvSpPr>
                <p:cNvPr id="1146" name="Rectangle 334"/>
                <p:cNvSpPr/>
                <p:nvPr/>
              </p:nvSpPr>
              <p:spPr>
                <a:xfrm>
                  <a:off x="1803240" y="3730680"/>
                  <a:ext cx="133236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7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Ligações Realizada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350"/>
                <p:cNvSpPr/>
                <p:nvPr/>
              </p:nvSpPr>
              <p:spPr>
                <a:xfrm>
                  <a:off x="1743480" y="3730680"/>
                  <a:ext cx="14515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Group 353"/>
              <p:cNvGrpSpPr/>
              <p:nvPr/>
            </p:nvGrpSpPr>
            <p:grpSpPr>
              <a:xfrm>
                <a:off x="3195360" y="3730680"/>
                <a:ext cx="1434600" cy="1004760"/>
                <a:chOff x="3195360" y="3730680"/>
                <a:chExt cx="1434600" cy="1004760"/>
              </a:xfrm>
            </p:grpSpPr>
            <p:sp>
              <p:nvSpPr>
                <p:cNvPr id="1149" name="Rectangle 335"/>
                <p:cNvSpPr/>
                <p:nvPr/>
              </p:nvSpPr>
              <p:spPr>
                <a:xfrm>
                  <a:off x="3254400" y="3730680"/>
                  <a:ext cx="131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7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Estimativa Pessoas Atendidas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Rectangle 352"/>
                <p:cNvSpPr/>
                <p:nvPr/>
              </p:nvSpPr>
              <p:spPr>
                <a:xfrm>
                  <a:off x="3195360" y="3730680"/>
                  <a:ext cx="14346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Group 355"/>
              <p:cNvGrpSpPr/>
              <p:nvPr/>
            </p:nvGrpSpPr>
            <p:grpSpPr>
              <a:xfrm>
                <a:off x="4630320" y="3730680"/>
                <a:ext cx="2261160" cy="1004760"/>
                <a:chOff x="4630320" y="3730680"/>
                <a:chExt cx="2261160" cy="1004760"/>
              </a:xfrm>
            </p:grpSpPr>
            <p:sp>
              <p:nvSpPr>
                <p:cNvPr id="1152" name="Rectangle 336"/>
                <p:cNvSpPr/>
                <p:nvPr/>
              </p:nvSpPr>
              <p:spPr>
                <a:xfrm>
                  <a:off x="4689360" y="3730680"/>
                  <a:ext cx="2142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7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ecursos Federais Contratados (R$ milhões)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Rectangle 354"/>
                <p:cNvSpPr/>
                <p:nvPr/>
              </p:nvSpPr>
              <p:spPr>
                <a:xfrm>
                  <a:off x="4630320" y="3730680"/>
                  <a:ext cx="2261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Group 357"/>
              <p:cNvGrpSpPr/>
              <p:nvPr/>
            </p:nvGrpSpPr>
            <p:grpSpPr>
              <a:xfrm>
                <a:off x="6892200" y="3730680"/>
                <a:ext cx="2243880" cy="1004760"/>
                <a:chOff x="6892200" y="3730680"/>
                <a:chExt cx="2243880" cy="1004760"/>
              </a:xfrm>
            </p:grpSpPr>
            <p:sp>
              <p:nvSpPr>
                <p:cNvPr id="1155" name="Rectangle 337"/>
                <p:cNvSpPr/>
                <p:nvPr/>
              </p:nvSpPr>
              <p:spPr>
                <a:xfrm>
                  <a:off x="6951240" y="3730680"/>
                  <a:ext cx="2125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7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Recursos Estaduais Contratados (R$ milhões)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Rectangle 356"/>
                <p:cNvSpPr/>
                <p:nvPr/>
              </p:nvSpPr>
              <p:spPr>
                <a:xfrm>
                  <a:off x="6892200" y="3730680"/>
                  <a:ext cx="22438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7" name="Group 359"/>
              <p:cNvGrpSpPr/>
              <p:nvPr/>
            </p:nvGrpSpPr>
            <p:grpSpPr>
              <a:xfrm>
                <a:off x="4680" y="4735440"/>
                <a:ext cx="1738440" cy="640080"/>
                <a:chOff x="4680" y="4735440"/>
                <a:chExt cx="1738440" cy="640080"/>
              </a:xfrm>
            </p:grpSpPr>
            <p:sp>
              <p:nvSpPr>
                <p:cNvPr id="1158" name="Rectangle 338"/>
                <p:cNvSpPr/>
                <p:nvPr/>
              </p:nvSpPr>
              <p:spPr>
                <a:xfrm>
                  <a:off x="63720" y="4735440"/>
                  <a:ext cx="162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</a:rPr>
                    <a:t>São Paul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449280"/>
                      <a:tab algn="ctr" pos="2806560"/>
                      <a:tab algn="r" pos="561168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Rectangle 358"/>
                <p:cNvSpPr/>
                <p:nvPr/>
              </p:nvSpPr>
              <p:spPr>
                <a:xfrm>
                  <a:off x="4680" y="4735440"/>
                  <a:ext cx="1738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0" name="Group 361"/>
              <p:cNvGrpSpPr/>
              <p:nvPr/>
            </p:nvGrpSpPr>
            <p:grpSpPr>
              <a:xfrm>
                <a:off x="1743480" y="4735440"/>
                <a:ext cx="1451520" cy="640080"/>
                <a:chOff x="1743480" y="4735440"/>
                <a:chExt cx="1451520" cy="640080"/>
              </a:xfrm>
            </p:grpSpPr>
            <p:sp>
              <p:nvSpPr>
                <p:cNvPr id="1161" name="Rectangle 339"/>
                <p:cNvSpPr/>
                <p:nvPr/>
              </p:nvSpPr>
              <p:spPr>
                <a:xfrm>
                  <a:off x="1803240" y="4735440"/>
                  <a:ext cx="133236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55.42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360"/>
                <p:cNvSpPr/>
                <p:nvPr/>
              </p:nvSpPr>
              <p:spPr>
                <a:xfrm>
                  <a:off x="1743480" y="4735440"/>
                  <a:ext cx="14515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3" name="Group 363"/>
              <p:cNvGrpSpPr/>
              <p:nvPr/>
            </p:nvGrpSpPr>
            <p:grpSpPr>
              <a:xfrm>
                <a:off x="3195360" y="4735440"/>
                <a:ext cx="1434600" cy="640080"/>
                <a:chOff x="3195360" y="4735440"/>
                <a:chExt cx="1434600" cy="640080"/>
              </a:xfrm>
            </p:grpSpPr>
            <p:sp>
              <p:nvSpPr>
                <p:cNvPr id="1164" name="Rectangle 340"/>
                <p:cNvSpPr/>
                <p:nvPr/>
              </p:nvSpPr>
              <p:spPr>
                <a:xfrm>
                  <a:off x="3254400" y="4735440"/>
                  <a:ext cx="13154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77.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Rectangle 362"/>
                <p:cNvSpPr/>
                <p:nvPr/>
              </p:nvSpPr>
              <p:spPr>
                <a:xfrm>
                  <a:off x="3195360" y="4735440"/>
                  <a:ext cx="14346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Group 365"/>
              <p:cNvGrpSpPr/>
              <p:nvPr/>
            </p:nvGrpSpPr>
            <p:grpSpPr>
              <a:xfrm>
                <a:off x="4630320" y="4735440"/>
                <a:ext cx="2261160" cy="640080"/>
                <a:chOff x="4630320" y="4735440"/>
                <a:chExt cx="2261160" cy="640080"/>
              </a:xfrm>
            </p:grpSpPr>
            <p:sp>
              <p:nvSpPr>
                <p:cNvPr id="1167" name="Rectangle 341"/>
                <p:cNvSpPr/>
                <p:nvPr/>
              </p:nvSpPr>
              <p:spPr>
                <a:xfrm>
                  <a:off x="4689360" y="4735440"/>
                  <a:ext cx="2142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92,5*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Rectangle 364"/>
                <p:cNvSpPr/>
                <p:nvPr/>
              </p:nvSpPr>
              <p:spPr>
                <a:xfrm>
                  <a:off x="4630320" y="4735440"/>
                  <a:ext cx="2261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Group 367"/>
              <p:cNvGrpSpPr/>
              <p:nvPr/>
            </p:nvGrpSpPr>
            <p:grpSpPr>
              <a:xfrm>
                <a:off x="6892200" y="4735440"/>
                <a:ext cx="2243880" cy="640080"/>
                <a:chOff x="6892200" y="4735440"/>
                <a:chExt cx="2243880" cy="640080"/>
              </a:xfrm>
            </p:grpSpPr>
            <p:sp>
              <p:nvSpPr>
                <p:cNvPr id="1170" name="Rectangle 342"/>
                <p:cNvSpPr/>
                <p:nvPr/>
              </p:nvSpPr>
              <p:spPr>
                <a:xfrm>
                  <a:off x="6951240" y="4735440"/>
                  <a:ext cx="21254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26,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Rectangle 366"/>
                <p:cNvSpPr/>
                <p:nvPr/>
              </p:nvSpPr>
              <p:spPr>
                <a:xfrm>
                  <a:off x="6892200" y="4735440"/>
                  <a:ext cx="2243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Group 369"/>
              <p:cNvGrpSpPr/>
              <p:nvPr/>
            </p:nvGrpSpPr>
            <p:grpSpPr>
              <a:xfrm>
                <a:off x="4680" y="5375520"/>
                <a:ext cx="1738440" cy="639720"/>
                <a:chOff x="4680" y="5375520"/>
                <a:chExt cx="1738440" cy="639720"/>
              </a:xfrm>
            </p:grpSpPr>
            <p:sp>
              <p:nvSpPr>
                <p:cNvPr id="1173" name="Rectangle 343"/>
                <p:cNvSpPr/>
                <p:nvPr/>
              </p:nvSpPr>
              <p:spPr>
                <a:xfrm>
                  <a:off x="63720" y="5375520"/>
                  <a:ext cx="162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Brasi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Rectangle 368"/>
                <p:cNvSpPr/>
                <p:nvPr/>
              </p:nvSpPr>
              <p:spPr>
                <a:xfrm>
                  <a:off x="4680" y="5375520"/>
                  <a:ext cx="1738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Group 371"/>
              <p:cNvGrpSpPr/>
              <p:nvPr/>
            </p:nvGrpSpPr>
            <p:grpSpPr>
              <a:xfrm>
                <a:off x="1743480" y="5375520"/>
                <a:ext cx="1451520" cy="639720"/>
                <a:chOff x="1743480" y="5375520"/>
                <a:chExt cx="1451520" cy="639720"/>
              </a:xfrm>
            </p:grpSpPr>
            <p:sp>
              <p:nvSpPr>
                <p:cNvPr id="1176" name="Rectangle 344"/>
                <p:cNvSpPr/>
                <p:nvPr/>
              </p:nvSpPr>
              <p:spPr>
                <a:xfrm>
                  <a:off x="1803240" y="5375520"/>
                  <a:ext cx="13323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.456.38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370"/>
                <p:cNvSpPr/>
                <p:nvPr/>
              </p:nvSpPr>
              <p:spPr>
                <a:xfrm>
                  <a:off x="1743480" y="5375520"/>
                  <a:ext cx="14515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Group 373"/>
              <p:cNvGrpSpPr/>
              <p:nvPr/>
            </p:nvGrpSpPr>
            <p:grpSpPr>
              <a:xfrm>
                <a:off x="3195360" y="5375520"/>
                <a:ext cx="1434600" cy="639720"/>
                <a:chOff x="3195360" y="5375520"/>
                <a:chExt cx="1434600" cy="639720"/>
              </a:xfrm>
            </p:grpSpPr>
            <p:sp>
              <p:nvSpPr>
                <p:cNvPr id="1179" name="Rectangle 345"/>
                <p:cNvSpPr/>
                <p:nvPr/>
              </p:nvSpPr>
              <p:spPr>
                <a:xfrm>
                  <a:off x="3254400" y="5375520"/>
                  <a:ext cx="1315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7.281.93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Rectangle 372"/>
                <p:cNvSpPr/>
                <p:nvPr/>
              </p:nvSpPr>
              <p:spPr>
                <a:xfrm>
                  <a:off x="3195360" y="5375520"/>
                  <a:ext cx="14346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Group 375"/>
              <p:cNvGrpSpPr/>
              <p:nvPr/>
            </p:nvGrpSpPr>
            <p:grpSpPr>
              <a:xfrm>
                <a:off x="4630320" y="5375520"/>
                <a:ext cx="2261160" cy="639720"/>
                <a:chOff x="4630320" y="5375520"/>
                <a:chExt cx="2261160" cy="639720"/>
              </a:xfrm>
            </p:grpSpPr>
            <p:sp>
              <p:nvSpPr>
                <p:cNvPr id="1182" name="Rectangle 346"/>
                <p:cNvSpPr/>
                <p:nvPr/>
              </p:nvSpPr>
              <p:spPr>
                <a:xfrm>
                  <a:off x="4689360" y="5375520"/>
                  <a:ext cx="2142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7.069,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Rectangle 374"/>
                <p:cNvSpPr/>
                <p:nvPr/>
              </p:nvSpPr>
              <p:spPr>
                <a:xfrm>
                  <a:off x="4630320" y="5375520"/>
                  <a:ext cx="2261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Group 377"/>
              <p:cNvGrpSpPr/>
              <p:nvPr/>
            </p:nvGrpSpPr>
            <p:grpSpPr>
              <a:xfrm>
                <a:off x="6892200" y="5375520"/>
                <a:ext cx="2243880" cy="639720"/>
                <a:chOff x="6892200" y="5375520"/>
                <a:chExt cx="2243880" cy="639720"/>
              </a:xfrm>
            </p:grpSpPr>
            <p:sp>
              <p:nvSpPr>
                <p:cNvPr id="1185" name="Rectangle 347"/>
                <p:cNvSpPr/>
                <p:nvPr/>
              </p:nvSpPr>
              <p:spPr>
                <a:xfrm>
                  <a:off x="6951240" y="5375520"/>
                  <a:ext cx="2125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1800" spc="-1" strike="noStrike">
                      <a:solidFill>
                        <a:srgbClr val="000000"/>
                      </a:solidFill>
                      <a:latin typeface="Arial"/>
                      <a:ea typeface="Arial Unicode MS"/>
                    </a:rPr>
                    <a:t>1.315,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Rectangle 376"/>
                <p:cNvSpPr/>
                <p:nvPr/>
              </p:nvSpPr>
              <p:spPr>
                <a:xfrm>
                  <a:off x="6892200" y="5375520"/>
                  <a:ext cx="2243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7" name="Rectangle 379"/>
            <p:cNvSpPr/>
            <p:nvPr/>
          </p:nvSpPr>
          <p:spPr>
            <a:xfrm>
              <a:off x="-1440" y="3726000"/>
              <a:ext cx="9145080" cy="2293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Rectangle 381"/>
          <p:cNvSpPr/>
          <p:nvPr/>
        </p:nvSpPr>
        <p:spPr>
          <a:xfrm>
            <a:off x="3240" y="61117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* Já foram liberados R$ 120,1 milhões pelo Governo Feder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nte: Ministério das Minas e Energia (19.02.0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2"/>
          <p:cNvSpPr/>
          <p:nvPr/>
        </p:nvSpPr>
        <p:spPr>
          <a:xfrm>
            <a:off x="3478320" y="228600"/>
            <a:ext cx="192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85"/>
          <p:cNvSpPr/>
          <p:nvPr/>
        </p:nvSpPr>
        <p:spPr>
          <a:xfrm>
            <a:off x="76320" y="5335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grama Bolsa-Família (janeiro/200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47"/>
          <p:cNvSpPr/>
          <p:nvPr/>
        </p:nvSpPr>
        <p:spPr>
          <a:xfrm>
            <a:off x="0" y="3251160"/>
            <a:ext cx="91440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 Linha de pobreza de 1/2 salário mínimo per capi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**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elação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entre os benefícios do Bolsa-Família e as receitas orçamentárias das Unidades da Federação em 2006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nte: Ministério do Desenvolvimento Social (19.02.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Group 202"/>
          <p:cNvGrpSpPr/>
          <p:nvPr/>
        </p:nvGrpSpPr>
        <p:grpSpPr>
          <a:xfrm>
            <a:off x="0" y="838080"/>
            <a:ext cx="9143280" cy="2437560"/>
            <a:chOff x="0" y="838080"/>
            <a:chExt cx="9143280" cy="2437560"/>
          </a:xfrm>
        </p:grpSpPr>
        <p:grpSp>
          <p:nvGrpSpPr>
            <p:cNvPr id="1193" name="Group 167"/>
            <p:cNvGrpSpPr/>
            <p:nvPr/>
          </p:nvGrpSpPr>
          <p:grpSpPr>
            <a:xfrm>
              <a:off x="0" y="838080"/>
              <a:ext cx="1482480" cy="984240"/>
              <a:chOff x="0" y="838080"/>
              <a:chExt cx="1482480" cy="984240"/>
            </a:xfrm>
          </p:grpSpPr>
          <p:sp>
            <p:nvSpPr>
              <p:cNvPr id="1194" name="Rectangle 148"/>
              <p:cNvSpPr/>
              <p:nvPr/>
            </p:nvSpPr>
            <p:spPr>
              <a:xfrm>
                <a:off x="57960" y="838080"/>
                <a:ext cx="136656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Unidade 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Feder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Rectangle 166"/>
              <p:cNvSpPr/>
              <p:nvPr/>
            </p:nvSpPr>
            <p:spPr>
              <a:xfrm>
                <a:off x="0" y="838080"/>
                <a:ext cx="148248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Group 169"/>
            <p:cNvGrpSpPr/>
            <p:nvPr/>
          </p:nvGrpSpPr>
          <p:grpSpPr>
            <a:xfrm>
              <a:off x="1482840" y="838080"/>
              <a:ext cx="1341000" cy="984240"/>
              <a:chOff x="1482840" y="838080"/>
              <a:chExt cx="1341000" cy="984240"/>
            </a:xfrm>
          </p:grpSpPr>
          <p:sp>
            <p:nvSpPr>
              <p:cNvPr id="1197" name="Rectangle 149"/>
              <p:cNvSpPr/>
              <p:nvPr/>
            </p:nvSpPr>
            <p:spPr>
              <a:xfrm>
                <a:off x="1541160" y="838080"/>
                <a:ext cx="122472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Famíli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Atendid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(mi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Rectangle 168"/>
              <p:cNvSpPr/>
              <p:nvPr/>
            </p:nvSpPr>
            <p:spPr>
              <a:xfrm>
                <a:off x="1482840" y="838080"/>
                <a:ext cx="134100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Group 171"/>
            <p:cNvGrpSpPr/>
            <p:nvPr/>
          </p:nvGrpSpPr>
          <p:grpSpPr>
            <a:xfrm>
              <a:off x="2824200" y="838080"/>
              <a:ext cx="1803240" cy="984240"/>
              <a:chOff x="2824200" y="838080"/>
              <a:chExt cx="1803240" cy="984240"/>
            </a:xfrm>
          </p:grpSpPr>
          <p:sp>
            <p:nvSpPr>
              <p:cNvPr id="1200" name="Rectangle 150"/>
              <p:cNvSpPr/>
              <p:nvPr/>
            </p:nvSpPr>
            <p:spPr>
              <a:xfrm>
                <a:off x="2882520" y="838080"/>
                <a:ext cx="16862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amílias Atendidas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amílias Pobres*(%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Rectangle 170"/>
              <p:cNvSpPr/>
              <p:nvPr/>
            </p:nvSpPr>
            <p:spPr>
              <a:xfrm>
                <a:off x="2824200" y="838080"/>
                <a:ext cx="180324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2" name="Group 173"/>
            <p:cNvGrpSpPr/>
            <p:nvPr/>
          </p:nvGrpSpPr>
          <p:grpSpPr>
            <a:xfrm>
              <a:off x="4628160" y="838080"/>
              <a:ext cx="1603080" cy="984240"/>
              <a:chOff x="4628160" y="838080"/>
              <a:chExt cx="1603080" cy="984240"/>
            </a:xfrm>
          </p:grpSpPr>
          <p:sp>
            <p:nvSpPr>
              <p:cNvPr id="1203" name="Rectangle 151"/>
              <p:cNvSpPr/>
              <p:nvPr/>
            </p:nvSpPr>
            <p:spPr>
              <a:xfrm>
                <a:off x="4686120" y="838080"/>
                <a:ext cx="148680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Valor Mensal 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Benefício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(R$ milhõe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Rectangle 172"/>
              <p:cNvSpPr/>
              <p:nvPr/>
            </p:nvSpPr>
            <p:spPr>
              <a:xfrm>
                <a:off x="4628160" y="838080"/>
                <a:ext cx="160308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Group 175"/>
            <p:cNvGrpSpPr/>
            <p:nvPr/>
          </p:nvGrpSpPr>
          <p:grpSpPr>
            <a:xfrm>
              <a:off x="6231960" y="838080"/>
              <a:ext cx="1484280" cy="984240"/>
              <a:chOff x="6231960" y="838080"/>
              <a:chExt cx="1484280" cy="984240"/>
            </a:xfrm>
          </p:grpSpPr>
          <p:sp>
            <p:nvSpPr>
              <p:cNvPr id="1206" name="Rectangle 152"/>
              <p:cNvSpPr/>
              <p:nvPr/>
            </p:nvSpPr>
            <p:spPr>
              <a:xfrm>
                <a:off x="6289920" y="838080"/>
                <a:ext cx="136836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Valor Anu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dos Benefíci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(R$ milhõe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Rectangle 174"/>
              <p:cNvSpPr/>
              <p:nvPr/>
            </p:nvSpPr>
            <p:spPr>
              <a:xfrm>
                <a:off x="6231960" y="838080"/>
                <a:ext cx="148428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Group 177"/>
            <p:cNvGrpSpPr/>
            <p:nvPr/>
          </p:nvGrpSpPr>
          <p:grpSpPr>
            <a:xfrm>
              <a:off x="7716960" y="838080"/>
              <a:ext cx="1426320" cy="984240"/>
              <a:chOff x="7716960" y="838080"/>
              <a:chExt cx="1426320" cy="984240"/>
            </a:xfrm>
          </p:grpSpPr>
          <p:sp>
            <p:nvSpPr>
              <p:cNvPr id="1209" name="Rectangle 153"/>
              <p:cNvSpPr/>
              <p:nvPr/>
            </p:nvSpPr>
            <p:spPr>
              <a:xfrm>
                <a:off x="7775280" y="838080"/>
                <a:ext cx="1310040" cy="9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Valor Anual/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Receita U.F.**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(%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Rectangle 176"/>
              <p:cNvSpPr/>
              <p:nvPr/>
            </p:nvSpPr>
            <p:spPr>
              <a:xfrm>
                <a:off x="7716960" y="838080"/>
                <a:ext cx="1426320" cy="984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1" name="Group 179"/>
            <p:cNvGrpSpPr/>
            <p:nvPr/>
          </p:nvGrpSpPr>
          <p:grpSpPr>
            <a:xfrm>
              <a:off x="0" y="1822680"/>
              <a:ext cx="1482480" cy="726120"/>
              <a:chOff x="0" y="1822680"/>
              <a:chExt cx="1482480" cy="726120"/>
            </a:xfrm>
          </p:grpSpPr>
          <p:sp>
            <p:nvSpPr>
              <p:cNvPr id="1212" name="Rectangle 154"/>
              <p:cNvSpPr/>
              <p:nvPr/>
            </p:nvSpPr>
            <p:spPr>
              <a:xfrm>
                <a:off x="57960" y="1822680"/>
                <a:ext cx="136656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ão Pa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Rectangle 178"/>
              <p:cNvSpPr/>
              <p:nvPr/>
            </p:nvSpPr>
            <p:spPr>
              <a:xfrm>
                <a:off x="0" y="1822680"/>
                <a:ext cx="14824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4" name="Group 181"/>
            <p:cNvGrpSpPr/>
            <p:nvPr/>
          </p:nvGrpSpPr>
          <p:grpSpPr>
            <a:xfrm>
              <a:off x="1482840" y="1822680"/>
              <a:ext cx="1341000" cy="726120"/>
              <a:chOff x="1482840" y="1822680"/>
              <a:chExt cx="1341000" cy="726120"/>
            </a:xfrm>
          </p:grpSpPr>
          <p:sp>
            <p:nvSpPr>
              <p:cNvPr id="1215" name="Rectangle 155"/>
              <p:cNvSpPr/>
              <p:nvPr/>
            </p:nvSpPr>
            <p:spPr>
              <a:xfrm>
                <a:off x="1541160" y="1822680"/>
                <a:ext cx="122472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1.046,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Rectangle 180"/>
              <p:cNvSpPr/>
              <p:nvPr/>
            </p:nvSpPr>
            <p:spPr>
              <a:xfrm>
                <a:off x="1482840" y="1822680"/>
                <a:ext cx="134100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Group 183"/>
            <p:cNvGrpSpPr/>
            <p:nvPr/>
          </p:nvGrpSpPr>
          <p:grpSpPr>
            <a:xfrm>
              <a:off x="2824200" y="1822680"/>
              <a:ext cx="1803240" cy="726120"/>
              <a:chOff x="2824200" y="1822680"/>
              <a:chExt cx="1803240" cy="726120"/>
            </a:xfrm>
          </p:grpSpPr>
          <p:sp>
            <p:nvSpPr>
              <p:cNvPr id="1218" name="Rectangle 156"/>
              <p:cNvSpPr/>
              <p:nvPr/>
            </p:nvSpPr>
            <p:spPr>
              <a:xfrm>
                <a:off x="2882520" y="1822680"/>
                <a:ext cx="1686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8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Rectangle 182"/>
              <p:cNvSpPr/>
              <p:nvPr/>
            </p:nvSpPr>
            <p:spPr>
              <a:xfrm>
                <a:off x="2824200" y="1822680"/>
                <a:ext cx="180324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0" name="Group 185"/>
            <p:cNvGrpSpPr/>
            <p:nvPr/>
          </p:nvGrpSpPr>
          <p:grpSpPr>
            <a:xfrm>
              <a:off x="4628160" y="1822680"/>
              <a:ext cx="1603080" cy="726120"/>
              <a:chOff x="4628160" y="1822680"/>
              <a:chExt cx="1603080" cy="726120"/>
            </a:xfrm>
          </p:grpSpPr>
          <p:sp>
            <p:nvSpPr>
              <p:cNvPr id="1221" name="Rectangle 157"/>
              <p:cNvSpPr/>
              <p:nvPr/>
            </p:nvSpPr>
            <p:spPr>
              <a:xfrm>
                <a:off x="4686120" y="1822680"/>
                <a:ext cx="148680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7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Rectangle 184"/>
              <p:cNvSpPr/>
              <p:nvPr/>
            </p:nvSpPr>
            <p:spPr>
              <a:xfrm>
                <a:off x="4628160" y="1822680"/>
                <a:ext cx="16030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Group 187"/>
            <p:cNvGrpSpPr/>
            <p:nvPr/>
          </p:nvGrpSpPr>
          <p:grpSpPr>
            <a:xfrm>
              <a:off x="6231960" y="1822680"/>
              <a:ext cx="1484280" cy="726120"/>
              <a:chOff x="6231960" y="1822680"/>
              <a:chExt cx="1484280" cy="726120"/>
            </a:xfrm>
          </p:grpSpPr>
          <p:sp>
            <p:nvSpPr>
              <p:cNvPr id="1224" name="Rectangle 158"/>
              <p:cNvSpPr/>
              <p:nvPr/>
            </p:nvSpPr>
            <p:spPr>
              <a:xfrm>
                <a:off x="6289920" y="1822680"/>
                <a:ext cx="136836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842,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Rectangle 186"/>
              <p:cNvSpPr/>
              <p:nvPr/>
            </p:nvSpPr>
            <p:spPr>
              <a:xfrm>
                <a:off x="6231960" y="1822680"/>
                <a:ext cx="14842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6" name="Group 189"/>
            <p:cNvGrpSpPr/>
            <p:nvPr/>
          </p:nvGrpSpPr>
          <p:grpSpPr>
            <a:xfrm>
              <a:off x="7716960" y="1822680"/>
              <a:ext cx="1426320" cy="726120"/>
              <a:chOff x="7716960" y="1822680"/>
              <a:chExt cx="1426320" cy="726120"/>
            </a:xfrm>
          </p:grpSpPr>
          <p:sp>
            <p:nvSpPr>
              <p:cNvPr id="1227" name="Rectangle 159"/>
              <p:cNvSpPr/>
              <p:nvPr/>
            </p:nvSpPr>
            <p:spPr>
              <a:xfrm>
                <a:off x="7775280" y="1822680"/>
                <a:ext cx="13100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Rectangle 188"/>
              <p:cNvSpPr/>
              <p:nvPr/>
            </p:nvSpPr>
            <p:spPr>
              <a:xfrm>
                <a:off x="7716960" y="1822680"/>
                <a:ext cx="142632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Group 191"/>
            <p:cNvGrpSpPr/>
            <p:nvPr/>
          </p:nvGrpSpPr>
          <p:grpSpPr>
            <a:xfrm>
              <a:off x="0" y="2549520"/>
              <a:ext cx="1482480" cy="726120"/>
              <a:chOff x="0" y="2549520"/>
              <a:chExt cx="1482480" cy="726120"/>
            </a:xfrm>
          </p:grpSpPr>
          <p:sp>
            <p:nvSpPr>
              <p:cNvPr id="1230" name="Rectangle 160"/>
              <p:cNvSpPr/>
              <p:nvPr/>
            </p:nvSpPr>
            <p:spPr>
              <a:xfrm>
                <a:off x="57960" y="2549520"/>
                <a:ext cx="136656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Bras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Rectangle 190"/>
              <p:cNvSpPr/>
              <p:nvPr/>
            </p:nvSpPr>
            <p:spPr>
              <a:xfrm>
                <a:off x="0" y="2549520"/>
                <a:ext cx="14824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2" name="Group 193"/>
            <p:cNvGrpSpPr/>
            <p:nvPr/>
          </p:nvGrpSpPr>
          <p:grpSpPr>
            <a:xfrm>
              <a:off x="1482840" y="2549520"/>
              <a:ext cx="1341000" cy="726120"/>
              <a:chOff x="1482840" y="2549520"/>
              <a:chExt cx="1341000" cy="726120"/>
            </a:xfrm>
          </p:grpSpPr>
          <p:sp>
            <p:nvSpPr>
              <p:cNvPr id="1233" name="Rectangle 161"/>
              <p:cNvSpPr/>
              <p:nvPr/>
            </p:nvSpPr>
            <p:spPr>
              <a:xfrm>
                <a:off x="1541160" y="2549520"/>
                <a:ext cx="122472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11.007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Rectangle 192"/>
              <p:cNvSpPr/>
              <p:nvPr/>
            </p:nvSpPr>
            <p:spPr>
              <a:xfrm>
                <a:off x="1482840" y="2549520"/>
                <a:ext cx="134100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Group 195"/>
            <p:cNvGrpSpPr/>
            <p:nvPr/>
          </p:nvGrpSpPr>
          <p:grpSpPr>
            <a:xfrm>
              <a:off x="2824200" y="2549520"/>
              <a:ext cx="1803240" cy="726120"/>
              <a:chOff x="2824200" y="2549520"/>
              <a:chExt cx="1803240" cy="726120"/>
            </a:xfrm>
          </p:grpSpPr>
          <p:sp>
            <p:nvSpPr>
              <p:cNvPr id="1236" name="Rectangle 162"/>
              <p:cNvSpPr/>
              <p:nvPr/>
            </p:nvSpPr>
            <p:spPr>
              <a:xfrm>
                <a:off x="2882520" y="2549520"/>
                <a:ext cx="16862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Rectangle 194"/>
              <p:cNvSpPr/>
              <p:nvPr/>
            </p:nvSpPr>
            <p:spPr>
              <a:xfrm>
                <a:off x="2824200" y="2549520"/>
                <a:ext cx="180324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8" name="Group 197"/>
            <p:cNvGrpSpPr/>
            <p:nvPr/>
          </p:nvGrpSpPr>
          <p:grpSpPr>
            <a:xfrm>
              <a:off x="4628160" y="2549520"/>
              <a:ext cx="1603080" cy="726120"/>
              <a:chOff x="4628160" y="2549520"/>
              <a:chExt cx="1603080" cy="726120"/>
            </a:xfrm>
          </p:grpSpPr>
          <p:sp>
            <p:nvSpPr>
              <p:cNvPr id="1239" name="Rectangle 163"/>
              <p:cNvSpPr/>
              <p:nvPr/>
            </p:nvSpPr>
            <p:spPr>
              <a:xfrm>
                <a:off x="4686120" y="2549520"/>
                <a:ext cx="148680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830,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Rectangle 196"/>
              <p:cNvSpPr/>
              <p:nvPr/>
            </p:nvSpPr>
            <p:spPr>
              <a:xfrm>
                <a:off x="4628160" y="2549520"/>
                <a:ext cx="16030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1" name="Group 199"/>
            <p:cNvGrpSpPr/>
            <p:nvPr/>
          </p:nvGrpSpPr>
          <p:grpSpPr>
            <a:xfrm>
              <a:off x="6231960" y="2549520"/>
              <a:ext cx="1484280" cy="726120"/>
              <a:chOff x="6231960" y="2549520"/>
              <a:chExt cx="1484280" cy="726120"/>
            </a:xfrm>
          </p:grpSpPr>
          <p:sp>
            <p:nvSpPr>
              <p:cNvPr id="1242" name="Rectangle 164"/>
              <p:cNvSpPr/>
              <p:nvPr/>
            </p:nvSpPr>
            <p:spPr>
              <a:xfrm>
                <a:off x="6289920" y="2549520"/>
                <a:ext cx="136836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9.962,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Rectangle 198"/>
              <p:cNvSpPr/>
              <p:nvPr/>
            </p:nvSpPr>
            <p:spPr>
              <a:xfrm>
                <a:off x="6231960" y="2549520"/>
                <a:ext cx="148428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4" name="Group 201"/>
            <p:cNvGrpSpPr/>
            <p:nvPr/>
          </p:nvGrpSpPr>
          <p:grpSpPr>
            <a:xfrm>
              <a:off x="7716960" y="2549520"/>
              <a:ext cx="1426320" cy="726120"/>
              <a:chOff x="7716960" y="2549520"/>
              <a:chExt cx="1426320" cy="726120"/>
            </a:xfrm>
          </p:grpSpPr>
          <p:sp>
            <p:nvSpPr>
              <p:cNvPr id="1245" name="Rectangle 165"/>
              <p:cNvSpPr/>
              <p:nvPr/>
            </p:nvSpPr>
            <p:spPr>
              <a:xfrm>
                <a:off x="7775280" y="2549520"/>
                <a:ext cx="1310040" cy="7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r" pos="449280"/>
                    <a:tab algn="ctr" pos="2806560"/>
                    <a:tab algn="r" pos="561168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Rectangle 200"/>
              <p:cNvSpPr/>
              <p:nvPr/>
            </p:nvSpPr>
            <p:spPr>
              <a:xfrm>
                <a:off x="7716960" y="2549520"/>
                <a:ext cx="1426320" cy="726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7" name="Rectangle 203"/>
          <p:cNvSpPr/>
          <p:nvPr/>
        </p:nvSpPr>
        <p:spPr>
          <a:xfrm>
            <a:off x="0" y="4114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PRONAF (anos agrícolas 2002/2003 e 2006/200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Group 264"/>
          <p:cNvGrpSpPr/>
          <p:nvPr/>
        </p:nvGrpSpPr>
        <p:grpSpPr>
          <a:xfrm>
            <a:off x="0" y="4419720"/>
            <a:ext cx="9143280" cy="2133000"/>
            <a:chOff x="0" y="4419720"/>
            <a:chExt cx="9143280" cy="2133000"/>
          </a:xfrm>
        </p:grpSpPr>
        <p:grpSp>
          <p:nvGrpSpPr>
            <p:cNvPr id="1249" name="Group 225"/>
            <p:cNvGrpSpPr/>
            <p:nvPr/>
          </p:nvGrpSpPr>
          <p:grpSpPr>
            <a:xfrm>
              <a:off x="0" y="4419720"/>
              <a:ext cx="1807920" cy="1181160"/>
              <a:chOff x="0" y="4419720"/>
              <a:chExt cx="1807920" cy="1181160"/>
            </a:xfrm>
          </p:grpSpPr>
          <p:sp>
            <p:nvSpPr>
              <p:cNvPr id="1250" name="Rectangle 204"/>
              <p:cNvSpPr/>
              <p:nvPr/>
            </p:nvSpPr>
            <p:spPr>
              <a:xfrm>
                <a:off x="67680" y="4419720"/>
                <a:ext cx="1671840" cy="11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Unidade 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Feder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Rectangle 224"/>
              <p:cNvSpPr/>
              <p:nvPr/>
            </p:nvSpPr>
            <p:spPr>
              <a:xfrm>
                <a:off x="0" y="4419720"/>
                <a:ext cx="1807920" cy="118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2" name="Group 227"/>
            <p:cNvGrpSpPr/>
            <p:nvPr/>
          </p:nvGrpSpPr>
          <p:grpSpPr>
            <a:xfrm>
              <a:off x="1808280" y="4419720"/>
              <a:ext cx="2994840" cy="465480"/>
              <a:chOff x="1808280" y="4419720"/>
              <a:chExt cx="2994840" cy="465480"/>
            </a:xfrm>
          </p:grpSpPr>
          <p:sp>
            <p:nvSpPr>
              <p:cNvPr id="1253" name="Rectangle 205"/>
              <p:cNvSpPr/>
              <p:nvPr/>
            </p:nvSpPr>
            <p:spPr>
              <a:xfrm>
                <a:off x="1875960" y="4419720"/>
                <a:ext cx="285840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no Agrícola 2002/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Rectangle 226"/>
              <p:cNvSpPr/>
              <p:nvPr/>
            </p:nvSpPr>
            <p:spPr>
              <a:xfrm>
                <a:off x="1808280" y="4419720"/>
                <a:ext cx="2994840" cy="465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5" name="Group 229"/>
            <p:cNvGrpSpPr/>
            <p:nvPr/>
          </p:nvGrpSpPr>
          <p:grpSpPr>
            <a:xfrm>
              <a:off x="4803480" y="4419720"/>
              <a:ext cx="3111480" cy="465480"/>
              <a:chOff x="4803480" y="4419720"/>
              <a:chExt cx="3111480" cy="465480"/>
            </a:xfrm>
          </p:grpSpPr>
          <p:sp>
            <p:nvSpPr>
              <p:cNvPr id="1256" name="Rectangle 206"/>
              <p:cNvSpPr/>
              <p:nvPr/>
            </p:nvSpPr>
            <p:spPr>
              <a:xfrm>
                <a:off x="4871160" y="4419720"/>
                <a:ext cx="2975040" cy="46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Ano Agrícola 2006/2007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Rectangle 228"/>
              <p:cNvSpPr/>
              <p:nvPr/>
            </p:nvSpPr>
            <p:spPr>
              <a:xfrm>
                <a:off x="4803480" y="4419720"/>
                <a:ext cx="3111480" cy="465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8" name="Group 231"/>
            <p:cNvGrpSpPr/>
            <p:nvPr/>
          </p:nvGrpSpPr>
          <p:grpSpPr>
            <a:xfrm>
              <a:off x="7915680" y="4419720"/>
              <a:ext cx="1227600" cy="1181160"/>
              <a:chOff x="7915680" y="4419720"/>
              <a:chExt cx="1227600" cy="1181160"/>
            </a:xfrm>
          </p:grpSpPr>
          <p:sp>
            <p:nvSpPr>
              <p:cNvPr id="1259" name="Rectangle 207"/>
              <p:cNvSpPr/>
              <p:nvPr/>
            </p:nvSpPr>
            <p:spPr>
              <a:xfrm>
                <a:off x="7983360" y="4419720"/>
                <a:ext cx="1091520" cy="11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ri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lor (%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Rectangle 230"/>
              <p:cNvSpPr/>
              <p:nvPr/>
            </p:nvSpPr>
            <p:spPr>
              <a:xfrm>
                <a:off x="7915680" y="4419720"/>
                <a:ext cx="1227600" cy="1181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1" name="Group 233"/>
            <p:cNvGrpSpPr/>
            <p:nvPr/>
          </p:nvGrpSpPr>
          <p:grpSpPr>
            <a:xfrm>
              <a:off x="1808280" y="4885200"/>
              <a:ext cx="1290960" cy="715680"/>
              <a:chOff x="1808280" y="4885200"/>
              <a:chExt cx="1290960" cy="715680"/>
            </a:xfrm>
          </p:grpSpPr>
          <p:sp>
            <p:nvSpPr>
              <p:cNvPr id="1262" name="Rectangle 208"/>
              <p:cNvSpPr/>
              <p:nvPr/>
            </p:nvSpPr>
            <p:spPr>
              <a:xfrm>
                <a:off x="1875960" y="4885200"/>
                <a:ext cx="115488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7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ontrato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Rectangle 232"/>
              <p:cNvSpPr/>
              <p:nvPr/>
            </p:nvSpPr>
            <p:spPr>
              <a:xfrm>
                <a:off x="1808280" y="4885200"/>
                <a:ext cx="1290960" cy="7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4" name="Group 235"/>
            <p:cNvGrpSpPr/>
            <p:nvPr/>
          </p:nvGrpSpPr>
          <p:grpSpPr>
            <a:xfrm>
              <a:off x="3099600" y="4885200"/>
              <a:ext cx="1703160" cy="715680"/>
              <a:chOff x="3099600" y="4885200"/>
              <a:chExt cx="1703160" cy="715680"/>
            </a:xfrm>
          </p:grpSpPr>
          <p:sp>
            <p:nvSpPr>
              <p:cNvPr id="1265" name="Rectangle 209"/>
              <p:cNvSpPr/>
              <p:nvPr/>
            </p:nvSpPr>
            <p:spPr>
              <a:xfrm>
                <a:off x="3168000" y="4885200"/>
                <a:ext cx="156600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l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(R$ milhõ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Rectangle 234"/>
              <p:cNvSpPr/>
              <p:nvPr/>
            </p:nvSpPr>
            <p:spPr>
              <a:xfrm>
                <a:off x="3099600" y="4885200"/>
                <a:ext cx="1703160" cy="7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7" name="Group 237"/>
            <p:cNvGrpSpPr/>
            <p:nvPr/>
          </p:nvGrpSpPr>
          <p:grpSpPr>
            <a:xfrm>
              <a:off x="4803480" y="4885200"/>
              <a:ext cx="1439640" cy="715680"/>
              <a:chOff x="4803480" y="4885200"/>
              <a:chExt cx="1439640" cy="715680"/>
            </a:xfrm>
          </p:grpSpPr>
          <p:sp>
            <p:nvSpPr>
              <p:cNvPr id="1268" name="Rectangle 210"/>
              <p:cNvSpPr/>
              <p:nvPr/>
            </p:nvSpPr>
            <p:spPr>
              <a:xfrm>
                <a:off x="4871160" y="4885200"/>
                <a:ext cx="130320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Contrat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Rectangle 236"/>
              <p:cNvSpPr/>
              <p:nvPr/>
            </p:nvSpPr>
            <p:spPr>
              <a:xfrm>
                <a:off x="4803480" y="4885200"/>
                <a:ext cx="1439640" cy="7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Group 239"/>
            <p:cNvGrpSpPr/>
            <p:nvPr/>
          </p:nvGrpSpPr>
          <p:grpSpPr>
            <a:xfrm>
              <a:off x="6243840" y="4885200"/>
              <a:ext cx="1671120" cy="715680"/>
              <a:chOff x="6243840" y="4885200"/>
              <a:chExt cx="1671120" cy="715680"/>
            </a:xfrm>
          </p:grpSpPr>
          <p:sp>
            <p:nvSpPr>
              <p:cNvPr id="1271" name="Rectangle 211"/>
              <p:cNvSpPr/>
              <p:nvPr/>
            </p:nvSpPr>
            <p:spPr>
              <a:xfrm>
                <a:off x="6311520" y="4885200"/>
                <a:ext cx="1534680" cy="71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Valor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(R$ milhõe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Rectangle 238"/>
              <p:cNvSpPr/>
              <p:nvPr/>
            </p:nvSpPr>
            <p:spPr>
              <a:xfrm>
                <a:off x="6243840" y="4885200"/>
                <a:ext cx="1671120" cy="715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241"/>
            <p:cNvGrpSpPr/>
            <p:nvPr/>
          </p:nvGrpSpPr>
          <p:grpSpPr>
            <a:xfrm>
              <a:off x="0" y="5600880"/>
              <a:ext cx="1807920" cy="475920"/>
              <a:chOff x="0" y="5600880"/>
              <a:chExt cx="1807920" cy="475920"/>
            </a:xfrm>
          </p:grpSpPr>
          <p:sp>
            <p:nvSpPr>
              <p:cNvPr id="1274" name="Rectangle 212"/>
              <p:cNvSpPr/>
              <p:nvPr/>
            </p:nvSpPr>
            <p:spPr>
              <a:xfrm>
                <a:off x="67680" y="5600880"/>
                <a:ext cx="167184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São Paul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Rectangle 240"/>
              <p:cNvSpPr/>
              <p:nvPr/>
            </p:nvSpPr>
            <p:spPr>
              <a:xfrm>
                <a:off x="0" y="5600880"/>
                <a:ext cx="180792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Group 243"/>
            <p:cNvGrpSpPr/>
            <p:nvPr/>
          </p:nvGrpSpPr>
          <p:grpSpPr>
            <a:xfrm>
              <a:off x="1808280" y="5600880"/>
              <a:ext cx="1290960" cy="475920"/>
              <a:chOff x="1808280" y="5600880"/>
              <a:chExt cx="1290960" cy="475920"/>
            </a:xfrm>
          </p:grpSpPr>
          <p:sp>
            <p:nvSpPr>
              <p:cNvPr id="1277" name="Rectangle 213"/>
              <p:cNvSpPr/>
              <p:nvPr/>
            </p:nvSpPr>
            <p:spPr>
              <a:xfrm>
                <a:off x="1875960" y="5600880"/>
                <a:ext cx="115488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15.7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Rectangle 242"/>
              <p:cNvSpPr/>
              <p:nvPr/>
            </p:nvSpPr>
            <p:spPr>
              <a:xfrm>
                <a:off x="1808280" y="5600880"/>
                <a:ext cx="129096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245"/>
            <p:cNvGrpSpPr/>
            <p:nvPr/>
          </p:nvGrpSpPr>
          <p:grpSpPr>
            <a:xfrm>
              <a:off x="3099600" y="5600880"/>
              <a:ext cx="1703160" cy="475920"/>
              <a:chOff x="3099600" y="5600880"/>
              <a:chExt cx="1703160" cy="475920"/>
            </a:xfrm>
          </p:grpSpPr>
          <p:sp>
            <p:nvSpPr>
              <p:cNvPr id="1280" name="Rectangle 214"/>
              <p:cNvSpPr/>
              <p:nvPr/>
            </p:nvSpPr>
            <p:spPr>
              <a:xfrm>
                <a:off x="3168000" y="5600880"/>
                <a:ext cx="15660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73,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Rectangle 244"/>
              <p:cNvSpPr/>
              <p:nvPr/>
            </p:nvSpPr>
            <p:spPr>
              <a:xfrm>
                <a:off x="3099600" y="5600880"/>
                <a:ext cx="170316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Group 247"/>
            <p:cNvGrpSpPr/>
            <p:nvPr/>
          </p:nvGrpSpPr>
          <p:grpSpPr>
            <a:xfrm>
              <a:off x="4803480" y="5600880"/>
              <a:ext cx="1439640" cy="475920"/>
              <a:chOff x="4803480" y="5600880"/>
              <a:chExt cx="1439640" cy="475920"/>
            </a:xfrm>
          </p:grpSpPr>
          <p:sp>
            <p:nvSpPr>
              <p:cNvPr id="1283" name="Rectangle 215"/>
              <p:cNvSpPr/>
              <p:nvPr/>
            </p:nvSpPr>
            <p:spPr>
              <a:xfrm>
                <a:off x="4871160" y="5600880"/>
                <a:ext cx="13032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41.08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Rectangle 246"/>
              <p:cNvSpPr/>
              <p:nvPr/>
            </p:nvSpPr>
            <p:spPr>
              <a:xfrm>
                <a:off x="4803480" y="5600880"/>
                <a:ext cx="143964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Group 249"/>
            <p:cNvGrpSpPr/>
            <p:nvPr/>
          </p:nvGrpSpPr>
          <p:grpSpPr>
            <a:xfrm>
              <a:off x="6243840" y="5600880"/>
              <a:ext cx="1671120" cy="475920"/>
              <a:chOff x="6243840" y="5600880"/>
              <a:chExt cx="1671120" cy="475920"/>
            </a:xfrm>
          </p:grpSpPr>
          <p:sp>
            <p:nvSpPr>
              <p:cNvPr id="1286" name="Rectangle 216"/>
              <p:cNvSpPr/>
              <p:nvPr/>
            </p:nvSpPr>
            <p:spPr>
              <a:xfrm>
                <a:off x="6311520" y="5600880"/>
                <a:ext cx="153468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413,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Rectangle 248"/>
              <p:cNvSpPr/>
              <p:nvPr/>
            </p:nvSpPr>
            <p:spPr>
              <a:xfrm>
                <a:off x="6243840" y="5600880"/>
                <a:ext cx="167112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Group 251"/>
            <p:cNvGrpSpPr/>
            <p:nvPr/>
          </p:nvGrpSpPr>
          <p:grpSpPr>
            <a:xfrm>
              <a:off x="7915680" y="5600880"/>
              <a:ext cx="1227600" cy="475920"/>
              <a:chOff x="7915680" y="5600880"/>
              <a:chExt cx="1227600" cy="475920"/>
            </a:xfrm>
          </p:grpSpPr>
          <p:sp>
            <p:nvSpPr>
              <p:cNvPr id="1289" name="Rectangle 217"/>
              <p:cNvSpPr/>
              <p:nvPr/>
            </p:nvSpPr>
            <p:spPr>
              <a:xfrm>
                <a:off x="7983360" y="5600880"/>
                <a:ext cx="109152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16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Rectangle 250"/>
              <p:cNvSpPr/>
              <p:nvPr/>
            </p:nvSpPr>
            <p:spPr>
              <a:xfrm>
                <a:off x="7915680" y="5600880"/>
                <a:ext cx="122760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Group 253"/>
            <p:cNvGrpSpPr/>
            <p:nvPr/>
          </p:nvGrpSpPr>
          <p:grpSpPr>
            <a:xfrm>
              <a:off x="0" y="6076800"/>
              <a:ext cx="1807920" cy="475920"/>
              <a:chOff x="0" y="6076800"/>
              <a:chExt cx="1807920" cy="475920"/>
            </a:xfrm>
          </p:grpSpPr>
          <p:sp>
            <p:nvSpPr>
              <p:cNvPr id="1292" name="Rectangle 218"/>
              <p:cNvSpPr/>
              <p:nvPr/>
            </p:nvSpPr>
            <p:spPr>
              <a:xfrm>
                <a:off x="67680" y="6076800"/>
                <a:ext cx="167184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Brasi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Rectangle 252"/>
              <p:cNvSpPr/>
              <p:nvPr/>
            </p:nvSpPr>
            <p:spPr>
              <a:xfrm>
                <a:off x="0" y="6076800"/>
                <a:ext cx="180792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Group 255"/>
            <p:cNvGrpSpPr/>
            <p:nvPr/>
          </p:nvGrpSpPr>
          <p:grpSpPr>
            <a:xfrm>
              <a:off x="1808280" y="6076800"/>
              <a:ext cx="1290960" cy="475920"/>
              <a:chOff x="1808280" y="6076800"/>
              <a:chExt cx="1290960" cy="475920"/>
            </a:xfrm>
          </p:grpSpPr>
          <p:sp>
            <p:nvSpPr>
              <p:cNvPr id="1295" name="Rectangle 219"/>
              <p:cNvSpPr/>
              <p:nvPr/>
            </p:nvSpPr>
            <p:spPr>
              <a:xfrm>
                <a:off x="1875960" y="6076800"/>
                <a:ext cx="115488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904.21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Rectangle 254"/>
              <p:cNvSpPr/>
              <p:nvPr/>
            </p:nvSpPr>
            <p:spPr>
              <a:xfrm>
                <a:off x="1808280" y="6076800"/>
                <a:ext cx="129096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7" name="Group 257"/>
            <p:cNvGrpSpPr/>
            <p:nvPr/>
          </p:nvGrpSpPr>
          <p:grpSpPr>
            <a:xfrm>
              <a:off x="3099600" y="6076800"/>
              <a:ext cx="1703160" cy="475920"/>
              <a:chOff x="3099600" y="6076800"/>
              <a:chExt cx="1703160" cy="475920"/>
            </a:xfrm>
          </p:grpSpPr>
          <p:sp>
            <p:nvSpPr>
              <p:cNvPr id="1298" name="Rectangle 220"/>
              <p:cNvSpPr/>
              <p:nvPr/>
            </p:nvSpPr>
            <p:spPr>
              <a:xfrm>
                <a:off x="3168000" y="6076800"/>
                <a:ext cx="15660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2.376,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Rectangle 256"/>
              <p:cNvSpPr/>
              <p:nvPr/>
            </p:nvSpPr>
            <p:spPr>
              <a:xfrm>
                <a:off x="3099600" y="6076800"/>
                <a:ext cx="170316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0" name="Group 259"/>
            <p:cNvGrpSpPr/>
            <p:nvPr/>
          </p:nvGrpSpPr>
          <p:grpSpPr>
            <a:xfrm>
              <a:off x="4803480" y="6076800"/>
              <a:ext cx="1439640" cy="475920"/>
              <a:chOff x="4803480" y="6076800"/>
              <a:chExt cx="1439640" cy="475920"/>
            </a:xfrm>
          </p:grpSpPr>
          <p:sp>
            <p:nvSpPr>
              <p:cNvPr id="1301" name="Rectangle 221"/>
              <p:cNvSpPr/>
              <p:nvPr/>
            </p:nvSpPr>
            <p:spPr>
              <a:xfrm>
                <a:off x="4871160" y="6076800"/>
                <a:ext cx="130320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1.691.91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Rectangle 258"/>
              <p:cNvSpPr/>
              <p:nvPr/>
            </p:nvSpPr>
            <p:spPr>
              <a:xfrm>
                <a:off x="4803480" y="6076800"/>
                <a:ext cx="143964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3" name="Group 261"/>
            <p:cNvGrpSpPr/>
            <p:nvPr/>
          </p:nvGrpSpPr>
          <p:grpSpPr>
            <a:xfrm>
              <a:off x="6243840" y="6076800"/>
              <a:ext cx="1671120" cy="475920"/>
              <a:chOff x="6243840" y="6076800"/>
              <a:chExt cx="1671120" cy="475920"/>
            </a:xfrm>
          </p:grpSpPr>
          <p:sp>
            <p:nvSpPr>
              <p:cNvPr id="1304" name="Rectangle 222"/>
              <p:cNvSpPr/>
              <p:nvPr/>
            </p:nvSpPr>
            <p:spPr>
              <a:xfrm>
                <a:off x="6311520" y="6076800"/>
                <a:ext cx="153468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8.423,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Rectangle 260"/>
              <p:cNvSpPr/>
              <p:nvPr/>
            </p:nvSpPr>
            <p:spPr>
              <a:xfrm>
                <a:off x="6243840" y="6076800"/>
                <a:ext cx="167112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6" name="Group 263"/>
            <p:cNvGrpSpPr/>
            <p:nvPr/>
          </p:nvGrpSpPr>
          <p:grpSpPr>
            <a:xfrm>
              <a:off x="7915680" y="6076800"/>
              <a:ext cx="1227600" cy="475920"/>
              <a:chOff x="7915680" y="6076800"/>
              <a:chExt cx="1227600" cy="475920"/>
            </a:xfrm>
          </p:grpSpPr>
          <p:sp>
            <p:nvSpPr>
              <p:cNvPr id="1307" name="Rectangle 223"/>
              <p:cNvSpPr/>
              <p:nvPr/>
            </p:nvSpPr>
            <p:spPr>
              <a:xfrm>
                <a:off x="7983360" y="6076800"/>
                <a:ext cx="1091520" cy="47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  <a:ea typeface="Arial Unicode MS"/>
                  </a:rPr>
                  <a:t>25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Rectangle 262"/>
              <p:cNvSpPr/>
              <p:nvPr/>
            </p:nvSpPr>
            <p:spPr>
              <a:xfrm>
                <a:off x="7915680" y="6076800"/>
                <a:ext cx="1227600" cy="4759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9" name="Rectangle 265"/>
          <p:cNvSpPr/>
          <p:nvPr/>
        </p:nvSpPr>
        <p:spPr>
          <a:xfrm>
            <a:off x="0" y="65070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Fonte: Ministério do Desenvolvimento Agrário (07.12.07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54760" y="228600"/>
            <a:ext cx="2634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RETRATO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281160" y="533520"/>
            <a:ext cx="560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ções do governo beneficiam todas as camadas soc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28600" y="1295280"/>
            <a:ext cx="86868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rogramas socia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1,0 milhões de famílias no Bolsa-Família (jan/200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7,3 milhões de pessoas no Luz Para Todos (jan/200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$ 8,4 bilhões contratados no PRONAF (ano agrícola 2006/2007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448,9 mil famílias assentadas entre 2003 e 2007 em 38 milhões de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elo Combustível So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Democracia e participaçã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ortalecimento das instituições democrá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tonomia dos Pode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berdade de Impren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ticipação social: mais de 4 milhões de pessoas nos conselhos e conferênci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2735640" y="228600"/>
            <a:ext cx="365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RETRATO ECONÔMICO</a:t>
            </a: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71440" y="495360"/>
            <a:ext cx="856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aís volta a crescer de forma sustentável, com distribuição de renda e aumento do emprego formal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228600" y="1279440"/>
            <a:ext cx="8686800" cy="51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resce há 23 trimestres consecu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de 5,7% na comparação 3º tri-07/3º tri-06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mpr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ecorde histórico em 2007: 1,6 milhão de postos formais celeti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0,3 milhões de ocupações criadas, sendo 8,2 milhões formais (jan.03-jan.08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Melhor janeiro da série histórica do CAGED: +142.921 p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Infl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Baixa e controlada – 4,56% nos últimos 12 meses (jan/08)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e há 15 trimestres consecutivos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2735640" y="228600"/>
            <a:ext cx="365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RETRATO ECONÔMICO</a:t>
            </a: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271440" y="495360"/>
            <a:ext cx="856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aís volta a crescer de forma sustentável, com distribuição de renda e aumento do emprego formal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228600" y="1279440"/>
            <a:ext cx="8686800" cy="54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Investimento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escem há 14 trimestres consecutiv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strangeiros Diretos – US$ 34,6 bilhões em 2007. Quase dobrou em relação a 200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 UNCTAD considerou o Brasil o 5º melhor país para fazer investimento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Brasileiros Diretos no Exterior - US$ 28,2 bilhões em 2006. Líder da AL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Exportaçõ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US$ 162,9 bilhões nos últimos 12 meses (jan/08). Maior valor histórico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servas Internacion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US$ 188 bilhões (20/02/08). Pela primeira vez, o Brasil é credor externo (reservas internacionais &gt; dívida externa)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Superávit Primár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3,98% do PIB em 2007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dução Industri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escimento de 6% em 2007. Melhor resultado desde 2004.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3"/>
          <p:cNvSpPr/>
          <p:nvPr/>
        </p:nvSpPr>
        <p:spPr>
          <a:xfrm>
            <a:off x="2735640" y="228600"/>
            <a:ext cx="36583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00"/>
                </a:solidFill>
                <a:latin typeface="Arial Black"/>
              </a:rPr>
              <a:t>RETRATO ECONÔMICO</a:t>
            </a:r>
            <a:r>
              <a:rPr b="0" lang="pt-BR" sz="2400" spc="-1" strike="noStrike">
                <a:solidFill>
                  <a:srgbClr val="0066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71440" y="495360"/>
            <a:ext cx="8567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aís volta a crescer de forma sustentável, com distribuição de renda e aumento do emprego formal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228600" y="1279440"/>
            <a:ext cx="8686800" cy="52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Produção e Vendas de Veícul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ordes históricos na produção (3,0 milhões de veículos) e nas vendas (2,5 milhões de unidades) em 200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omércio Varejis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O volume de vendas do comércio varejista cresceu 9,9% em 2007. Melhor resultado desde 2001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Agricultur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Recorde histórico estimado em 132,9 milhões ton de grãos para 2007(IBGE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Crédi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Mais que dobrou no Governo Lula, com R$ 932,88 bilhões, 34,7% do PIB (dez/2007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Juros médios dos empréstimos bancários fecharam 2007 em 33,8% a.a. Menor valor da série histórica iniciada em 200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Juros médios para pessoa física ficaram em 43,9% a.a. em 2007. Menor valor da série histórica iniciada em 1994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7:06:36Z</dcterms:created>
  <dc:creator>PR</dc:creator>
  <dc:description/>
  <dc:language>en-US</dc:language>
  <cp:lastModifiedBy>Beth</cp:lastModifiedBy>
  <dcterms:modified xsi:type="dcterms:W3CDTF">2008-03-14T16:38:46Z</dcterms:modified>
  <cp:revision>105</cp:revision>
  <dc:subject/>
  <dc:title>Apresentação do PowerPoint</dc:title>
</cp:coreProperties>
</file>